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4.jpeg" ContentType="image/jpeg"/>
  <Override PartName="/ppt/media/image2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9F4D-16E8-4693-B40D-095B25116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A83D-88AD-43C8-9542-750A23748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9955-35C5-4EFD-928B-A20E6585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4C42-3F69-4F01-AD30-150B3D028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9E99-BDB3-474C-8B68-00F2F7C08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C24C-F41D-475B-8072-E3B298EB9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6E86-A48C-44D4-A98E-FD4093BDD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90F1-AAC8-4EDA-8AB0-1C0D4896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004-8E3F-4617-A619-C1088375D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3A56-0AE7-4F87-9145-E1B12F7F9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1E4C-5CB6-4CE9-81B0-6F6870C99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6143-7825-401C-93EA-E510D5AA4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6DF0-7120-48BB-8E3E-25109967A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C893-BFFE-44D1-A9B2-C77FF746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B3C6-6FA9-483A-A748-568247C6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0298-0D59-4295-A882-BDA39D312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F7D3-BA1F-44AD-BDC8-09E6999D6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A122-4488-4F75-B3DB-87BE07348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5275-2F9C-45B8-9B89-F723F5C9E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99D5-F120-4CA3-82DF-A7850D921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5E28-C0E2-453C-8E70-7E7973BCC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D45A-416D-4BD8-9AF2-F8749DC50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355-F26C-4099-ADC9-D52EA72C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C55-DF1D-40C7-B633-6BE68FD6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A42-6003-4939-B0C1-3879A504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F09-1624-4820-84ED-9AE6E334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B049-6606-48E7-8344-6F572B69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5D76-0443-45AA-93B2-6F108C0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118D-0898-44A5-A836-E4F60DB7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E3AF-E2C2-4B3B-B178-371290E7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3514-CCB3-444E-8612-17484FB3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259C-0849-4D6B-8D80-AD14AE7B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C806-7AC6-4428-B45B-1E933AC1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61F-9B55-44E8-8F75-2177FFDD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50F8-A52F-44A2-803D-758CF508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0F43-F616-4921-BC5E-D3D00F2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8CAD-1EAD-496E-9253-83845FD6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24F2-8199-46D8-B51A-C37F6496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279E-C130-435F-8498-07ED9956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756-E892-4695-BBE2-777CB5A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09A-6AC3-4BA1-B900-88383D19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166-51ED-4B20-BB2E-7FD2D5BA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7C2-B981-4A8D-8FF6-E8E14D5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57A-9CB6-4C8A-8FB3-94348863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798-60C0-4EF7-8CFB-60C8285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F9E-BECF-4239-8461-AADD65D8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0719-918A-46A4-88C9-7D199DDA3E9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542B-F818-469A-B2E1-2EA8BAEA2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097D-067A-4A89-9B5D-6E2332F8B01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F2AD-B886-47D7-B603-008D2A398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dalin.Neagu@cs.utcluj.ro" TargetMode="External"/><Relationship Id="rId2" Type="http://schemas.openxmlformats.org/officeDocument/2006/relationships/hyperlink" Target="mailto:Madalin.Neagu@cs.utcluj.ro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tel.com/" TargetMode="External"/><Relationship Id="rId2" Type="http://schemas.openxmlformats.org/officeDocument/2006/relationships/hyperlink" Target="http://www.ti.com/" TargetMode="External"/><Relationship Id="rId3" Type="http://schemas.openxmlformats.org/officeDocument/2006/relationships/hyperlink" Target="http://www.microchip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569600"/>
            <a:ext cx="82612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3366"/>
                </a:solidFill>
                <a:latin typeface="Times New Roman"/>
              </a:rPr>
              <a:t>Sisteme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cu Microprocesoar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amentul de Calculato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. Dr. Ing. Neagu M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dă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66"/>
                </a:solidFill>
                <a:uFillTx/>
                <a:latin typeface="Arial"/>
                <a:hlinkClick r:id="rId1"/>
              </a:rPr>
              <a:t>Madalin.Neagu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@cs.utcluj.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.utcluj.ro/~mada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819E-9C3A-4710-AEF5-C1A4837B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7324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tia a treia – 1965-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hnologia: circuite integ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i de calculato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frame: IBM 360, IBM 3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: PDP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oare roman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ix c-256, c-512, c-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, Coral – copiaza PDP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bunatati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uni m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ii de capacitate mai mare (256k-512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ferice n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a de tip display (PDP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EF27-ED1E-4363-ADD0-6733AE5B5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eneratia a trei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4" name="Picture 3" descr="1958_integratedcircuit"/>
          <p:cNvPicPr/>
          <p:nvPr/>
        </p:nvPicPr>
        <p:blipFill>
          <a:blip r:embed="rId1"/>
          <a:stretch/>
        </p:blipFill>
        <p:spPr>
          <a:xfrm>
            <a:off x="1295280" y="14479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21932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ul circuit integ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5" descr="1968_apollo"/>
          <p:cNvPicPr/>
          <p:nvPr/>
        </p:nvPicPr>
        <p:blipFill>
          <a:blip r:embed="rId2"/>
          <a:stretch/>
        </p:blipFill>
        <p:spPr>
          <a:xfrm>
            <a:off x="4876920" y="609480"/>
            <a:ext cx="2286000" cy="2629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5105520" y="3276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7" descr="1966_hp2115"/>
          <p:cNvPicPr/>
          <p:nvPr/>
        </p:nvPicPr>
        <p:blipFill>
          <a:blip r:embed="rId3"/>
          <a:stretch/>
        </p:blipFill>
        <p:spPr>
          <a:xfrm>
            <a:off x="1371600" y="3886200"/>
            <a:ext cx="2286000" cy="2560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1295280" y="6324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or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0" descr="1972_hp35"/>
          <p:cNvPicPr/>
          <p:nvPr/>
        </p:nvPicPr>
        <p:blipFill>
          <a:blip r:embed="rId4"/>
          <a:stretch/>
        </p:blipFill>
        <p:spPr>
          <a:xfrm>
            <a:off x="7086600" y="3429000"/>
            <a:ext cx="1676520" cy="2849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1"/>
          <p:cNvSpPr/>
          <p:nvPr/>
        </p:nvSpPr>
        <p:spPr>
          <a:xfrm>
            <a:off x="70102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 (197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2" descr="1967_seymour"/>
          <p:cNvPicPr/>
          <p:nvPr/>
        </p:nvPicPr>
        <p:blipFill>
          <a:blip r:embed="rId5"/>
          <a:stretch/>
        </p:blipFill>
        <p:spPr>
          <a:xfrm>
            <a:off x="4267080" y="38862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3"/>
          <p:cNvSpPr/>
          <p:nvPr/>
        </p:nvSpPr>
        <p:spPr>
          <a:xfrm>
            <a:off x="4038480" y="5867280"/>
            <a:ext cx="26672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mour –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02C7-8A71-45E1-B98A-650DEDE93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7324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tia a 4-a 1975-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hnologia: VL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je: viteza, grad ridicat de integrare, fiabilitate mare, cost redus, dimensiuni m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itia primului microprocesor - Intel 4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e de memorie ROM, RAM, DRAM de capacitate mare (1-16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itia microcalculatoarelor – care au la baza un microproc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itia calculatoarelor person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-computer: ZX81,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: IBM-PC, XT, AT, Apple, Machinto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oare roman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 M18, PRAE, aMIC, Felix PC, Telerom-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AF37-0AD2-4C87-B1B5-A0233B012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tia a 4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Picture 3" descr="1971_intel4004"/>
          <p:cNvPicPr/>
          <p:nvPr/>
        </p:nvPicPr>
        <p:blipFill>
          <a:blip r:embed="rId1"/>
          <a:stretch/>
        </p:blipFill>
        <p:spPr>
          <a:xfrm>
            <a:off x="1143000" y="1219320"/>
            <a:ext cx="2819520" cy="2481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752480" y="3352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 4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5" descr="1979_vlsi"/>
          <p:cNvPicPr/>
          <p:nvPr/>
        </p:nvPicPr>
        <p:blipFill>
          <a:blip r:embed="rId2"/>
          <a:stretch/>
        </p:blipFill>
        <p:spPr>
          <a:xfrm>
            <a:off x="5791320" y="380880"/>
            <a:ext cx="2765160" cy="3581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1984_ibmpcjr"/>
          <p:cNvPicPr/>
          <p:nvPr/>
        </p:nvPicPr>
        <p:blipFill>
          <a:blip r:embed="rId3"/>
          <a:stretch/>
        </p:blipFill>
        <p:spPr>
          <a:xfrm>
            <a:off x="5257800" y="38862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5562720" y="6477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-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8" descr="1977_apple"/>
          <p:cNvPicPr/>
          <p:nvPr/>
        </p:nvPicPr>
        <p:blipFill>
          <a:blip r:embed="rId4"/>
          <a:stretch/>
        </p:blipFill>
        <p:spPr>
          <a:xfrm>
            <a:off x="1066680" y="4022640"/>
            <a:ext cx="2163960" cy="2683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32767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69F2-C943-4F76-876B-F93DD30F2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tia a 4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Picture 3" descr="1973_tvtype"/>
          <p:cNvPicPr/>
          <p:nvPr/>
        </p:nvPicPr>
        <p:blipFill>
          <a:blip r:embed="rId1"/>
          <a:stretch/>
        </p:blipFill>
        <p:spPr>
          <a:xfrm>
            <a:off x="1219320" y="1219320"/>
            <a:ext cx="2286000" cy="178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1981_osborne"/>
          <p:cNvPicPr/>
          <p:nvPr/>
        </p:nvPicPr>
        <p:blipFill>
          <a:blip r:embed="rId2"/>
          <a:stretch/>
        </p:blipFill>
        <p:spPr>
          <a:xfrm>
            <a:off x="4648320" y="1143000"/>
            <a:ext cx="2286000" cy="1886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4495680" y="297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or portabil (Osbo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06668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. cu display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1987_ibmps2"/>
          <p:cNvPicPr/>
          <p:nvPr/>
        </p:nvPicPr>
        <p:blipFill>
          <a:blip r:embed="rId3"/>
          <a:stretch/>
        </p:blipFill>
        <p:spPr>
          <a:xfrm>
            <a:off x="1295280" y="3733920"/>
            <a:ext cx="2286000" cy="22748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1752480" y="6095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P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1989_m68040"/>
          <p:cNvPicPr/>
          <p:nvPr/>
        </p:nvPicPr>
        <p:blipFill>
          <a:blip r:embed="rId4"/>
          <a:stretch/>
        </p:blipFill>
        <p:spPr>
          <a:xfrm>
            <a:off x="4876920" y="3581280"/>
            <a:ext cx="3276360" cy="26179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"/>
          <p:cNvSpPr/>
          <p:nvPr/>
        </p:nvSpPr>
        <p:spPr>
          <a:xfrm>
            <a:off x="5334120" y="6172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ola 68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97FF-5BB8-4142-9F13-0DF7F300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tia a 4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7" name="Picture 3" descr="bill_gates"/>
          <p:cNvPicPr/>
          <p:nvPr/>
        </p:nvPicPr>
        <p:blipFill>
          <a:blip r:embed="rId1"/>
          <a:stretch/>
        </p:blipFill>
        <p:spPr>
          <a:xfrm>
            <a:off x="914400" y="1295280"/>
            <a:ext cx="263844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29528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5" descr="steve_jobs_and_steve_wozniak"/>
          <p:cNvPicPr/>
          <p:nvPr/>
        </p:nvPicPr>
        <p:blipFill>
          <a:blip r:embed="rId2"/>
          <a:stretch/>
        </p:blipFill>
        <p:spPr>
          <a:xfrm>
            <a:off x="3809880" y="1295280"/>
            <a:ext cx="4876920" cy="3219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4191120" y="4572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 Jobs si Steve Woz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olutia microprocesoare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076400" y="450720"/>
          <a:ext cx="7921440" cy="6492960"/>
        </p:xfrm>
        <a:graphic>
          <a:graphicData uri="http://schemas.openxmlformats.org/drawingml/2006/table">
            <a:tbl>
              <a:tblPr/>
              <a:tblGrid>
                <a:gridCol w="785880"/>
                <a:gridCol w="1295280"/>
                <a:gridCol w="820800"/>
                <a:gridCol w="2138400"/>
                <a:gridCol w="2881080"/>
              </a:tblGrid>
              <a:tr h="31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4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ul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8008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8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kb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64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ul pe 8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6, 8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ul uP pe 16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-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ul uP pe 32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incorpo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. P6 superpip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. NetBur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. Hiper-th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. multicore (2 core-uri/ci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 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rocesoare/c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3, i5, 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b, 8Mb L3 ca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itectura Nehalem, multicore si hyperthreading 4core-uri/8 multithread  cache 8Mb (L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y Brid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B, pana la 20MB L3 cache (Xe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U integ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zen (AM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MB L3 cache per 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ripper 32 core/64 threa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fee L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B L3 cache per 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9 8 core/16 thre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aacae2"/>
                      </a:solidFill>
                    </a:lnL>
                    <a:lnR w="5760">
                      <a:solidFill>
                        <a:srgbClr val="aacae2"/>
                      </a:solidFill>
                    </a:lnR>
                    <a:lnT w="5760">
                      <a:solidFill>
                        <a:srgbClr val="aacae2"/>
                      </a:solidFill>
                    </a:lnT>
                    <a:lnB w="5760">
                      <a:solidFill>
                        <a:srgbClr val="aaca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B33F-E3CD-4EBE-B55E-C5FBD8748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olutia microprocesoare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 familii de microprocesa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ola: 6800 (8 biti), 68000 (16 biti), 68020, 68030 (32 biti), 68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log: Z80, Z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 Instruments: procesoare de semn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MS320c10/20/30/5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hip: microcontrolare: PIC12/16/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PS, AR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A51-F7CA-4EA6-BFBA-D49B103E5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456000" y="81000"/>
            <a:ext cx="33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ea lui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660240"/>
            <a:ext cx="9144000" cy="61977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1692360" y="1241280"/>
            <a:ext cx="31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arul de tranzistoare se duble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iecare 18-24 l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mitele legii lui Moo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35D3-FFCF-4862-A37B-A206424D4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" descr="Képtalálat a következ&amp;odblac;re: „moor's law”"/>
          <p:cNvPicPr/>
          <p:nvPr/>
        </p:nvPicPr>
        <p:blipFill>
          <a:blip r:embed="rId2"/>
          <a:stretch/>
        </p:blipFill>
        <p:spPr>
          <a:xfrm>
            <a:off x="0" y="1773360"/>
            <a:ext cx="913932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ditii de promovare a examenulu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zenta lab: 100%, nota colocviu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zenta la examenul scris + nota &gt;=5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 finala= 70% examen + 30%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 finala &gt;= 5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6D52-D896-4930-AB5B-8BB661B9B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sul de integr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C00C-94FC-40B4-93F5-3B4A44F5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http://www.spinograph.org/sites/default/files/figure4.png"/>
          <p:cNvPicPr/>
          <p:nvPr/>
        </p:nvPicPr>
        <p:blipFill>
          <a:blip r:embed="rId2"/>
          <a:stretch/>
        </p:blipFill>
        <p:spPr>
          <a:xfrm>
            <a:off x="-44280" y="1521000"/>
            <a:ext cx="91882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9FF9-0425-4070-974B-282FE2491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ndinte si perspective de evolutie a sistemelor bazate pe microproceso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0000" y="1665000"/>
            <a:ext cx="82440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erea gradului de integ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une mai mica a elementului de comutare (tranzistor):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2-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terea numarului de tranzistoare/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oare - pest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biliar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 tranzistoar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(19.2 pentru Threadripper 2990W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ii – pest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1 biliard pentru 1 Gb DRAM (6 biliarde pentru 1 Gb S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erea puterii consu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e inteligenta a consum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ul dinamic al consumului: energie mai mare daca este nevoie si unde este nevo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rea frecventei de luc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itecturi multicore si multi-th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2 core-uri/chip la 128 core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hitecturi simetrice si asimetrice (ex: Intel v.s. P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work-on-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ocuirea magistralelor paralele cu magistrale seriale – retele in interiorul proceso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E4B7-9B22-43F0-B884-3C920DD45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ndinte si perspective de evolutie a sistemelor bazate pe microproceso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7280" y="1736640"/>
            <a:ext cx="77551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rhizarea memor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 multe nivele de memorie cache (in interiorul procesorul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ie virtu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iparea cererilor de a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rii externe pe sili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ocuirea discurilor magnetice si optice cu memorii flash (pe silici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itecturi multiproce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hitecturi paral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hitecturi distrib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ele de calculat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ul – resursa indispensabila pentru un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e fara f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ulatoare mobile si portab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topuri, tablete gra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A,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ane intel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F3F4-8F3B-4AA8-B915-345813C1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arametri de performanta ai unui calculato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560" y="1143000"/>
            <a:ext cx="7993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cventa de lucru, C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recventa mai mare = performanta mai m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aturat in 2005 (limitat de putere consumata si disip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z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4-5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arul de cicluri per instructiune – C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le calculatoare aveau 5-120 C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: 1, 0.5, 0.25 – technici pipeline, architecture supersca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arul mediu de instructiuni executate in unitatea de timp – MIPS, 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pul de executie al unui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pul de executie al unui set de tranzactii – baze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tea si viteza memor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te – Gbytes, T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p de access – 70ns, 15ns, 0.1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tele dispozitivelor de 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me de 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tea de comunicare (latime de banda, vitez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surarea parametrilor de performan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73240" y="1807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Benchmarking: metoda de evaluare a performantei unui sistem de calcul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hardware si softwar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tie utilizata pentru masurarea performan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de programe utilizate pentru masurarea pentrumasurarea performan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singura compone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egul sistem =&gt; scor de performa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racteristic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area de metrici relev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uratori impart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ii consecutive = acelasi rezult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ab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96F0-3FAA-432B-83BF-9A3959B70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ipuri de benchmark-ur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73240" y="1773000"/>
            <a:ext cx="7827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plicatii reale: compilatoare, comprimare fisiere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curi video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Kernel: parti din aplicatii rea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chmarkuri pentru componen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Benchmarkuri sintetice: programe scrise cu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opul de a masura parametri de performan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chmarkuri paralele: multicore, multiproces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cro-benchmarkuri: masurarea performantei unei scurte secvente de progr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Benchmarkuri I/O: operatii de intrare/iesi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9ED7-3E75-4555-8E59-5350CD8CD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AE85-8A47-49D0-8430-25D6ADE8A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4920" y="456840"/>
            <a:ext cx="80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a fizica a unui sistem cu microproces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79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simplific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3"/>
          <p:cNvGrpSpPr/>
          <p:nvPr/>
        </p:nvGrpSpPr>
        <p:grpSpPr>
          <a:xfrm>
            <a:off x="1187280" y="2313000"/>
            <a:ext cx="7524720" cy="4068720"/>
            <a:chOff x="1187280" y="2313000"/>
            <a:chExt cx="7524720" cy="4068720"/>
          </a:xfrm>
        </p:grpSpPr>
        <p:sp>
          <p:nvSpPr>
            <p:cNvPr id="257" name="Rectangle 4"/>
            <p:cNvSpPr/>
            <p:nvPr/>
          </p:nvSpPr>
          <p:spPr>
            <a:xfrm>
              <a:off x="1187280" y="2386080"/>
              <a:ext cx="900000" cy="237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5"/>
            <p:cNvSpPr/>
            <p:nvPr/>
          </p:nvSpPr>
          <p:spPr>
            <a:xfrm>
              <a:off x="1258560" y="299736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2087280" y="3502080"/>
              <a:ext cx="6624720" cy="179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2087280" y="3933720"/>
              <a:ext cx="6624720" cy="17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2087280" y="4365720"/>
              <a:ext cx="6624720" cy="179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2842920" y="2313000"/>
              <a:ext cx="1044720" cy="826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4390920" y="2313000"/>
              <a:ext cx="1044360" cy="826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11"/>
            <p:cNvSpPr/>
            <p:nvPr/>
          </p:nvSpPr>
          <p:spPr>
            <a:xfrm>
              <a:off x="2987640" y="3141720"/>
              <a:ext cx="179280" cy="396720"/>
            </a:xfrm>
            <a:prstGeom prst="upDownArrow">
              <a:avLst>
                <a:gd name="adj1" fmla="val 50000"/>
                <a:gd name="adj2" fmla="val 440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12"/>
            <p:cNvSpPr/>
            <p:nvPr/>
          </p:nvSpPr>
          <p:spPr>
            <a:xfrm>
              <a:off x="3311280" y="3105000"/>
              <a:ext cx="144360" cy="828720"/>
            </a:xfrm>
            <a:prstGeom prst="upDownArrow">
              <a:avLst>
                <a:gd name="adj1" fmla="val 50000"/>
                <a:gd name="adj2" fmla="val 11428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13"/>
            <p:cNvSpPr/>
            <p:nvPr/>
          </p:nvSpPr>
          <p:spPr>
            <a:xfrm>
              <a:off x="5111640" y="3141720"/>
              <a:ext cx="142920" cy="1260360"/>
            </a:xfrm>
            <a:prstGeom prst="upDownArrow">
              <a:avLst>
                <a:gd name="adj1" fmla="val 50000"/>
                <a:gd name="adj2" fmla="val 175556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17"/>
            <p:cNvSpPr/>
            <p:nvPr/>
          </p:nvSpPr>
          <p:spPr>
            <a:xfrm>
              <a:off x="4498920" y="3141720"/>
              <a:ext cx="179280" cy="396720"/>
            </a:xfrm>
            <a:prstGeom prst="upDownArrow">
              <a:avLst>
                <a:gd name="adj1" fmla="val 50000"/>
                <a:gd name="adj2" fmla="val 440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18"/>
            <p:cNvSpPr/>
            <p:nvPr/>
          </p:nvSpPr>
          <p:spPr>
            <a:xfrm>
              <a:off x="4787640" y="3141720"/>
              <a:ext cx="144360" cy="828720"/>
            </a:xfrm>
            <a:prstGeom prst="upDownArrow">
              <a:avLst>
                <a:gd name="adj1" fmla="val 50000"/>
                <a:gd name="adj2" fmla="val 11428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19"/>
            <p:cNvSpPr/>
            <p:nvPr/>
          </p:nvSpPr>
          <p:spPr>
            <a:xfrm>
              <a:off x="3671640" y="3105000"/>
              <a:ext cx="142920" cy="1260720"/>
            </a:xfrm>
            <a:prstGeom prst="upDownArrow">
              <a:avLst>
                <a:gd name="adj1" fmla="val 50000"/>
                <a:gd name="adj2" fmla="val 175606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0"/>
            <p:cNvSpPr/>
            <p:nvPr/>
          </p:nvSpPr>
          <p:spPr>
            <a:xfrm>
              <a:off x="2842920" y="2386080"/>
              <a:ext cx="11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or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21"/>
            <p:cNvSpPr/>
            <p:nvPr/>
          </p:nvSpPr>
          <p:spPr>
            <a:xfrm>
              <a:off x="4319280" y="2386080"/>
              <a:ext cx="11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or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22"/>
            <p:cNvSpPr/>
            <p:nvPr/>
          </p:nvSpPr>
          <p:spPr>
            <a:xfrm>
              <a:off x="5435280" y="4834080"/>
              <a:ext cx="1295640" cy="360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23"/>
            <p:cNvSpPr/>
            <p:nvPr/>
          </p:nvSpPr>
          <p:spPr>
            <a:xfrm>
              <a:off x="5614920" y="4510080"/>
              <a:ext cx="180720" cy="324000"/>
            </a:xfrm>
            <a:prstGeom prst="upDownArrow">
              <a:avLst>
                <a:gd name="adj1" fmla="val 50000"/>
                <a:gd name="adj2" fmla="val 3569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24"/>
            <p:cNvSpPr/>
            <p:nvPr/>
          </p:nvSpPr>
          <p:spPr>
            <a:xfrm>
              <a:off x="5975280" y="4078440"/>
              <a:ext cx="180720" cy="792000"/>
            </a:xfrm>
            <a:prstGeom prst="upDownArrow">
              <a:avLst>
                <a:gd name="adj1" fmla="val 50000"/>
                <a:gd name="adj2" fmla="val 8724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25"/>
            <p:cNvSpPr/>
            <p:nvPr/>
          </p:nvSpPr>
          <p:spPr>
            <a:xfrm>
              <a:off x="6335640" y="3681360"/>
              <a:ext cx="179280" cy="1152720"/>
            </a:xfrm>
            <a:prstGeom prst="upDownArrow">
              <a:avLst>
                <a:gd name="adj1" fmla="val 50000"/>
                <a:gd name="adj2" fmla="val 127999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26"/>
            <p:cNvSpPr/>
            <p:nvPr/>
          </p:nvSpPr>
          <p:spPr>
            <a:xfrm>
              <a:off x="7091280" y="4870440"/>
              <a:ext cx="1295280" cy="360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7"/>
            <p:cNvSpPr/>
            <p:nvPr/>
          </p:nvSpPr>
          <p:spPr>
            <a:xfrm>
              <a:off x="7270560" y="4546440"/>
              <a:ext cx="181080" cy="324000"/>
            </a:xfrm>
            <a:prstGeom prst="upDownArrow">
              <a:avLst>
                <a:gd name="adj1" fmla="val 50000"/>
                <a:gd name="adj2" fmla="val 3562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AutoShape 28"/>
            <p:cNvSpPr/>
            <p:nvPr/>
          </p:nvSpPr>
          <p:spPr>
            <a:xfrm>
              <a:off x="7630920" y="4114800"/>
              <a:ext cx="181080" cy="792000"/>
            </a:xfrm>
            <a:prstGeom prst="upDownArrow">
              <a:avLst>
                <a:gd name="adj1" fmla="val 50000"/>
                <a:gd name="adj2" fmla="val 8707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utoShape 29"/>
            <p:cNvSpPr/>
            <p:nvPr/>
          </p:nvSpPr>
          <p:spPr>
            <a:xfrm>
              <a:off x="7991280" y="3718080"/>
              <a:ext cx="179280" cy="1152360"/>
            </a:xfrm>
            <a:prstGeom prst="upDownArrow">
              <a:avLst>
                <a:gd name="adj1" fmla="val 50000"/>
                <a:gd name="adj2" fmla="val 127959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30"/>
            <p:cNvSpPr/>
            <p:nvPr/>
          </p:nvSpPr>
          <p:spPr>
            <a:xfrm>
              <a:off x="5398920" y="479736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ta I/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1"/>
            <p:cNvSpPr/>
            <p:nvPr/>
          </p:nvSpPr>
          <p:spPr>
            <a:xfrm>
              <a:off x="7019640" y="48340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ta I/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32"/>
            <p:cNvSpPr/>
            <p:nvPr/>
          </p:nvSpPr>
          <p:spPr>
            <a:xfrm>
              <a:off x="5506920" y="5626080"/>
              <a:ext cx="115236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33"/>
            <p:cNvSpPr/>
            <p:nvPr/>
          </p:nvSpPr>
          <p:spPr>
            <a:xfrm>
              <a:off x="7235640" y="5626080"/>
              <a:ext cx="115236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34"/>
            <p:cNvSpPr/>
            <p:nvPr/>
          </p:nvSpPr>
          <p:spPr>
            <a:xfrm>
              <a:off x="7414920" y="5805360"/>
              <a:ext cx="115272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35"/>
            <p:cNvSpPr/>
            <p:nvPr/>
          </p:nvSpPr>
          <p:spPr>
            <a:xfrm>
              <a:off x="5686200" y="5805360"/>
              <a:ext cx="115272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6011640" y="5194440"/>
              <a:ext cx="324000" cy="468360"/>
            </a:xfrm>
            <a:prstGeom prst="upDownArrow">
              <a:avLst>
                <a:gd name="adj1" fmla="val 50000"/>
                <a:gd name="adj2" fmla="val 2877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7667280" y="5194440"/>
              <a:ext cx="324000" cy="539640"/>
            </a:xfrm>
            <a:prstGeom prst="upDownArrow">
              <a:avLst>
                <a:gd name="adj1" fmla="val 50000"/>
                <a:gd name="adj2" fmla="val 3315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5722560" y="584208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. I/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7380000" y="587844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. I/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6000" y="314172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41"/>
            <p:cNvSpPr/>
            <p:nvPr/>
          </p:nvSpPr>
          <p:spPr>
            <a:xfrm>
              <a:off x="6803640" y="3610080"/>
              <a:ext cx="10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42"/>
            <p:cNvSpPr/>
            <p:nvPr/>
          </p:nvSpPr>
          <p:spPr>
            <a:xfrm>
              <a:off x="6443280" y="404172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enz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A9FE-F64C-44CC-AA83-51711051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uctura unui calculator person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4067280" y="1484280"/>
            <a:ext cx="111744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103640" y="162864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067280" y="3068640"/>
            <a:ext cx="1117440" cy="900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4067280" y="4581360"/>
            <a:ext cx="1117440" cy="90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2519280" y="3249720"/>
            <a:ext cx="1548000" cy="1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184720" y="3249720"/>
            <a:ext cx="3167280" cy="1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2376360" y="2492280"/>
            <a:ext cx="971640" cy="54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4535640" y="2565360"/>
            <a:ext cx="144360" cy="539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4140360" y="3176640"/>
            <a:ext cx="97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p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2519280" y="5121360"/>
            <a:ext cx="1548000" cy="1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140360" y="4616280"/>
            <a:ext cx="97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p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6"/>
          <p:cNvSpPr/>
          <p:nvPr/>
        </p:nvSpPr>
        <p:spPr>
          <a:xfrm>
            <a:off x="5184720" y="5192640"/>
            <a:ext cx="3203640" cy="1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5184720" y="4724280"/>
            <a:ext cx="3203640" cy="1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5832360" y="4221000"/>
            <a:ext cx="647640" cy="36036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6084720" y="4581360"/>
            <a:ext cx="142920" cy="142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7093080" y="4581360"/>
            <a:ext cx="108000" cy="142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2303640" y="2457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2771640" y="3033720"/>
            <a:ext cx="108000" cy="250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3240000" y="28893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5"/>
          <p:cNvSpPr/>
          <p:nvPr/>
        </p:nvSpPr>
        <p:spPr>
          <a:xfrm>
            <a:off x="5904000" y="2529000"/>
            <a:ext cx="7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6877080" y="2529000"/>
            <a:ext cx="7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7"/>
          <p:cNvSpPr/>
          <p:nvPr/>
        </p:nvSpPr>
        <p:spPr>
          <a:xfrm>
            <a:off x="4535640" y="3968640"/>
            <a:ext cx="144360" cy="6127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8"/>
          <p:cNvSpPr/>
          <p:nvPr/>
        </p:nvSpPr>
        <p:spPr>
          <a:xfrm>
            <a:off x="7632720" y="432900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9"/>
          <p:cNvSpPr/>
          <p:nvPr/>
        </p:nvSpPr>
        <p:spPr>
          <a:xfrm>
            <a:off x="6264360" y="3105000"/>
            <a:ext cx="71280" cy="216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0"/>
          <p:cNvSpPr/>
          <p:nvPr/>
        </p:nvSpPr>
        <p:spPr>
          <a:xfrm>
            <a:off x="7164360" y="3068640"/>
            <a:ext cx="71640" cy="216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1"/>
          <p:cNvSpPr/>
          <p:nvPr/>
        </p:nvSpPr>
        <p:spPr>
          <a:xfrm>
            <a:off x="5904000" y="2492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2"/>
          <p:cNvSpPr/>
          <p:nvPr/>
        </p:nvSpPr>
        <p:spPr>
          <a:xfrm>
            <a:off x="6840360" y="2565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3"/>
          <p:cNvSpPr/>
          <p:nvPr/>
        </p:nvSpPr>
        <p:spPr>
          <a:xfrm>
            <a:off x="6804000" y="4257720"/>
            <a:ext cx="828720" cy="323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4"/>
          <p:cNvSpPr/>
          <p:nvPr/>
        </p:nvSpPr>
        <p:spPr>
          <a:xfrm>
            <a:off x="6804000" y="4184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5"/>
          <p:cNvSpPr/>
          <p:nvPr/>
        </p:nvSpPr>
        <p:spPr>
          <a:xfrm>
            <a:off x="5616720" y="5553000"/>
            <a:ext cx="863280" cy="216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6"/>
          <p:cNvSpPr/>
          <p:nvPr/>
        </p:nvSpPr>
        <p:spPr>
          <a:xfrm>
            <a:off x="5940360" y="5265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5472000" y="5734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t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8"/>
          <p:cNvSpPr/>
          <p:nvPr/>
        </p:nvSpPr>
        <p:spPr>
          <a:xfrm>
            <a:off x="7056360" y="5516640"/>
            <a:ext cx="252360" cy="396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9"/>
          <p:cNvSpPr/>
          <p:nvPr/>
        </p:nvSpPr>
        <p:spPr>
          <a:xfrm>
            <a:off x="7164360" y="526572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0"/>
          <p:cNvSpPr/>
          <p:nvPr/>
        </p:nvSpPr>
        <p:spPr>
          <a:xfrm>
            <a:off x="6732720" y="5805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D3F8-7F4D-43FD-B61C-D039AC4AA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ructura stratificata a unui calculato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447920" y="1219320"/>
            <a:ext cx="304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523880" y="1981080"/>
            <a:ext cx="304812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baje de nivel in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523880" y="2743200"/>
            <a:ext cx="304812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bajul de asamb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523880" y="3505320"/>
            <a:ext cx="304812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ul de oper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3880" y="4267080"/>
            <a:ext cx="3048120" cy="459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ina convention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523880" y="5029200"/>
            <a:ext cx="3048120" cy="4597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1523880" y="5791320"/>
            <a:ext cx="3048120" cy="4597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e digi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2"/>
          <p:cNvSpPr/>
          <p:nvPr/>
        </p:nvSpPr>
        <p:spPr>
          <a:xfrm>
            <a:off x="2666880" y="1676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3"/>
          <p:cNvSpPr/>
          <p:nvPr/>
        </p:nvSpPr>
        <p:spPr>
          <a:xfrm>
            <a:off x="2666880" y="3962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4"/>
          <p:cNvSpPr/>
          <p:nvPr/>
        </p:nvSpPr>
        <p:spPr>
          <a:xfrm>
            <a:off x="2666880" y="24382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15"/>
          <p:cNvSpPr/>
          <p:nvPr/>
        </p:nvSpPr>
        <p:spPr>
          <a:xfrm>
            <a:off x="2666880" y="32004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6"/>
          <p:cNvSpPr/>
          <p:nvPr/>
        </p:nvSpPr>
        <p:spPr>
          <a:xfrm>
            <a:off x="2666880" y="47242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7"/>
          <p:cNvSpPr/>
          <p:nvPr/>
        </p:nvSpPr>
        <p:spPr>
          <a:xfrm>
            <a:off x="2743200" y="54864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447920" y="41911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64771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65530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22"/>
          <p:cNvSpPr/>
          <p:nvPr/>
        </p:nvSpPr>
        <p:spPr>
          <a:xfrm>
            <a:off x="5715000" y="6095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3"/>
          <p:cNvSpPr/>
          <p:nvPr/>
        </p:nvSpPr>
        <p:spPr>
          <a:xfrm flipV="1">
            <a:off x="6095880" y="59432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4"/>
          <p:cNvSpPr/>
          <p:nvPr/>
        </p:nvSpPr>
        <p:spPr>
          <a:xfrm>
            <a:off x="6095880" y="62485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4648320" y="46483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re (secvente microp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re (apeluri si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47242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ifi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4648320" y="304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are (asambl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9"/>
          <p:cNvSpPr/>
          <p:nvPr/>
        </p:nvSpPr>
        <p:spPr>
          <a:xfrm>
            <a:off x="4724280" y="22860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are (compil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0"/>
          <p:cNvSpPr/>
          <p:nvPr/>
        </p:nvSpPr>
        <p:spPr>
          <a:xfrm>
            <a:off x="4724280" y="1523880"/>
            <a:ext cx="4038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are si interpreta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gregare, compil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5"/>
          <p:cNvSpPr/>
          <p:nvPr/>
        </p:nvSpPr>
        <p:spPr>
          <a:xfrm>
            <a:off x="76212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3D9E-70A9-495B-B785-E305D4592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173240" y="40464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A4FB-858D-449E-8844-D94905BC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bliograf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a I, - Calculatoare electronice –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vschi S. - Microprocesoare –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ztai s.a, - Calculatoare numerice – Indrumator de lucrari de labo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toianov E.s.a. - De la poarta TTL la microprocesor - 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enbaum A.S. - Structured Computer Architecture –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rgan D, Sebestyen G.- Arhitectura calculatoarelor –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rgan D. Sebestyen G. - Structura calculatoarelor –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rgan D. Sebestyen G. – Proiectarea calculatoarelor -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  <a:hlinkClick r:id="rId1"/>
              </a:rPr>
              <a:t>www.int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www.t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  <a:hlinkClick r:id="rId3"/>
              </a:rPr>
              <a:t>www.microchi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t of Assembly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 si laborator 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4FD9-1B7A-47A6-84D5-AAAFD8378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upri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341000"/>
            <a:ext cx="77724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: istoric, conc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 generala a unui calculator: UCP, UAL, executie secventiala si de tip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proceso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oare specializate (procesoare de sem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strale de comun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iectarea memori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rarhii de memorii (memorie cache, memorie virtua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iectarea interfetelor de intrare si i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ul de intrerup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ul prin acces la mem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hitecturi avansate de calcul: R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hitecturi paralele si distrib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50F8-2EC3-45A4-A91B-2717311B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urt istor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a 0 – calculatoare mecanice – (??-19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 - A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. 17 – Pascal –masina de calcul pt. adunare si scad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. 17-18 – Leibnitz – masina pentru 4 operatii aritme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. 19 - Ch. Babbage (Cambridge)– masina diferentiala si masina analitica (Ada Byron-prima programato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 componente: memorie, unitate de calcul, cititor de cartele si perforator de car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eputul sec.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rad Zuse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Athanasoff - sistemul binar de nume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Aiken – Mark I, 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bb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da_augusta_king"/>
          <p:cNvPicPr/>
          <p:nvPr/>
        </p:nvPicPr>
        <p:blipFill>
          <a:blip r:embed="rId1"/>
          <a:stretch/>
        </p:blipFill>
        <p:spPr>
          <a:xfrm>
            <a:off x="7086600" y="3962520"/>
            <a:ext cx="164628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13B8-EA66-4666-8B77-7AFBB8F9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a generatie – 1945-19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hnologie: tuburi electro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3-46 – P. Eckert &amp; J. Mauchley – ENIAC – primul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00 tuburi, 1500 relee, 30 t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von Neumann – 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ul care a scris despre calculat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ul clasic de calculator: 5 compon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ie, UC, UAL, DI,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nonn – teoria informat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te unitatea de inform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a = inversul entrop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 Turring – Colossus – modelul T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 variante: EDVAC, ILLIAC, MANIAC, Wirlwind, UNI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701,704,709 – primele calculatoare comer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ICC, CIFA, MECIPT – variante roman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AA0A-03EB-4B5C-86FB-D1549C381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 generatie de calculato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eckert_and_mauchly"/>
          <p:cNvPicPr/>
          <p:nvPr/>
        </p:nvPicPr>
        <p:blipFill>
          <a:blip r:embed="rId1"/>
          <a:stretch/>
        </p:blipFill>
        <p:spPr>
          <a:xfrm>
            <a:off x="1371600" y="1447920"/>
            <a:ext cx="1714680" cy="2000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2193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kart&amp;Mauc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Neuman_calc"/>
          <p:cNvPicPr/>
          <p:nvPr/>
        </p:nvPicPr>
        <p:blipFill>
          <a:blip r:embed="rId2"/>
          <a:stretch/>
        </p:blipFill>
        <p:spPr>
          <a:xfrm>
            <a:off x="4114800" y="1371600"/>
            <a:ext cx="3978360" cy="2746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4495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von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3" descr="1951_univac"/>
          <p:cNvPicPr/>
          <p:nvPr/>
        </p:nvPicPr>
        <p:blipFill>
          <a:blip r:embed="rId3"/>
          <a:stretch/>
        </p:blipFill>
        <p:spPr>
          <a:xfrm>
            <a:off x="4267080" y="4495680"/>
            <a:ext cx="3657600" cy="212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4"/>
          <p:cNvSpPr/>
          <p:nvPr/>
        </p:nvSpPr>
        <p:spPr>
          <a:xfrm>
            <a:off x="6553080" y="6095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5" descr="1948_shannon"/>
          <p:cNvPicPr/>
          <p:nvPr/>
        </p:nvPicPr>
        <p:blipFill>
          <a:blip r:embed="rId4"/>
          <a:stretch/>
        </p:blipFill>
        <p:spPr>
          <a:xfrm>
            <a:off x="1371600" y="4038480"/>
            <a:ext cx="1693800" cy="22100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6"/>
          <p:cNvSpPr/>
          <p:nvPr/>
        </p:nvSpPr>
        <p:spPr>
          <a:xfrm>
            <a:off x="152388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o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CDFC-23F5-43FF-862E-02741EBBE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 generatie de calculato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eniac"/>
          <p:cNvPicPr/>
          <p:nvPr/>
        </p:nvPicPr>
        <p:blipFill>
          <a:blip r:embed="rId1"/>
          <a:stretch/>
        </p:blipFill>
        <p:spPr>
          <a:xfrm>
            <a:off x="1295280" y="1447920"/>
            <a:ext cx="3276720" cy="2643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37160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ADVAC"/>
          <p:cNvPicPr/>
          <p:nvPr/>
        </p:nvPicPr>
        <p:blipFill>
          <a:blip r:embed="rId2"/>
          <a:stretch/>
        </p:blipFill>
        <p:spPr>
          <a:xfrm>
            <a:off x="4800600" y="1447920"/>
            <a:ext cx="3657600" cy="3365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57150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8" descr="1953_IBM701"/>
          <p:cNvPicPr/>
          <p:nvPr/>
        </p:nvPicPr>
        <p:blipFill>
          <a:blip r:embed="rId3"/>
          <a:stretch/>
        </p:blipFill>
        <p:spPr>
          <a:xfrm>
            <a:off x="1295280" y="4952880"/>
            <a:ext cx="4114800" cy="1708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54864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2C32-F68B-4243-A11C-79FF488C0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7324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ratia a doua – 1955-19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hnologia: tranzisto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&amp;Brattain – primul tranzistor (Bell la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ul calculator tranzistorizat: TX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7090 – varianta tranzistorizata, IBM 14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lwind – 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P-1, PDP-8, firma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C 6600 – primul calculator para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A – calc. romane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1954_point"/>
          <p:cNvPicPr/>
          <p:nvPr/>
        </p:nvPicPr>
        <p:blipFill>
          <a:blip r:embed="rId1"/>
          <a:stretch/>
        </p:blipFill>
        <p:spPr>
          <a:xfrm>
            <a:off x="919080" y="4476600"/>
            <a:ext cx="178596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1956_tx0"/>
          <p:cNvPicPr/>
          <p:nvPr/>
        </p:nvPicPr>
        <p:blipFill>
          <a:blip r:embed="rId2"/>
          <a:stretch/>
        </p:blipFill>
        <p:spPr>
          <a:xfrm>
            <a:off x="3060720" y="4514760"/>
            <a:ext cx="2743200" cy="1962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3733920" y="6400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-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1960_pdp_1"/>
          <p:cNvPicPr/>
          <p:nvPr/>
        </p:nvPicPr>
        <p:blipFill>
          <a:blip r:embed="rId3"/>
          <a:stretch/>
        </p:blipFill>
        <p:spPr>
          <a:xfrm>
            <a:off x="6261120" y="4402080"/>
            <a:ext cx="2666880" cy="2090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70866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P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858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ul tranz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5:46:58Z</dcterms:created>
  <dc:creator>gyuszi</dc:creator>
  <dc:description/>
  <dc:language>en-US</dc:language>
  <cp:lastModifiedBy>Dredd</cp:lastModifiedBy>
  <dcterms:modified xsi:type="dcterms:W3CDTF">2021-03-06T07:35:26Z</dcterms:modified>
  <cp:revision>101</cp:revision>
  <dc:subject/>
  <dc:title>Arhitectura calculatoarelor</dc:title>
</cp:coreProperties>
</file>