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2781-870D-4E0F-B36F-8879FF40B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64B5-6A19-4A49-86B0-361008C4B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F77C-50F4-47FE-B6E9-679BFF12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9425-A029-4299-968B-87F453F24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F570-E206-4A98-8129-8D8DEED4B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FD81-1711-48CE-B011-D590D60D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A21E-63F9-4D79-8EC4-77B6EEF5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6C49-C052-4761-8F6C-68DA3263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5928-E499-4B3C-AA1D-F4E4E96AC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2ADC-4485-48BA-B5A9-5070031C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8CDA-D794-4C43-88B7-308DE3246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CFE1-CE28-4B06-8A06-26F15FE19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65CE-C7B7-4749-9E3A-411960C65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6C1D-3B67-4A04-AAE3-5C0BB570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2AD-82CD-4F03-8E28-493E3C86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4140-467B-490F-84F6-634BCBB0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6C49-68D9-4301-975B-BA78400C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6B25-1D73-468A-8227-D5FC7F15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841C-276A-4399-A07B-850CA98E6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0BE3-61AD-42A4-9CB2-3FC3DDE4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2B4C-44E2-4668-830E-0C85823E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A5A-8D1E-4FB0-81AF-CE0828F2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3C75-125C-4D6A-A2FB-0D9B58FD2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8A71-EED2-4148-850A-0C71FD52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17F1-12F8-4A5F-8C82-97530A7F9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D5CB-72F1-4B7E-86E6-96CE3145E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977D-5E83-4251-9E0C-CBAB40C77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470B-4CD8-47A5-AAD7-D43353ED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0CA-A986-489E-B347-46E2DD2E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573-AB98-4362-A39A-C3E952CA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C2B-ECFE-40F1-8215-0AAC1691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25A-D758-461F-98EF-858D021A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6A7E-BF48-4675-92FE-14CFB6DC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5FCA-DA75-44EA-8BC4-EDED0E11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C2E4-61D0-4597-9894-6395AB3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62AF-67F6-417F-8EAF-45DA9529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BD77-583C-4EFB-9B4B-B85AD684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8B86-AE01-4D98-BD5E-4A7F9623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42B2-C338-4AB8-81F3-5B8029B1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94B-D276-4F12-9CB7-EB7BD5F8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9346-C277-4BF3-827A-5299F45B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0618-E4BA-4CCB-B17D-1E83FE6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4201-4FC4-4439-987B-89486388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24A5-64E1-4970-B785-D0000580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CD25-2D0F-4F1B-B4D4-B7D4F89B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AA2-1D9C-4CA7-A4D4-7015B3E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0FD-A627-482D-ABAF-5D1E00A9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B43-B223-4D7B-91F9-32C8B644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20C-242E-4368-BCF0-D7414213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E8B-5C6C-4564-B5F3-A8136643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6C9-D7FC-4574-AB4B-748A3E3A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3D2-7630-4AF3-9500-DDC5CD30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4E77-0C7A-40AF-B23F-C1B4D2CE0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A838-B5B6-4568-A873-298D2A106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506B-3284-4EFD-AC04-938C75384D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4 - Microprocesoa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5E0D-215C-4941-A947-CF0B9264E1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cesoarele familiei Intel x8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397836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8086 şi I8088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042920" y="2276640"/>
          <a:ext cx="7345440" cy="429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7345440" cy="42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16F3-29BA-4EF6-A2A7-B5177C8FCB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8086, I8088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56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8086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cesor pe 16 biti, 16 semnale de date, 20 semnale de adresa (spatiu de adresare 1MB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I cu 40 de pin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ircuite ajutatoar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8087 – coprocesor matematic (v.flotan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8288 – controlor de magistra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88289 – arbitror de magistral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ructur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U –Execution Unit – unitatea de execuţie, dedicată pentru execuţia propriu-zisa a instrucţiuni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C, UAL, registre generale, registru de st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U – Basic Interface Unit - unitatea de interfaţare a magistralei externe, care se ocupă de transferul de informaţii (date şi instrucţiuni) între procesor şi magistrala extern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stre speciale (segment, I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ada de instructiuni, interfata cu magistrala exte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8088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dentic cu 8086 dar cu 8 semnale de date pe magistrala extern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0850-DCAC-460C-8675-D98EB7847A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8028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557000"/>
            <a:ext cx="68022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or pe 16 bi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6 semnale de date, 24 semnale de adresa (spatiu de adresare 16MB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uri de lucru: real si protej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547640" y="3041640"/>
          <a:ext cx="728028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41640"/>
                    <a:ext cx="72802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D8D0-A7C0-436C-B506-48C9A57A26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8038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17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or pe 32 biti, 32 semnale de date, 32 semnale de adrese (spatiu de adresare 4GB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istre generale extines la 32 bi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 registre segment supliment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 protejat perfect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539640" y="3716280"/>
          <a:ext cx="7920000" cy="271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716280"/>
                    <a:ext cx="792000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6F00-CC0E-4617-BDC1-C64911648D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8048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65784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greaza: procesor+coprocesor+MM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ciliteaza utilizarea memoriei cach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rfectarea modului protej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826920" y="3068640"/>
          <a:ext cx="777744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068640"/>
                    <a:ext cx="7777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F385-B39B-44AE-8D7E-9A2E0A606C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ntiu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ua linii de procesare pipeline: U si 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istrala externa de date pe 64 biti (desi este procesor pe 32 biti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siuni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tium        – arhitectura cu 2 linii pipe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tium Pr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tium II      - arhitectura superscalara P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tium II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tium IV     – arhitectura NetBur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3635280" y="3716280"/>
            <a:ext cx="289080" cy="936720"/>
          </a:xfrm>
          <a:custGeom>
            <a:avLst/>
            <a:gdLst>
              <a:gd name="textAreaLeft" fmla="*/ 0 w 289080"/>
              <a:gd name="textAreaRight" fmla="*/ 104400 w 289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11A3-CCDE-423F-A5F2-B4174C1427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cesoarele Pentiu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tium Pr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rhitectura superscalara P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ecutie dinamica a instructiunilo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iza fluxurilor d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dictia salturilo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ia speculativa a instructiunilo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ntium I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hnologia MMX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ponenta pt. date multimed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ecutie paralela tip SIM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7 instructiuni noi MMX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tium I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hnologia SSE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ecutie paralela SIMD pt. flota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ntru grafica 2D/3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68A-DED3-4C94-9D20-BC4F5AC5A6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rhitectura superscalara P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 unitati autonom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ecutie speculativ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116000" y="2852640"/>
          <a:ext cx="727236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852640"/>
                    <a:ext cx="7272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C242-4149-489B-BB23-E4714EDBD3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rhitectura P6 - detal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68360" y="1268280"/>
          <a:ext cx="8351640" cy="54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3516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64F6-62BD-4B73-A975-69C2074561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Unitatea de citire si decodificare instructiun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3579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iteste si decodifica in avans instructiun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 in-ord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 instructiuni decodificate / ce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dictia salturi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ponent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codificat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ircuit de generare adrese (next_I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loc memorare adrese de sal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cventiator de microinstructiun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locator de registre Ali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3780000" y="1628640"/>
          <a:ext cx="5364000" cy="48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628640"/>
                    <a:ext cx="53640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12E9-29E4-4A5A-93A1-412982FE3D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croproceso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827000"/>
            <a:ext cx="78566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a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ircuit VLSI care incorporeaza o unitate centrala de executie (UC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a 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ircuit integrat care incorporeaz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 sau mai multe unitati centrale de prelucra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ultiprocesoare simetri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ultiprocesoare asimetri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ie ca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e component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trolor de intreruper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trolor de magistral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 de management a memoriei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57B-8C23-4631-AB54-1043431813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tatea de dispecerizare si executi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392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ponsabila pentru executia instructiunil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tate out-of-ord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7 unitati de executie + statie de rezerv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EI – unitate de executie pt. intreg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EF – unitate de executie pt. flota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MX – unitate de executie pentru date multimed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GA – unitate de generare adre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GS – unitate de generare saltur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4643280" y="1700280"/>
          <a:ext cx="42498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00280"/>
                    <a:ext cx="42498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A6D2-E507-4608-BB27-5967A8294C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atea de retrage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280" y="1827360"/>
            <a:ext cx="397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face ordinea normala a instructiunilor (rezultatelo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ate in-or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IM – unitatea de interfaţare a memorie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RR – fişierul de registre de retrag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5102280" y="1916280"/>
          <a:ext cx="4294080" cy="43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2280" y="1916280"/>
                    <a:ext cx="4294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35F0-8E69-4BB0-9971-18570BCA99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gistrala P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ementele definitorii ale noului standard de magistrală sunt 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gistrala lucrează în mod sincron , cu memorarea semnalelor pe frontul urcător al semnalului de ce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ul de date se realizează pe bază de tranzacţii, care se pot desfăşura în paral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istă suport pentru conectarea mai multor procesoare pe aceeaşi magistral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unt favorizate transferurile pe blocuri de d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istă implementate mecanisme de detecţie şi corecţie a eroril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ista suport pentru verificarea şi menţinerea consistenţei memoriilor cach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utilizează o tehnologie de transmitere a semnalelor care garantează nealterarea semnalelor chiar şi la frecvenţe ma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0773-8786-414C-94A4-AF5BD515B3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l pe magistrala P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nzactii paralele (pipeli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z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bitr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ere de transf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ion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o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spu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hnologie: GT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2474-627E-427E-BE36-02923404E3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agrama de tip pentru magistrala P6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826920" y="1700280"/>
          <a:ext cx="8317080" cy="468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83170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E25A-7EAE-410A-9EFC-F73F6F1C8A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ntium IV – Arhitectura NetBur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1827000"/>
            <a:ext cx="81439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- adoptarea unei arhitecturi </a:t>
            </a:r>
            <a:r>
              <a:rPr b="1" lang="ro-RO" sz="1700" spc="-1" strike="noStrike">
                <a:solidFill>
                  <a:srgbClr val="000000"/>
                </a:solidFill>
                <a:latin typeface="Verdana"/>
              </a:rPr>
              <a:t>pipeline cu 20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 de faze de procesare a instrucţiunilor, dublu faţă de varianta P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o-RO" sz="1700" spc="-1" strike="noStrike">
                <a:solidFill>
                  <a:srgbClr val="000000"/>
                </a:solidFill>
                <a:latin typeface="Verdana"/>
              </a:rPr>
              <a:t>creşterea de 4 ori a frecvenţei magistralei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 sistem, care astfel ajunge la 400MHz; prin utilizarea tehnologiei "quad pump" se asigură o rată de transfer de 3,2Gocteţi/s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o-RO" sz="1700" spc="-1" strike="noStrike">
                <a:solidFill>
                  <a:srgbClr val="000000"/>
                </a:solidFill>
                <a:latin typeface="Verdana"/>
              </a:rPr>
              <a:t>dublarea vitezei de execuţie a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UAL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, ceea ce permite efectuarea a două operaţii aritmetice şi logice simple pe fiecare perioadă de ceas; de fapt unitatea aritmetico-logică lucrează cu un semnal de ceas care are frecvenţa dublă faţă de frecvenţa procesor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- utilizarea unei </a:t>
            </a:r>
            <a:r>
              <a:rPr b="1" lang="ro-RO" sz="1700" spc="-1" strike="noStrike">
                <a:solidFill>
                  <a:srgbClr val="000000"/>
                </a:solidFill>
                <a:latin typeface="Verdana"/>
              </a:rPr>
              <a:t>memorii cache de foarte mare viteză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 (eng. Advanced Transfer Cache), care la o frecvenţă de 2GHz asigură o rată de transfer de 64Gocteţi/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- extinderea tehnologiei MMX (eng. </a:t>
            </a:r>
            <a:r>
              <a:rPr b="1" lang="ro-RO" sz="1700" spc="-1" strike="noStrike">
                <a:solidFill>
                  <a:srgbClr val="000000"/>
                </a:solidFill>
                <a:latin typeface="Verdana"/>
              </a:rPr>
              <a:t>SSE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 - Streaming SIMD Extension) prin adăugarea a 144 instrucţiuni SIMD noi şi extinderea lăţimii datelor prelucrate la 128 biţi (16 octeţi prelucraţi în parale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- îmbunătăţirea cu </a:t>
            </a:r>
            <a:r>
              <a:rPr b="1" lang="ro-RO" sz="1700" spc="-1" strike="noStrike">
                <a:solidFill>
                  <a:srgbClr val="000000"/>
                </a:solidFill>
                <a:latin typeface="Verdana"/>
              </a:rPr>
              <a:t>30% a ratei de predicţie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 a salturilor în special datorită extinderii ferestrei de analiză; procesorul Pentium 4 menţine în linia de execuţie până la 126 de instrucţiuni şi utilizează 4Kocteţi pentru memorarea adreselor de salt (BTB - Branch Target Buff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D7F-868C-4A2B-9223-41D7B0E4CB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ntium I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919080" y="1628640"/>
            <a:ext cx="7613640" cy="4896000"/>
            <a:chOff x="919080" y="1628640"/>
            <a:chExt cx="7613640" cy="4896000"/>
          </a:xfrm>
        </p:grpSpPr>
        <p:sp>
          <p:nvSpPr>
            <p:cNvPr id="196" name="AutoShape 5"/>
            <p:cNvSpPr/>
            <p:nvPr/>
          </p:nvSpPr>
          <p:spPr>
            <a:xfrm>
              <a:off x="919080" y="1628640"/>
              <a:ext cx="7613640" cy="48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AutoShape 6"/>
            <p:cNvSpPr/>
            <p:nvPr/>
          </p:nvSpPr>
          <p:spPr>
            <a:xfrm>
              <a:off x="3382200" y="3013200"/>
              <a:ext cx="1865880" cy="3459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Rectangle 7"/>
            <p:cNvSpPr/>
            <p:nvPr/>
          </p:nvSpPr>
          <p:spPr>
            <a:xfrm>
              <a:off x="3382200" y="2271600"/>
              <a:ext cx="1865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Rectangle 8"/>
            <p:cNvSpPr/>
            <p:nvPr/>
          </p:nvSpPr>
          <p:spPr>
            <a:xfrm>
              <a:off x="993600" y="1925280"/>
              <a:ext cx="1940400" cy="39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3307680" y="2221200"/>
              <a:ext cx="179100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TB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Rectangle 10"/>
            <p:cNvSpPr/>
            <p:nvPr/>
          </p:nvSpPr>
          <p:spPr>
            <a:xfrm>
              <a:off x="3382200" y="2666880"/>
              <a:ext cx="1865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3307680" y="2617560"/>
              <a:ext cx="20149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ecodo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12"/>
            <p:cNvSpPr/>
            <p:nvPr/>
          </p:nvSpPr>
          <p:spPr>
            <a:xfrm>
              <a:off x="3382200" y="3507840"/>
              <a:ext cx="1865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3307680" y="3458160"/>
              <a:ext cx="20898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locare reg.Ali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Text Box 14"/>
            <p:cNvSpPr/>
            <p:nvPr/>
          </p:nvSpPr>
          <p:spPr>
            <a:xfrm>
              <a:off x="3232800" y="3013200"/>
              <a:ext cx="2164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race cach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3382200" y="1727280"/>
              <a:ext cx="3956040" cy="3459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3382200" y="3854160"/>
              <a:ext cx="1865880" cy="395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Text Box 17"/>
            <p:cNvSpPr/>
            <p:nvPr/>
          </p:nvSpPr>
          <p:spPr>
            <a:xfrm>
              <a:off x="3232800" y="3804480"/>
              <a:ext cx="21646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zi de aşteptare pt. micro-operaţii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18"/>
            <p:cNvSpPr/>
            <p:nvPr/>
          </p:nvSpPr>
          <p:spPr>
            <a:xfrm>
              <a:off x="2561040" y="4398840"/>
              <a:ext cx="5672520" cy="29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19"/>
            <p:cNvSpPr/>
            <p:nvPr/>
          </p:nvSpPr>
          <p:spPr>
            <a:xfrm>
              <a:off x="2784960" y="4398840"/>
              <a:ext cx="343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lanificatoar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4128840" y="1727280"/>
              <a:ext cx="2537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2 Cache şi control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21"/>
            <p:cNvSpPr/>
            <p:nvPr/>
          </p:nvSpPr>
          <p:spPr>
            <a:xfrm>
              <a:off x="4352760" y="4843800"/>
              <a:ext cx="3881160" cy="29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22"/>
            <p:cNvSpPr/>
            <p:nvPr/>
          </p:nvSpPr>
          <p:spPr>
            <a:xfrm>
              <a:off x="2486520" y="4843080"/>
              <a:ext cx="1716480" cy="297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2337120" y="4793760"/>
              <a:ext cx="5896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g. pt. „flotant”</a:t>
              </a: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gistre pt. „întregi”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5" name="Group 24"/>
            <p:cNvGrpSpPr/>
            <p:nvPr/>
          </p:nvGrpSpPr>
          <p:grpSpPr>
            <a:xfrm>
              <a:off x="4277880" y="5237640"/>
              <a:ext cx="895680" cy="347040"/>
              <a:chOff x="4277880" y="5237640"/>
              <a:chExt cx="895680" cy="347040"/>
            </a:xfrm>
          </p:grpSpPr>
          <p:sp>
            <p:nvSpPr>
              <p:cNvPr id="216" name="Rectangle 25"/>
              <p:cNvSpPr/>
              <p:nvPr/>
            </p:nvSpPr>
            <p:spPr>
              <a:xfrm>
                <a:off x="4351680" y="5288040"/>
                <a:ext cx="597960" cy="247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Text Box 26"/>
              <p:cNvSpPr/>
              <p:nvPr/>
            </p:nvSpPr>
            <p:spPr>
              <a:xfrm>
                <a:off x="4277880" y="5237640"/>
                <a:ext cx="895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UAL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8" name="Group 27"/>
            <p:cNvGrpSpPr/>
            <p:nvPr/>
          </p:nvGrpSpPr>
          <p:grpSpPr>
            <a:xfrm>
              <a:off x="4949640" y="5237640"/>
              <a:ext cx="895320" cy="347040"/>
              <a:chOff x="4949640" y="5237640"/>
              <a:chExt cx="895320" cy="347040"/>
            </a:xfrm>
          </p:grpSpPr>
          <p:sp>
            <p:nvSpPr>
              <p:cNvPr id="219" name="Rectangle 28"/>
              <p:cNvSpPr/>
              <p:nvPr/>
            </p:nvSpPr>
            <p:spPr>
              <a:xfrm>
                <a:off x="5023440" y="5288040"/>
                <a:ext cx="597600" cy="247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Text Box 29"/>
              <p:cNvSpPr/>
              <p:nvPr/>
            </p:nvSpPr>
            <p:spPr>
              <a:xfrm>
                <a:off x="4949640" y="5237640"/>
                <a:ext cx="895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U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1" name="Group 30"/>
            <p:cNvGrpSpPr/>
            <p:nvPr/>
          </p:nvGrpSpPr>
          <p:grpSpPr>
            <a:xfrm>
              <a:off x="5621400" y="5237640"/>
              <a:ext cx="895320" cy="347040"/>
              <a:chOff x="5621400" y="5237640"/>
              <a:chExt cx="895320" cy="347040"/>
            </a:xfrm>
          </p:grpSpPr>
          <p:sp>
            <p:nvSpPr>
              <p:cNvPr id="222" name="Rectangle 31"/>
              <p:cNvSpPr/>
              <p:nvPr/>
            </p:nvSpPr>
            <p:spPr>
              <a:xfrm>
                <a:off x="5695200" y="5288040"/>
                <a:ext cx="597600" cy="247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Text Box 32"/>
              <p:cNvSpPr/>
              <p:nvPr/>
            </p:nvSpPr>
            <p:spPr>
              <a:xfrm>
                <a:off x="5621400" y="5237640"/>
                <a:ext cx="895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U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33"/>
            <p:cNvGrpSpPr/>
            <p:nvPr/>
          </p:nvGrpSpPr>
          <p:grpSpPr>
            <a:xfrm>
              <a:off x="6293160" y="5237640"/>
              <a:ext cx="895320" cy="347040"/>
              <a:chOff x="6293160" y="5237640"/>
              <a:chExt cx="895320" cy="347040"/>
            </a:xfrm>
          </p:grpSpPr>
          <p:sp>
            <p:nvSpPr>
              <p:cNvPr id="225" name="Rectangle 34"/>
              <p:cNvSpPr/>
              <p:nvPr/>
            </p:nvSpPr>
            <p:spPr>
              <a:xfrm>
                <a:off x="6366960" y="5288040"/>
                <a:ext cx="597600" cy="247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Text Box 35"/>
              <p:cNvSpPr/>
              <p:nvPr/>
            </p:nvSpPr>
            <p:spPr>
              <a:xfrm>
                <a:off x="6293160" y="5237640"/>
                <a:ext cx="895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U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" name="Group 36"/>
            <p:cNvGrpSpPr/>
            <p:nvPr/>
          </p:nvGrpSpPr>
          <p:grpSpPr>
            <a:xfrm>
              <a:off x="6964920" y="5237640"/>
              <a:ext cx="895320" cy="347040"/>
              <a:chOff x="6964920" y="5237640"/>
              <a:chExt cx="895320" cy="347040"/>
            </a:xfrm>
          </p:grpSpPr>
          <p:sp>
            <p:nvSpPr>
              <p:cNvPr id="228" name="Rectangle 37"/>
              <p:cNvSpPr/>
              <p:nvPr/>
            </p:nvSpPr>
            <p:spPr>
              <a:xfrm>
                <a:off x="7038720" y="5288040"/>
                <a:ext cx="597600" cy="247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Text Box 38"/>
              <p:cNvSpPr/>
              <p:nvPr/>
            </p:nvSpPr>
            <p:spPr>
              <a:xfrm>
                <a:off x="6964920" y="5237640"/>
                <a:ext cx="895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UGA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" name="Group 39"/>
            <p:cNvGrpSpPr/>
            <p:nvPr/>
          </p:nvGrpSpPr>
          <p:grpSpPr>
            <a:xfrm>
              <a:off x="7636680" y="5237640"/>
              <a:ext cx="895680" cy="347040"/>
              <a:chOff x="7636680" y="5237640"/>
              <a:chExt cx="895680" cy="347040"/>
            </a:xfrm>
          </p:grpSpPr>
          <p:sp>
            <p:nvSpPr>
              <p:cNvPr id="231" name="Rectangle 40"/>
              <p:cNvSpPr/>
              <p:nvPr/>
            </p:nvSpPr>
            <p:spPr>
              <a:xfrm>
                <a:off x="7710480" y="5288040"/>
                <a:ext cx="597960" cy="247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Text Box 41"/>
              <p:cNvSpPr/>
              <p:nvPr/>
            </p:nvSpPr>
            <p:spPr>
              <a:xfrm>
                <a:off x="7636680" y="5237640"/>
                <a:ext cx="895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UGA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3" name="Group 42"/>
            <p:cNvGrpSpPr/>
            <p:nvPr/>
          </p:nvGrpSpPr>
          <p:grpSpPr>
            <a:xfrm>
              <a:off x="2337120" y="5237640"/>
              <a:ext cx="1119240" cy="347040"/>
              <a:chOff x="2337120" y="5237640"/>
              <a:chExt cx="1119240" cy="347040"/>
            </a:xfrm>
          </p:grpSpPr>
          <p:sp>
            <p:nvSpPr>
              <p:cNvPr id="234" name="Rectangle 43"/>
              <p:cNvSpPr/>
              <p:nvPr/>
            </p:nvSpPr>
            <p:spPr>
              <a:xfrm>
                <a:off x="2429280" y="5288040"/>
                <a:ext cx="747000" cy="247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Text Box 44"/>
              <p:cNvSpPr/>
              <p:nvPr/>
            </p:nvSpPr>
            <p:spPr>
              <a:xfrm>
                <a:off x="2337120" y="5237640"/>
                <a:ext cx="111924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UAL-F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6" name="Group 45"/>
            <p:cNvGrpSpPr/>
            <p:nvPr/>
          </p:nvGrpSpPr>
          <p:grpSpPr>
            <a:xfrm>
              <a:off x="3232800" y="5237640"/>
              <a:ext cx="1119600" cy="347040"/>
              <a:chOff x="3232800" y="5237640"/>
              <a:chExt cx="1119600" cy="347040"/>
            </a:xfrm>
          </p:grpSpPr>
          <p:sp>
            <p:nvSpPr>
              <p:cNvPr id="237" name="Rectangle 46"/>
              <p:cNvSpPr/>
              <p:nvPr/>
            </p:nvSpPr>
            <p:spPr>
              <a:xfrm>
                <a:off x="3324960" y="5288040"/>
                <a:ext cx="747360" cy="247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Text Box 47"/>
              <p:cNvSpPr/>
              <p:nvPr/>
            </p:nvSpPr>
            <p:spPr>
              <a:xfrm>
                <a:off x="3232800" y="5237640"/>
                <a:ext cx="11196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UAL-F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9" name="AutoShape 48"/>
            <p:cNvSpPr/>
            <p:nvPr/>
          </p:nvSpPr>
          <p:spPr>
            <a:xfrm>
              <a:off x="2561040" y="5733360"/>
              <a:ext cx="5672520" cy="2959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Text Box 49"/>
            <p:cNvSpPr/>
            <p:nvPr/>
          </p:nvSpPr>
          <p:spPr>
            <a:xfrm>
              <a:off x="3531600" y="5733360"/>
              <a:ext cx="373212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1 D-Cache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Freeform 50"/>
            <p:cNvSpPr/>
            <p:nvPr/>
          </p:nvSpPr>
          <p:spPr>
            <a:xfrm>
              <a:off x="7338240" y="1925280"/>
              <a:ext cx="1119240" cy="3956400"/>
            </a:xfrm>
            <a:custGeom>
              <a:avLst/>
              <a:gdLst/>
              <a:ahLst/>
              <a:rect l="l" t="t" r="r" b="b"/>
              <a:pathLst>
                <a:path w="855" h="4560">
                  <a:moveTo>
                    <a:pt x="684" y="4560"/>
                  </a:moveTo>
                  <a:lnTo>
                    <a:pt x="855" y="4560"/>
                  </a:lnTo>
                  <a:lnTo>
                    <a:pt x="855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Line 51"/>
            <p:cNvSpPr/>
            <p:nvPr/>
          </p:nvSpPr>
          <p:spPr>
            <a:xfrm>
              <a:off x="4277880" y="207360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Line 52"/>
            <p:cNvSpPr/>
            <p:nvPr/>
          </p:nvSpPr>
          <p:spPr>
            <a:xfrm>
              <a:off x="4277880" y="246924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Line 53"/>
            <p:cNvSpPr/>
            <p:nvPr/>
          </p:nvSpPr>
          <p:spPr>
            <a:xfrm>
              <a:off x="4277880" y="2864880"/>
              <a:ext cx="144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Line 54"/>
            <p:cNvSpPr/>
            <p:nvPr/>
          </p:nvSpPr>
          <p:spPr>
            <a:xfrm>
              <a:off x="4277880" y="3359520"/>
              <a:ext cx="144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Line 55"/>
            <p:cNvSpPr/>
            <p:nvPr/>
          </p:nvSpPr>
          <p:spPr>
            <a:xfrm>
              <a:off x="4277880" y="3705480"/>
              <a:ext cx="144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Line 56"/>
            <p:cNvSpPr/>
            <p:nvPr/>
          </p:nvSpPr>
          <p:spPr>
            <a:xfrm>
              <a:off x="4277880" y="4249800"/>
              <a:ext cx="144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AutoShape 57"/>
            <p:cNvSpPr/>
            <p:nvPr/>
          </p:nvSpPr>
          <p:spPr>
            <a:xfrm>
              <a:off x="5845320" y="3062520"/>
              <a:ext cx="745920" cy="247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Text Box 58"/>
            <p:cNvSpPr/>
            <p:nvPr/>
          </p:nvSpPr>
          <p:spPr>
            <a:xfrm>
              <a:off x="5770440" y="3013200"/>
              <a:ext cx="104472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59"/>
            <p:cNvSpPr/>
            <p:nvPr/>
          </p:nvSpPr>
          <p:spPr>
            <a:xfrm flipH="1">
              <a:off x="4352760" y="3309840"/>
              <a:ext cx="1716480" cy="98640"/>
            </a:xfrm>
            <a:custGeom>
              <a:avLst/>
              <a:gdLst/>
              <a:ahLst/>
              <a:rect l="l" t="t" r="r" b="b"/>
              <a:pathLst>
                <a:path w="912" h="342">
                  <a:moveTo>
                    <a:pt x="0" y="0"/>
                  </a:moveTo>
                  <a:lnTo>
                    <a:pt x="0" y="342"/>
                  </a:lnTo>
                  <a:lnTo>
                    <a:pt x="912" y="3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Line 60"/>
            <p:cNvSpPr/>
            <p:nvPr/>
          </p:nvSpPr>
          <p:spPr>
            <a:xfrm>
              <a:off x="2784960" y="46947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61"/>
            <p:cNvSpPr/>
            <p:nvPr/>
          </p:nvSpPr>
          <p:spPr>
            <a:xfrm flipH="1">
              <a:off x="3606120" y="4694760"/>
              <a:ext cx="144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62"/>
            <p:cNvSpPr/>
            <p:nvPr/>
          </p:nvSpPr>
          <p:spPr>
            <a:xfrm flipH="1">
              <a:off x="4651200" y="4694760"/>
              <a:ext cx="144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63"/>
            <p:cNvSpPr/>
            <p:nvPr/>
          </p:nvSpPr>
          <p:spPr>
            <a:xfrm flipH="1">
              <a:off x="5322960" y="4694760"/>
              <a:ext cx="144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Line 64"/>
            <p:cNvSpPr/>
            <p:nvPr/>
          </p:nvSpPr>
          <p:spPr>
            <a:xfrm flipH="1">
              <a:off x="5994360" y="4694760"/>
              <a:ext cx="108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6666120" y="4694760"/>
              <a:ext cx="108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Line 66"/>
            <p:cNvSpPr/>
            <p:nvPr/>
          </p:nvSpPr>
          <p:spPr>
            <a:xfrm flipH="1">
              <a:off x="7337880" y="4694760"/>
              <a:ext cx="108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Line 67"/>
            <p:cNvSpPr/>
            <p:nvPr/>
          </p:nvSpPr>
          <p:spPr>
            <a:xfrm flipH="1">
              <a:off x="7935120" y="4694760"/>
              <a:ext cx="108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Line 68"/>
            <p:cNvSpPr/>
            <p:nvPr/>
          </p:nvSpPr>
          <p:spPr>
            <a:xfrm>
              <a:off x="2784960" y="51397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Line 69"/>
            <p:cNvSpPr/>
            <p:nvPr/>
          </p:nvSpPr>
          <p:spPr>
            <a:xfrm>
              <a:off x="3606120" y="5139720"/>
              <a:ext cx="144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70"/>
            <p:cNvSpPr/>
            <p:nvPr/>
          </p:nvSpPr>
          <p:spPr>
            <a:xfrm>
              <a:off x="4651200" y="5139720"/>
              <a:ext cx="144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5994720" y="5139720"/>
              <a:ext cx="108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72"/>
            <p:cNvSpPr/>
            <p:nvPr/>
          </p:nvSpPr>
          <p:spPr>
            <a:xfrm>
              <a:off x="6666480" y="5139720"/>
              <a:ext cx="108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>
              <a:off x="7338240" y="5139720"/>
              <a:ext cx="108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Line 74"/>
            <p:cNvSpPr/>
            <p:nvPr/>
          </p:nvSpPr>
          <p:spPr>
            <a:xfrm>
              <a:off x="7935480" y="5139720"/>
              <a:ext cx="108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>
              <a:off x="5322960" y="5139720"/>
              <a:ext cx="144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Line 76"/>
            <p:cNvSpPr/>
            <p:nvPr/>
          </p:nvSpPr>
          <p:spPr>
            <a:xfrm>
              <a:off x="3681000" y="5535360"/>
              <a:ext cx="108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7338240" y="553536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Line 78"/>
            <p:cNvSpPr/>
            <p:nvPr/>
          </p:nvSpPr>
          <p:spPr>
            <a:xfrm>
              <a:off x="7935480" y="553536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Text Box 79"/>
            <p:cNvSpPr/>
            <p:nvPr/>
          </p:nvSpPr>
          <p:spPr>
            <a:xfrm>
              <a:off x="1665360" y="6079680"/>
              <a:ext cx="67176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igura 7-15 Arhitectura Pentium 4 - NetBurs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Text Box 80"/>
            <p:cNvSpPr/>
            <p:nvPr/>
          </p:nvSpPr>
          <p:spPr>
            <a:xfrm>
              <a:off x="919080" y="1875960"/>
              <a:ext cx="208980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rfaţa cu magistrala sistem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Line 81"/>
            <p:cNvSpPr/>
            <p:nvPr/>
          </p:nvSpPr>
          <p:spPr>
            <a:xfrm>
              <a:off x="2934360" y="2172600"/>
              <a:ext cx="134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AutoShape 82"/>
            <p:cNvSpPr/>
            <p:nvPr/>
          </p:nvSpPr>
          <p:spPr>
            <a:xfrm>
              <a:off x="2934360" y="2271600"/>
              <a:ext cx="223560" cy="1433880"/>
            </a:xfrm>
            <a:custGeom>
              <a:avLst/>
              <a:gdLst>
                <a:gd name="textAreaLeft" fmla="*/ 142920 w 223560"/>
                <a:gd name="textAreaRight" fmla="*/ 223920 w 223560"/>
                <a:gd name="textAreaTop" fmla="*/ 37080 h 1433880"/>
                <a:gd name="textAreaBottom" fmla="*/ 1396800 h 143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Text Box 83"/>
            <p:cNvSpPr/>
            <p:nvPr/>
          </p:nvSpPr>
          <p:spPr>
            <a:xfrm>
              <a:off x="1590840" y="2666880"/>
              <a:ext cx="141768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tragere şi decodificare instrucţiuni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84"/>
            <p:cNvSpPr/>
            <p:nvPr/>
          </p:nvSpPr>
          <p:spPr>
            <a:xfrm flipH="1">
              <a:off x="5248080" y="3161520"/>
              <a:ext cx="5968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AutoShape 85"/>
            <p:cNvSpPr/>
            <p:nvPr/>
          </p:nvSpPr>
          <p:spPr>
            <a:xfrm>
              <a:off x="2187720" y="4348440"/>
              <a:ext cx="223920" cy="133524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34560 h 1335240"/>
                <a:gd name="textAreaBottom" fmla="*/ 1300680 h 13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Text Box 86"/>
            <p:cNvSpPr/>
            <p:nvPr/>
          </p:nvSpPr>
          <p:spPr>
            <a:xfrm>
              <a:off x="919080" y="4645440"/>
              <a:ext cx="14929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lanificare şi execuţie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ţiuni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87"/>
            <p:cNvSpPr/>
            <p:nvPr/>
          </p:nvSpPr>
          <p:spPr>
            <a:xfrm flipV="1">
              <a:off x="4203360" y="5238360"/>
              <a:ext cx="1080" cy="49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Freeform 88"/>
            <p:cNvSpPr/>
            <p:nvPr/>
          </p:nvSpPr>
          <p:spPr>
            <a:xfrm>
              <a:off x="3830040" y="5139720"/>
              <a:ext cx="671400" cy="98640"/>
            </a:xfrm>
            <a:custGeom>
              <a:avLst/>
              <a:gdLst/>
              <a:ahLst/>
              <a:rect l="l" t="t" r="r" b="b"/>
              <a:pathLst>
                <a:path w="513" h="114">
                  <a:moveTo>
                    <a:pt x="0" y="0"/>
                  </a:moveTo>
                  <a:lnTo>
                    <a:pt x="0" y="114"/>
                  </a:lnTo>
                  <a:lnTo>
                    <a:pt x="513" y="114"/>
                  </a:lnTo>
                  <a:lnTo>
                    <a:pt x="5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B964-523C-43DB-9926-BDAD94ACB3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ntium I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i tendint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hnologia hyperthre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hnologia multi-co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hitecura pe 64 bi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EDCC-724C-4E5C-86B7-718D5BB63B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croproceso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aritia primului microproceso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rma Intel, I4004 – procesor pe 4 bi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mul procesor de succe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l I8080 – procesor pe 8 bi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mul procesor pe 16 bi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l I808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mul procesor pe 32 bi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l I8038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or cu arhitectura superscala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tium Pr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or pe 64 biti, arhitectura multi-co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tium IV, Core 2 Duo, Dual c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750B-35FD-434F-BCB0-3B1686CBD6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ponentele unui microproces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e traditional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tatea de comanda (U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tatea aritmetico-logica (U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gistre generale si speciale (RG, R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e suplimentar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orie cache (Cach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procesor matematic (Co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tatea de management a memoriei (UM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de intreruper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51E9-4BF4-4B3D-B2CC-12E747FF8F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mnalele unui microprocesor – magistrala sistemulu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4360" y="1700280"/>
          <a:ext cx="820872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82087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97C2-FEA6-4F77-964D-4ED66C8730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mnalele tipice ale unui microproces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4360" y="1700280"/>
          <a:ext cx="8064360" cy="47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80643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14CC-B61E-4F52-A563-D1DD77EF88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mnalele unui microproces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827000"/>
            <a:ext cx="76406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mnalele de adresa: A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losite pentru indicarea unei locatii de memorie sau port (registru) dintr-o interfat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mnale generate de procesor catre celelalte componente ale sistem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arul de linii de adresa determina spatiul maxim de adresare al procesor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: 20 linii=&gt; 1M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2 linii =&gt;4G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mnale de date: D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D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mnale bidirectionale folosite pentru transferul de instructiuni si date intre procesor si celelalte componente ale sistem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arul de linii de date este in acord cu structura procesor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arul de linii de date determina latimea maxima a datelor transferate pe magistral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: 16, 32, 64 lini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AC4-BF2E-4C36-BB26-747F332033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mnalele unui proces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mnale de comanda si contr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mnale de comand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RDC\, MWTC\, IORC\, IOW\, INTA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mnale de control: ALE, D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mnale de intrerupere: INTR, NM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mnale de ceas: CLK, PCL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mnale de alimentare: GND, +5V, 3,3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BED2-446E-4B66-8D07-358E4CF829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ecutia instructiuni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s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itirea instructiuni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itirea operanzil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ecutia operatie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lvarea rezultatulu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vit din afara procesorulu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iclu de citire instructiune din memorie -obligatori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iclu de citire operand/ operanzi - option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iclu de salvare a rezultatului – option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iclu de transf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 operatie de transfer pe magistrala care implic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orul si memoria s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orul si o interfata de I/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 ciclu se desfasoara pe durata unui numar de perioada de ceas (tact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 ciclu presupune o secventa de semnale pe magistrala (adrese, date comenz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45:52Z</dcterms:created>
  <dc:creator>gheorghe.sebestyen</dc:creator>
  <dc:description/>
  <dc:language>en-US</dc:language>
  <cp:lastModifiedBy>Dredd</cp:lastModifiedBy>
  <dcterms:modified xsi:type="dcterms:W3CDTF">2021-03-20T09:03:46Z</dcterms:modified>
  <cp:revision>23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