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A4D-8756-469F-90A1-ABB4598C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5CED-54A0-41DD-9736-23E7C224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EED-2C3E-489B-BFB0-4B121C468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1329-AE16-4C70-8E7A-B4D342AE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21CA-DAD5-48D4-99BD-A3E7C261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89B5-4B16-4E0D-B53C-A5F1C0E8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4C4-8C4C-415C-8781-C5FA6617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6E6-45BB-4D05-A96F-B6D22A2D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1CF0-3762-41CF-AD3E-6D679378E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C31-40B8-4C57-A5E6-4A6A61F6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3E6-00EC-4FCB-93D5-29671924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9AA-5DFF-460A-B0AB-B3D5D394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225-5087-4B0D-BD78-F79F2722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E613-0CD1-45F4-B3D5-AC234F63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86C7-539E-4A6E-98CA-397C259F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C20-5A40-406D-82C8-B840CDF5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F59-B4ED-4EC6-92C4-A6F377C53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424-DC9B-4841-9D72-832DE9B7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4984-1681-469A-8FFD-BECAA547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0B4E-2C49-461A-AF29-84444EE0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4D2B-F27E-4BE4-B852-D45D7ECD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25B-5036-4030-8C49-A72603DC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F65-F493-4B69-8A57-D106E5F3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2D7-EFD6-41F0-8B32-FC9AA37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87C-7A21-46BD-A4FB-DA5D7A0A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1A4-52BE-44F0-9044-DDBF79EE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90CE-4615-4DF9-AE34-CA09A729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5DD-F50E-4355-ACC1-DEF156F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B92-BF6D-4816-A835-EE9FDED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08F3-CAA7-42AA-B388-0EF45E4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63A6-EE35-480E-9A19-CE35D2F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1C5-2CC6-4ED5-8E72-BBBF106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830A-05D4-4CAA-A47A-C1A7B3D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4FB-29EB-4C5A-9F3A-7FE284B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49F-7D97-49C6-B502-B631D4C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F9A-FDB1-4D30-A3D1-582B497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C58C-52F7-4CF4-93A3-3518700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5059-A91F-4C2B-9765-5EA98992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A55-3BF8-4B14-94A1-D709A6CB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09B-2485-4214-8878-BB1EF766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12D-144C-4935-AD34-280F011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7CC-43FF-485B-844B-0F7AD27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BA9-E491-4CF8-95A1-C2A09A36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D0F-EDFB-4FB3-9E91-9B60DEB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0FF-D298-4EE1-BC8F-F5EFB6A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91F-D916-4E2E-8807-0528899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E4B-CA7C-4DA2-BC27-BDE83324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2F4-83C5-4FD6-B3B9-DA6D4189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CD42-D8A4-454A-873C-151EEEB944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5 Microprocesoare specializ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18F-2D92-433B-8CF3-DD33942ECC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plicatii ale procesoarelor de semn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783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ţionări electrice, moto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nzori inteligen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arate de masur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alizoare de semnal (ex. Osciloscop digit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aratura medic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doare/decodoare de semnal audio şi video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muri, controloare de comunicat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rumente muzical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ucării electronic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ntetizatoare de sunet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celeratoare grafice 3D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lucrarea primară şi recunoaşterea imaginil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4B0-1227-4ED3-B6DD-B7337CFCA0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imitari ale procesoarelor de semn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ecventa limitata a semnalului prelucr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mitarea vine din frecventa maxima de esantionare si durata procesari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antizarea valori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ori discr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lucrarea discreta in timp (si nu continua) a semnale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188-BDC4-4671-B57F-50831E3F44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crocontrolo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e: sistem de calcul intr-un singur circuit integrat VLS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CP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e ROM (de program)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e RAM (de date)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stem de intreruper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rturi de intrare/iesir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umaratoare/tim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roare analog/numerice si numeric/analog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te interfete (PWM, W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60F-E1A3-4E54-9504-EB80EC9EE6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tin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licatii de urmarire si de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steme incapsul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zori inteligen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st red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mensiuni mi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um red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DE7E-3486-4E88-8493-D35E65EE4C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ctura uC I 80C31/5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39640" y="1628640"/>
          <a:ext cx="8604360" cy="52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6043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919F-F2ED-4FC5-80B8-A4BF4C2461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ponentele uC I8031/5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C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unitatea centrală de prelucrare – asigură execuţia instrucţiunilor unui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memoria nevolatilă – conţine programul de aplicaţie şi eventualele constante de program; memoria poate fi de tip PROM (se înscrie o singură dată), EPROM (cu posibilitate de înscriere multiplă, off-line) sau EEPROM (cu posibilitate de scriere în timpul funcţionării programului); dimensiunea memoriei variază funcţie de varianta constructivă de la 0 la 32ko; ea se poate extinde prin adăugarea unei memorii exter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memoria de date – păstrează variabilele programului şi stiva; în prima parte a memoriei locaţiile pot fi adresate ca registre interne (4 seturi a cîte 8 registre); o zona de memorie poate fi adresată la nivel de bit; capacitatea memoriei depinde de varianta constructivă (128-512 octeţi); memoria RAM internă poate fi extinsă cu o memorie RAM extern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stemul de întreruper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gestionează cererile interne şi externe de întrerupere; sursele de întrerupere sunt: 2 linii externe de întrerupere, canal serial (recepţie sau transmisie de caracter) şi contoare (timer0,1,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eneratorul de cea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generează semnalul de ceas necesar pentru funcţionarea UCP şi furnizează o frecvenţă de referinţă pentru contoarele interne şi canalul se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ADB-FA2E-42F6-8616-DD2A88E65F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ponentele uC I8031/5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orturile de intrare/ieşir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permit achiziţia sau generarea de semnale digitale; pot fi 4 sau 6 porturi a cîte 8 semnale; un semnal poate fi utilizat ca intrare, iesire sau intrare/iesi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nalul seri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implementează protocolul de comunicaţie RS 232 (canal serial asincron, bidirecţional pe caracter); la unele variante poate să existe un canal serial suplimentar care implementează protocolul I2C; acest protocol permite construirea unei magistrale seriale în locul celei paralele clasi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imer 0, 1, 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set de 2 sau 3 contoare utilizabile pentru generarea periodică a unor întreruperi (ex: ceas de timp real), pentru numărarea unor evenimente externe sau pentru gerenarea frecvenţei de transmisie serial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NA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– convertor numeric/analogic – folosit pentru generarea unui semnal analogic; această componentă este prezentă numai la variantele mai complex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convertor analog/numeric – folosit pentru achiziţia unor semnale analogice; pot fi citite prin multiplexare pîna la 8 intrări analogi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WD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– watch do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WM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– puls Width modul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FB69-8303-46D9-B19F-8F1953E59F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racteristici ale uC I8031/5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CP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 redus de instructiu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ructiuni executate intr-un timp predefinit (ex: 1 u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32Ko – pentru 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na sau exter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8-256 octe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*8 registre inter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istrele speciale suprapuse peste spatiul de memorie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B8F9-2A71-4157-9781-E14B5CD282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e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56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ale seria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S23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2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rfete de retea (ex: CA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rturi de intrare/iesi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-6 porturi * 8 biti (intrari, iesiri sau semnale bidirectiona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re/numarato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orizare evenimente (impulsur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emporiz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nerare de semnale cu anumite frecv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eas de timp re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WM –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ntru generarea de semnale “continue” prin impulsu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ult mai ieftin si mai usor de realiza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D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ntru autocontrolul bunei functiona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etare in caz de eroar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614-A90B-47AA-A3B7-6E5135D563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uri de luc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im norm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ate componentele functionale (alimenta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teptare (idle mod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si generatorul de ceas aliment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onectare (power-dows mod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ar memoria RAM alimentata (pt. pastrarea datelo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607-9781-4505-B1DB-764E8C35EC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croprocesoare specializ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 arhitectura dedicata pentru un anumit scop bine determina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uri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crocontrolo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stem de calcul intr-un singur circuit integr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tinat pentru aplicatii de control )sisteme incapsulat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are digitale de semnal (DSP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tinate pentru aplicatii de prelucrare a semnale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steme incapsulate – System on Chip (So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bile – consum redus de energ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mp-real – timp de executie predictib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B3BB-8772-4F9D-A286-D92FFC91A5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riante de proceso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792000"/>
          <a:ext cx="7712280" cy="6224760"/>
        </p:xfrm>
        <a:graphic>
          <a:graphicData uri="http://schemas.openxmlformats.org/drawingml/2006/table">
            <a:tbl>
              <a:tblPr/>
              <a:tblGrid>
                <a:gridCol w="1152720"/>
                <a:gridCol w="1440000"/>
                <a:gridCol w="792000"/>
                <a:gridCol w="936720"/>
                <a:gridCol w="3390840"/>
              </a:tblGrid>
              <a:tr h="6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/ 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eza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ţ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0C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0C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C51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k RO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k EPROM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UART (RS 232)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contoare, 4 portur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C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C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C52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k 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k EPROM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UART (RS 232)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contoare, 4 portur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C5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C550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k 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k EPROM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UART (RS 232)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contoare, 4 porturi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canale de intrare analogice de 8 biţi, contor watch-dog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C5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C5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C552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k 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k EPROM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UART (RS 232), I2C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contoare, 6 porturi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canale de intrare analogice de 10 biţi, contor watch-dog, 2 canale de ieşire PWM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C5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C5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6k ROM16k EPR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E539-E976-40DB-BA51-117D4EF74E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lte familii de u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 - I8048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chip - PIC 12, PIC16, PIC1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torola 68C05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em on Chip (SoC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ircuit integrat care incorporeaza toate componentele unui sistem de calcul sau a unui alt sistem electronic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unctii de procesare digitala, analogica, mixt, RF (radio frequenc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licatii: dispozitive mobile, sisteme incapsulate, Internet of Thing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iferenta fata de microcontrolere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r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pacitate memorie, performanta proces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eriferi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istem de opera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9690-3B3B-4868-A57C-19529AFDBA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msung Galaxy S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9440" y="1847520"/>
            <a:ext cx="90550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oC: Exynos 889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emorie RAM: 4GB LPDDR4 1794MH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emorie externa: 32/64GB NAND (UFS)+ microS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pla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1” 1440pSAMOL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5" 1440p SAMOLED Dual 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S:Android 6 w/TouchW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teri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000mAh (11.55 WH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600mAh (13.86 WH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2334-241E-416F-B849-5D79D7DFBC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058080" y="3789360"/>
            <a:ext cx="3085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ynos 889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5480" y="1628640"/>
            <a:ext cx="797724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tex A53: 4 core @1.586GHz (AR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ynos M1: 4 core @2.6 GHz (Samsun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PU: Mali T880MP12@ 650MHz(AR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x 32-bitLPDDR4 @ 1794MHz28.7GB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3B0-C3F4-497F-B663-07083346B4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286000" y="4222800"/>
            <a:ext cx="52354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rtex A5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A7E-DD35-499B-B90B-C759F8EC03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0" y="2276640"/>
            <a:ext cx="5651640" cy="3759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5003640" y="1700280"/>
            <a:ext cx="3996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or pe 64 biti, 4 core, low power, dimensiune redu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hitectura ARM ARMv8-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-uri simet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PU, SIMD, HW cryptograp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31 registri pe 64 bi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rtualizare H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-order Pipe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erscalar (2xALU pipeli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LI T88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2920" y="4319640"/>
            <a:ext cx="885816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hitectura A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alabil: 1-16 Core-u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roceseaza blocuri de pixeli (4x4, 16x16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 proceseaza blocurile ident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Aliasing implementat H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ort HW pt procesare de imagini: OpenGL, DirectX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0DD-109F-41AB-A008-3B72563E43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004760" y="1638360"/>
            <a:ext cx="7678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CF7-61D2-4B1C-A19B-B33189C80C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oare digitale de sem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locuiesc schemele analogice de prelucrare a semnale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 ce prelucrare digitala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unitate mai mare la zgomot (datorită diferenţei relativ mari între cele două stări logice, zero şi unu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cizie mai m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zultatul prelucrării nu depinde de variaţiile de mediu (temperatură, umiditate) sau de variaţii ale tensiunilor de aliment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t fi implementate procedee complexe de prelucrare (exemplu: filtre cu un număr mare de poli), a căror implementare analogică este dificilă sau chiar imposibilă datorită preciziei limitate a component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petabilitatea în timp a procedeelor de preluc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dificarea procedeului de prelucrare nu implică modificarea schemei hardware (modificarea se face prin rescrierea programului de prelucrar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D72-9A5C-47B2-8C24-8B09F0C016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ceduri de prelucrare a semnalel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ltre, convolutii, transformate (Fourier, Laplace, Z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(t)=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f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X(t-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d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de: Y(t)- funcţia (semnalul) de ieşi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X(t)- funcţia (semnalul) de int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(t)- funcţia de transformare (de prelucrar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În domeniul digital integrala se transformă într-o sumă discretă de produse de form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(nT)=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f(kT)*X(nT-kT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k=-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de: Y(nT) – semnalul discret de ieşire (eşantionul 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X(nT) – semnalul discret de int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(nT) – funcţia discretă de transform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0F4-2473-4088-8BF5-71178610AB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 arhitecturale ale procesoarelor digitale de semn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nitatea de multiplicare şi acumulare repetitivă (MAC – Multiply and Accumula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locuieste o UAL clas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istrale multiple de date şi 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-4 magistra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e internă pentru date şi pentru 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RAM, ROM, pentru date, pentru progra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ri multiple de registre inter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i multe bancuri de regist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uri de adresare orientate pe şirur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dexare automata, buffere cicl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rucţiuni complexe de multiplicare şi acumul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i multe versiuni de instructiuni MAC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837-8B56-4C35-8299-5A4E85253B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Unitatea de multiplicare şi acumulare repetitivă (MAC – Multiply and Accumulat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042920" y="1827360"/>
          <a:ext cx="7274160" cy="477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27360"/>
                    <a:ext cx="727416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F146-0BD7-48B0-8B55-BD9A717283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interna a procesorului TMS320C2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42920" y="1700280"/>
          <a:ext cx="7705800" cy="46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7058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7D7-157C-4818-BEDA-61DB5AD6A4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interna a procesorului TMS320C2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RAM – blocuri de memorie RA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B0- 256*16 - date si program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B1- 256*16 –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B2-32*16 –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ROM – memoria interă pentru program (memorie nevolatilă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MAC – modul de multiplicare şi adun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AR0-7- registre auxili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ARP – poantor către registru auxili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DP – poantor de domeni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PC – numărător de instrucţiuni (Program Counte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F9C-D127-4B1A-A32B-7F106BA9B0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ariante de procesoare din familia TMS320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are pe 16 biţi în virgulă fixă: TMS320C10, TMS320C20 şi TMS320C5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are pe 32 de biţi în virgulă flotantă: TMS320C30  şi TMS320C4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hitectură multiprocesor orientată către aplicaţii multimedia: TMS320C8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0:41:33Z</dcterms:created>
  <dc:creator>gheorghe.sebestyen</dc:creator>
  <dc:description/>
  <dc:language>en-US</dc:language>
  <cp:lastModifiedBy>Dredd</cp:lastModifiedBy>
  <dcterms:modified xsi:type="dcterms:W3CDTF">2021-03-20T09:04:08Z</dcterms:modified>
  <cp:revision>25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