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EBE-8136-4933-936A-6721ECBD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59B-D4A8-4355-8386-01E5C65E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995-7243-4366-A44C-D00A0B259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FF49-738C-4064-89CB-EA074C73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236-BDCF-4F15-A719-7A91A16D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0B40-C3E4-4BC6-BACB-76322836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7E31-D0B7-4FE2-93A1-69C2BA15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B8C-D1CB-43EF-9BA5-9D12973C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D9F-67B2-43C4-9FB2-31302D04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DBC-6B32-40C9-B53F-2796FFA5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DE1-D1AF-40F7-8E9F-BDD77C2C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F92-1164-4B8B-A3BD-7A8346B28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98B-2D19-47A7-BA67-A24CD03F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1CA-C071-4F43-9C4D-4E9B4157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9C2-538B-4E56-8C83-90F26B34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F5F-19FB-4FA8-91FC-23EDDE68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F02-83C9-4CBA-8AD5-39F813F5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9697-9596-49B0-9A0F-3D12F045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563-7442-4359-8D21-CADEE847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9A5B-E429-4D36-9184-BF0267AA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12B-C881-4DAD-B4D0-C08A039F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88B-C374-44D2-8119-F4603C88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9C2-AD26-4D94-B325-8C825DDE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AAA-ECDD-4761-AD98-C483FEB9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1E65-405C-4FA2-893A-72E8776D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0F6-5CC3-4DA7-A972-FF69E8D2C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9070-F186-45C1-B6F3-311BA360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56B-58CA-4E39-A6D8-E6EFC81B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C91-8079-43E9-8F76-FB35A70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D02-CA4D-4DC3-B5E8-C6A62892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373-1A53-4EA7-BDB7-D2AD9C55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1079-3453-483A-9CF7-906F4623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E77-F856-4254-AC12-50241B4A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69C-DCD3-4FC2-8AE0-85DE11D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631D-8A38-488B-B373-8E1BB71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B4A2-5F4B-415F-ABC9-711E5A9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A611-9AC3-43BE-8D61-2AFE782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F45-7727-4407-90CE-6B48D1A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910-FE13-4A78-BF77-F11756E2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FD6-85D9-4CAB-B9A5-77C161C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BF40-6043-4D24-85CA-3A7CD55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53C9-EA83-4EFD-882D-3143EE79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646-6517-4317-A75E-ECD659B0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A48A-CEE5-45B0-85F6-676740C8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C3E-F666-430A-9A4E-0C57128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1E8-465E-4CD1-8B0B-EC692A4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8B5-F1D8-4C5A-A651-ECBDFC8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106-8850-44CD-AA48-FBFECDFC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CF8-6BF8-4B92-8B57-2D93B35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038-6D0E-426E-8528-D0147A0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538-C4A3-4B2B-8FE6-6247DC8E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727-DC64-4D88-B09A-ECE5FB82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26CD-CF02-45E4-8B4C-7BD6B7A32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7 Ierarhii de memor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asociativă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74680" y="1359000"/>
          <a:ext cx="8319960" cy="527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359000"/>
                    <a:ext cx="831996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asociativ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cipiu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linie este plasata in orice zona libera (cadru de linie gol) din memorie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locatie se regaseste in cache prin compararea campului propriu de descriptor cu descriptorii liniilor pastrate in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atie hardware – necesita foarte multe circuite de comparatie (un circuit/lini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atie secventiala – necesita mult timp pentru comparatii repet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tilizare eficienta a spatiulu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 limitat de linii cache si implicit capacitate redusa a memoriei cache – datorita operatiei de compa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set asociativ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457200" y="1692360"/>
          <a:ext cx="8321760" cy="48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2360"/>
                    <a:ext cx="832176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set asociati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iu: combinarea celor 2 metode anterioare, asociatica si cu mapare direc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i multe linii organizate in blocu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locurile identificate prin mapare direc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niile (in cadrul blocului) identificate prin metoda asociati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bina avantajele metodelor anterio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ar mare de linii, fara limitari de capaci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rea eficienta a capacitatii memoriei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zavantaj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 mai complex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a cache organizată pe secto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65040" y="1600200"/>
          <a:ext cx="8504280" cy="49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600200"/>
                    <a:ext cx="85042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a cache organizată pe secto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ncipiu: similar cu metoda set asociativa, dar ordinea este schimbat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torul (blocul) este identificat prin metoda asociativa, iar linia in cadrul sectorului prin metoda maparii direc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 si dezavantaje:similare cu metoda anterioa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rierea in memoria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a cu operatia de scriere: apare o inconsistenta intre memoria interna si copia din memoria cache daca scrierea se face numai in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metode posibi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Write bac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scriere numai in memoria chache si actualizare in memoria interna numai la descarcarea linie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: eficienta maxim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: inconsistenta temporara intre cache si memoria interna, critica in cazul sistemelor multi-master (multi-procesor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Write throug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scriere atat in memoria cache cat si in memoria inter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: nu exista inconsisten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: operatiile de scriere se fac la viteza (mai mica) a memoriei inter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r operatiile de scriere sunt mai rare decat cele de citire (in raport de 1 la 10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ficienta memoriei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9720" y="1508040"/>
            <a:ext cx="77724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 = tc + (1-Rr)*t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de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 – timpul de acces medi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p – timpul de acces al memorie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cip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c – timpul de acces al memoriei ca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r – rata de suc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-Rr) – rata de eşec ( miss ra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14400" y="3978360"/>
          <a:ext cx="7407360" cy="28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78360"/>
                    <a:ext cx="7407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virtual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iectiv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inderea memorie interne peste memoria exter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jarea zonelor de memorie impotriva unor accese neautoriz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hnici de implement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ginare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gmentare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gmentare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507680"/>
            <a:ext cx="78613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artirea memoriei in blocuri (segmen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resarea unei locatii pri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 de segment+Adresa de offset = Adresa fiz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asarea de atribute de acces la fiecare seg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accesul unui program sau task este limitat numai la locaţiile conţinute în segmentele care i-au fost aloc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se pot separa zonele de memorie funcţie de destinaţia acestora: cod, date, stiv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specificarea adresei relative în cadrul segmentului necesită un număr mai mic de biţi, ceea ce duce implicit la reducerea lungimii instrucţiunilo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segmentele unui program pot fi amplasate în diferite locuri ale spaţiului de adresare sau pot fi relocatate, cu modificări minore în codul program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rametrii de performanta ai unei memori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1905120"/>
          <a:ext cx="7616880" cy="4190760"/>
        </p:xfrm>
        <a:graphic>
          <a:graphicData uri="http://schemas.openxmlformats.org/drawingml/2006/table">
            <a:tbl>
              <a:tblPr/>
              <a:tblGrid>
                <a:gridCol w="2133720"/>
                <a:gridCol w="1674720"/>
                <a:gridCol w="1905120"/>
                <a:gridCol w="190332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D, C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64k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-2G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160G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p de ac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0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70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0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gment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189080" y="1508040"/>
          <a:ext cx="6948360" cy="21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508040"/>
                    <a:ext cx="69483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006560" y="3521160"/>
          <a:ext cx="6583320" cy="300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6560" y="3521160"/>
                    <a:ext cx="658332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8"/>
          <p:cNvSpPr/>
          <p:nvPr/>
        </p:nvSpPr>
        <p:spPr>
          <a:xfrm>
            <a:off x="3017880" y="3154320"/>
            <a:ext cx="384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ul adresei in modul r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468520" y="5989680"/>
            <a:ext cx="466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ul adresei in modul protej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gment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alii de implementare a segmentarii in Modul proteja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or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tin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dex – pozitia descriptorului de segment intr-o tabela de descriptor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I – table identification bit: GDT sau LD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PL – requested privilege level – nivelul de privilegiu pe care trebuie sa-l detina un task pentru a accesa segmentu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ptor de segme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roleaza accesul la segment prin elementele sale component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resa segmentulu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lungimea segmentulu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repturile de acces (privilegii)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abele de descriptori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neral Descriptor Table (GDT) – pastreaza descriptori pentru segmente comu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ocal Descriptor Tables (LDT) – unul pentru fiecare task; contine descriptori pentru segmente alocate unui singur ta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puri de descriptor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pentru segmente de Cod si de D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de siste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pentru porti de acces – controleaza accesul la functii ale sistemului de opera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canisme de protectie oferite prin segmentare (in cazul procesoarelor Intel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 la memorie numai prin descriptori pastrati in GDT si LD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GD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treaza descriptorii segmentelor accesibile mai multor tasku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LD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treaza descriptorii segmentelor alocate unui singur task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gmente protej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ile de citire si scriere sunt permise in functie de tipul segmentului (Cod sau date) si starea anumitor indicatori (pastrati in descripto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segmente de cod: citire instructiuni (in vederea executiei) si eventual citir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segmente de date: citire si eventual scri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ivele de privilegiu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vele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, 0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l mai privilegiat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, 3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l mai putin privilegi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velele 0,1 si 2 alocate pentru sistemul de operare, iar nivelul 3 pentru programele utiliz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task mai putin privilegiat nu poate accesa un segment cu nivel de privilegiu mai mare (ex: un program utilizator nu poate accesa segmente alocate sistemului de opera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artirea memoriei interne si externe in blocuri (pagini) de lungime fix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arcarea in memoria interna a paginilor care au probabilitatea cea mai mare de a fi utiliz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lementare similara cu memoria cac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e de proiect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mensionarea optimă a pagini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mplasarea în memorie a unei noi pagi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ăsirea paginilor în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ctarea paginilor care se descarcă din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a operaţiilor de scrier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ginarea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– implementare prin tehnica asociativ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1006560" y="1325520"/>
          <a:ext cx="7588080" cy="52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325520"/>
                    <a:ext cx="758808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731880" y="1692360"/>
          <a:ext cx="80470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1692360"/>
                    <a:ext cx="80470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 – operatia de scri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blema: la scriere apare o inconsistenta intre memoria interna si cea virtua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e mai critica in cazul sistemelor multi-master (multi-proc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utia: Write ba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hnica “write through” nu este fezabila deoarece timpul de acces la memoria externa este foarte mare, ceea ce ar afecta timpul mediu de acces la memor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erarhie de memor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676520" y="2666880"/>
            <a:ext cx="1523880" cy="2971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666880" y="3962520"/>
            <a:ext cx="457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886200" y="3200400"/>
            <a:ext cx="1371600" cy="2133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172200" y="1905120"/>
            <a:ext cx="2286000" cy="350496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124080" y="43434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105520" y="4419720"/>
            <a:ext cx="1066680" cy="228600"/>
          </a:xfrm>
          <a:prstGeom prst="leftRightArrow">
            <a:avLst>
              <a:gd name="adj1" fmla="val 50000"/>
              <a:gd name="adj2" fmla="val 9289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52480" y="2743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28600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73392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ie interna (operativ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553080" y="3200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ie virtu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438280" y="5715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AM             DRAM                     HD, CD, DV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incipii in favoarea ierarhizarii memorie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itate temporal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probabilitatea este  mare ca o locatie accesata sa fie solicitata si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itate spatial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probabilitatea este mare ca si vecinii locatiei accesate sa fie solicit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90/1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90% din timp se executa 10% din 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deea de baz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de a aduce mai aproape de procesor acele zone de memorie care au o probabilitate mai mare de a fi utiliz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e foarte rapida, de capacitate 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cea mai apropiata de proces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re: linii de memorie cac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streaza copii ale unor zone (linii) din memoria inter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cache nu este vizibila programator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ul intre memoria cache si memoria interna se face automat sub controlul Unitatii de mamagement a memoriei (MM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rametrii tipici ai unei memorii cach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3049560"/>
                <a:gridCol w="42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mensiune memo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kocteţi-2Mocte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mensiune linie 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256 octeţ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p de ac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-10 n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eza de transfer (lăţime de band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-5000Mocteţi/sec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 circ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M-ul intern al procesorului sau RAM static exter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memoriilor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e de proiect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.Care este dimensiunea optimă a unei linii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.Unde se amplasează o nouă linie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.Cum se regăseşte informaţia conţinută în memoria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.Care linie se înlocuieşte în cazul în care memoria este plină şi se solicită transferul unei noi linii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.Cum se rezolvă operaţiile de scrier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rhitecturi de memorii cach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cu mapare direct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asocia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set asocia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organizate pe secto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i cache cu mapare directă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762120" y="1752480"/>
            <a:ext cx="7848360" cy="4496040"/>
            <a:chOff x="762120" y="1752480"/>
            <a:chExt cx="7848360" cy="4496040"/>
          </a:xfrm>
        </p:grpSpPr>
        <p:graphicFrame>
          <p:nvGraphicFramePr>
            <p:cNvPr id="123" name="Object 4"/>
            <p:cNvGraphicFramePr/>
            <p:nvPr/>
          </p:nvGraphicFramePr>
          <p:xfrm>
            <a:off x="762120" y="1752480"/>
            <a:ext cx="7848360" cy="4496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752480"/>
                      <a:ext cx="7848360" cy="44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Rectangle 6"/>
            <p:cNvSpPr/>
            <p:nvPr/>
          </p:nvSpPr>
          <p:spPr>
            <a:xfrm>
              <a:off x="7848720" y="2438280"/>
              <a:ext cx="6858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7864560" y="278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7864560" y="315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7864560" y="3703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7864560" y="4068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7864560" y="443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786456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1554120" y="3154320"/>
              <a:ext cx="6675480" cy="2286000"/>
            </a:xfrm>
            <a:custGeom>
              <a:avLst/>
              <a:gdLst/>
              <a:ahLst/>
              <a:rect l="l" t="t" r="r" b="b"/>
              <a:pathLst>
                <a:path w="4205" h="1440">
                  <a:moveTo>
                    <a:pt x="0" y="0"/>
                  </a:moveTo>
                  <a:lnTo>
                    <a:pt x="0" y="1440"/>
                  </a:lnTo>
                  <a:lnTo>
                    <a:pt x="4205" y="1440"/>
                  </a:lnTo>
                  <a:lnTo>
                    <a:pt x="4205" y="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 rot="16200000">
              <a:off x="1462680" y="2513160"/>
              <a:ext cx="274680" cy="1006560"/>
            </a:xfrm>
            <a:custGeom>
              <a:avLst/>
              <a:gdLst>
                <a:gd name="textAreaLeft" fmla="*/ 175680 w 274680"/>
                <a:gd name="textAreaRight" fmla="*/ 275040 w 27468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3108240" y="50752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114800" y="3429000"/>
              <a:ext cx="3108240" cy="457200"/>
            </a:xfrm>
            <a:custGeom>
              <a:avLst/>
              <a:gdLst/>
              <a:ahLst/>
              <a:rect l="l" t="t" r="r" b="b"/>
              <a:pathLst>
                <a:path w="1958" h="288">
                  <a:moveTo>
                    <a:pt x="0" y="0"/>
                  </a:moveTo>
                  <a:lnTo>
                    <a:pt x="1958" y="0"/>
                  </a:lnTo>
                  <a:lnTo>
                    <a:pt x="1958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658332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76584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695016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713268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731520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749772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768024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i cache cu mapare direct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iu: adresa unei linii in memoria cache este determinata direct (un camp) din adresa fizica a liniei – “direct mapp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ag-ul este folosit pentru a face diferenta intre linii care in principiu ocupa aceeasi pozitie in memoria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or de implement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or de a plasa, de a regasi si de a inlocui o lin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anumite cazuri doua linii se inlocuiesc repetat, chiar daca memoria cache nu este pli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tilizare ineficienta a spatiului de memorie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2:07Z</dcterms:created>
  <dc:creator>xxx</dc:creator>
  <dc:description/>
  <dc:language>en-US</dc:language>
  <cp:lastModifiedBy>neagumada@yahoo.com</cp:lastModifiedBy>
  <dcterms:modified xsi:type="dcterms:W3CDTF">2017-03-02T18:42:12Z</dcterms:modified>
  <cp:revision>27</cp:revision>
  <dc:subject/>
  <dc:title>Sisteme cu microprocesoare</dc:title>
</cp:coreProperties>
</file>