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E49F-63F9-4899-947F-81E5D7945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FF85-1941-460D-8AF8-E01A12D7B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B20B-1BFC-40CC-9D57-B77EB55BE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FD40-CE7A-4E59-954A-8F224C1CF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01D4-B226-4C66-B0F7-330FCD4D8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70E4-975D-4A3B-A815-858B42042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D2C6-A64C-433F-AEAE-73D5D6EFA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245F-0024-433E-920B-5B6D8E985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F762-89DF-4995-BA19-A888DC7DD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D4E5-7357-4534-9EDF-2CAE4EF47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18C8-6FCD-4439-BD50-55675C75A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3F49-33AC-4C1A-9690-14A54492F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3176-CBB4-4BBC-AEA1-9023F5971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B44B-639A-45CA-AB04-41F109864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D5D4-58C8-4680-A313-9E383B91E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48DF-D097-4306-99A1-2E276D810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B600-6532-4AEB-BCC0-5D10D6663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FF36-CA3A-4223-A68B-A92149BAB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1D4B-9797-4705-B590-9B41C4B6B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6E5F-907B-4FEA-8995-A031ACED5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716F-EE64-464A-AFAA-7552FA7A1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9D7B-B1C9-42BF-80E2-CC806FB28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F84D-6304-4C46-BFA3-F3716657E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8C0D-5C93-40C2-8766-6470377E1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6EBE-45D5-42B3-8224-86ED681C8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FC05-C325-44F8-A69E-868D6291E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7290-FC73-412F-9ECD-350CD6A1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152F-7BC6-4EC6-86E6-0E466E122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EADD-6CB0-41C3-B900-77840685A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6D75-CFC9-440E-884F-27FC759A2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CE63A-6E79-40BC-A9C3-EA777464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2945-A661-4E72-A2BD-6E8FEF37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6254-A377-40DF-92FB-FD282EDD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374F-24C0-474E-9CB4-BA07247A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D3AC-2F01-47D4-B4A3-EAF57DB0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B893-0612-403F-8A9B-8394D302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6104-9F09-4173-BCD5-CA80D125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E32E-AB47-4528-83DE-745D0CCE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6934B-2B15-4699-9824-D078D727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3FCD-BE84-4F4E-8C4C-A20F2853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8FD0-A554-487B-BF98-BA51F704C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D355E-740A-4D60-A7FC-020FAB1BB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E756-858A-4EE8-935D-2FADD6C5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3614-25F3-4C1B-AB91-8FDBA3EA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3BB9-0B1B-4731-AC15-E191EFCE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0528-A5E2-4976-BFAC-3226A42C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BE7E-74D1-43B1-9A71-B5AF075F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66E6-62C1-4AB1-8E9E-6DFFEDE9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F768-0C29-4CF8-9351-24481266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A3EF-2C60-4835-8CE7-2561B7EC1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E780-8B40-4CD7-9087-2B021E227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0058-A0D2-4C80-BB07-3B3D095F88E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Sisteme cu microprocesoar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ursul 8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iectarea interfetelor de intrare/iesi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7061-A8C2-4116-9656-FCE78900F21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ransferul prin program, avantaje si dezavantaj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vantaje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impl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sor de implementa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efti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zavantaje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cesorul este blocat pe toata durata transferulu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efici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0CD2-328F-448A-8483-9EE0973DF14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ansfer prin întreruper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aracteristicile transferului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lutioneaza problema sincronizarii in faza de transfer propriu-zi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cesorul poate efectua alte operatii in paralel cu transferu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cesorul se ocupa pe mai departe de initializare, transfer de date si finaliza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Intreruperea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: oprirea temporară a execuţiei unui program, la comanda unui semnal extern sau a unui eveniment inter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eservirea unei intreruperi: prin executia unei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rutine de intrerupe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Tabela de intreruperi: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tine adresele rutinelor de tratare a intreruperilo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5B7B8-ADC3-405E-A9DA-CE1E5C38939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ratarea intreruperilor multi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6" name="Object 4"/>
          <p:cNvGraphicFramePr/>
          <p:nvPr/>
        </p:nvGraphicFramePr>
        <p:xfrm>
          <a:off x="539640" y="2178000"/>
          <a:ext cx="7993080" cy="46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178000"/>
                    <a:ext cx="799308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DD70-CEA3-4D57-9696-7EBCD8031B4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istemul de întreruperi al familiei de procesoare Intel x86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71640" y="1827000"/>
            <a:ext cx="771192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256 de nivele de intrerupe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treruperi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terne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vizare cu 0, intreruperi software (INT n), intrerupere de trasare, depasire de capacitate, breakpoi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xtern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mascabile: NM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scabile INT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lidarea/invalidarea intreruperilor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TI: set interrupt – IF=1 - valida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: clear interrupt – IF=0 – invalidare (mascar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F28F-C24E-4198-BB77-01E8A72F3FD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Deservirea unei cereri de intrerupere de catre microproceso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alvează pe stivă adresa instrucţiunii următoare şi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ţinutul registrului de stare program PSW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enerează două cicluri INTA (INTerrupt Acknowledge) pentru confirmarea acceptării întreruperii şi pentru identificarea sursei de întrerupere; în al doilea ciclu citeşte vectorul întreruperii  de pe magistrala de da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xecută salt la rutina de tratare a întreruperii; adresa rutinei este citită din tabela de întreruperi, folosind ca index vectorul de întrerupere citit anteri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a terminarea execuţiei rutinei de întrerupere extrage de pe stivă starea programului întrerupt şi adresa de reveni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 continuă execuţia programului întrerup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1AA2-EBD3-46A9-A966-CE32C1D94CA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ipuri de intreruper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ardware: generate de un semnal exter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mnale de intrerupere: INTR, NM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mnal de identificare a intreruperii: INTA/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urse de intreruper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Interfete de intrare/iesire: mouse, tastatura, HDD, retea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Detectoare de defect: eroare de paritate la dat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ftware: generate prin instructiun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imuleaza intreruperile hardwar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losite pentru apelul unor functii ale sistemului de operare: apeluri sistem (INT 21H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ipuri de instructiuni de intreruper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INT 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INTO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INT 3 (breakpoint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994F-9A84-429F-B76F-8984A74DF0E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ntrolorul de întreruperi I8259A 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6946920" cy="102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sponsabil pentru gestionarea a 8 intreruperi extern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0" name="Object 4"/>
          <p:cNvGraphicFramePr/>
          <p:nvPr/>
        </p:nvGraphicFramePr>
        <p:xfrm>
          <a:off x="900000" y="2852640"/>
          <a:ext cx="7848720" cy="35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852640"/>
                    <a:ext cx="784872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ECC2-20EA-4EEC-BA69-6261DB63F40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tructura interna a controlorului de intreruperi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4" name="Object 6"/>
          <p:cNvGraphicFramePr/>
          <p:nvPr/>
        </p:nvGraphicFramePr>
        <p:xfrm>
          <a:off x="934920" y="1989000"/>
          <a:ext cx="7524720" cy="446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4920" y="1989000"/>
                    <a:ext cx="7524720" cy="44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FA75-260E-4DED-B0BB-4DF6B9FE0B3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Programarea controlorului de intreruperi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uvinte de initializare (folosite o singură dată la pornirea sistemului) - ICW0-4 (Initialization Command Word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uvinte de operare (folosite pentru modificarea dinamică a modului de lucru ) - OCW0-3 (Operation Command Word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in programare se definesc următorii parametri de funcţionar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odul de lucru 8080 sau 8086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odul de detecţie a întreruperilor: pe front (la tranziţia din 0 în 1) sau pe ni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odul de imbricare a întreruperilor: normală sau specială (imbricare=deservirea unei alte întreruperi în timpul execuţiei unei rutine de întrerupere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pul de prioritate: fixă sau rotativă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oziţia întreruperilor deservite în tabela de întreruperi (adresa de bază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37C3-004E-45DF-8AD1-D361A5872E5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ecventa de deservire a unei intreruperi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99640" y="1827000"/>
            <a:ext cx="77835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Interfata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genereaza o intrerupere prin activarea unui semnal IRQi catre 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controlo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Controlorul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verifica daca intreruperea este permisa si nu este alta mai prioritara in curs de deservir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aca intreruperea este permisa se genereaza o intrerupere catre 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procesor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prin activarea semnalului INT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upa terminarea instructiunii curente, 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Procesorul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genereaza doua cicluri INTA pt. identificarea sursei de intreruper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e al doilea ciclu 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controlorul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pune pe liniile de date ale magistralei vectorul intreruperii curen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Procesorul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foloseste vectorul ca index in Tabela de intreruperi pentru a citi adresa Rutinei de intreruper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Procesorul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alveaza pe stiva adresa de revenire si starea dupa care face un salt la Rutina de intreruper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a sfarsitul rutinei de intrerupere 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procesorul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a o comanda catre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 controlor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pentru incheierea intreruperii curente (EOI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a executia instructiuni IRET (revenire din rutina de intrerupere) 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procesorul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ia de pe stiva adresa de revenire si face salt la aceasta adresa, continuind programul intrerup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3E14-7207-4DA7-A7D8-06CDD0EC087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erfete de intrare/iesi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560" y="1628280"/>
            <a:ext cx="4321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olul: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daptarea particularităţile unui/unor dispozitiv(e) periferice de intrare/ieşire la cerinţele unui anumit sistem de calcul (adaptarea la o magistrala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e se adapteaza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mnal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cventa de transmisie si receptie a datelo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Ritmul/viteza/frecventa de transfer – interfata este un buffer temporar de da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ructura: 2 parti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aptor de magistral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aptor pentru un anumit dispozitiv periferic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3" name="Group 17"/>
          <p:cNvGrpSpPr/>
          <p:nvPr/>
        </p:nvGrpSpPr>
        <p:grpSpPr>
          <a:xfrm>
            <a:off x="5508720" y="1773360"/>
            <a:ext cx="3313080" cy="3887640"/>
            <a:chOff x="5508720" y="1773360"/>
            <a:chExt cx="3313080" cy="3887640"/>
          </a:xfrm>
        </p:grpSpPr>
        <p:grpSp>
          <p:nvGrpSpPr>
            <p:cNvPr id="104" name="Group 16"/>
            <p:cNvGrpSpPr/>
            <p:nvPr/>
          </p:nvGrpSpPr>
          <p:grpSpPr>
            <a:xfrm>
              <a:off x="6012000" y="2133720"/>
              <a:ext cx="2701800" cy="3527280"/>
              <a:chOff x="6012000" y="2133720"/>
              <a:chExt cx="2701800" cy="3527280"/>
            </a:xfrm>
          </p:grpSpPr>
          <p:sp>
            <p:nvSpPr>
              <p:cNvPr id="105" name="Rectangle 4"/>
              <p:cNvSpPr/>
              <p:nvPr/>
            </p:nvSpPr>
            <p:spPr>
              <a:xfrm>
                <a:off x="6012000" y="2133720"/>
                <a:ext cx="2701800" cy="1429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Rectangle 5"/>
              <p:cNvSpPr/>
              <p:nvPr/>
            </p:nvSpPr>
            <p:spPr>
              <a:xfrm>
                <a:off x="6083280" y="2710080"/>
                <a:ext cx="2376000" cy="143964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7"/>
              <p:cNvSpPr/>
              <p:nvPr/>
            </p:nvSpPr>
            <p:spPr>
              <a:xfrm>
                <a:off x="6154560" y="2781360"/>
                <a:ext cx="2231640" cy="57456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8"/>
              <p:cNvSpPr/>
              <p:nvPr/>
            </p:nvSpPr>
            <p:spPr>
              <a:xfrm>
                <a:off x="6154560" y="3429000"/>
                <a:ext cx="2231640" cy="64764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9"/>
              <p:cNvSpPr/>
              <p:nvPr/>
            </p:nvSpPr>
            <p:spPr>
              <a:xfrm>
                <a:off x="6443640" y="4581720"/>
                <a:ext cx="1728360" cy="107928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Text Box 10"/>
              <p:cNvSpPr/>
              <p:nvPr/>
            </p:nvSpPr>
            <p:spPr>
              <a:xfrm>
                <a:off x="6443640" y="4726080"/>
                <a:ext cx="1656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Dispozitiv periferic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AutoShape 11"/>
              <p:cNvSpPr/>
              <p:nvPr/>
            </p:nvSpPr>
            <p:spPr>
              <a:xfrm>
                <a:off x="6946920" y="2276640"/>
                <a:ext cx="360000" cy="433440"/>
              </a:xfrm>
              <a:prstGeom prst="upDownArrow">
                <a:avLst>
                  <a:gd name="adj1" fmla="val 50000"/>
                  <a:gd name="adj2" fmla="val 23969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Text Box 12"/>
              <p:cNvSpPr/>
              <p:nvPr/>
            </p:nvSpPr>
            <p:spPr>
              <a:xfrm>
                <a:off x="6227640" y="2781360"/>
                <a:ext cx="1871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Interfata cu magistrala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Text Box 13"/>
              <p:cNvSpPr/>
              <p:nvPr/>
            </p:nvSpPr>
            <p:spPr>
              <a:xfrm>
                <a:off x="6298920" y="3429000"/>
                <a:ext cx="1944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Interfata cu disp. periferic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AutoShape 14"/>
              <p:cNvSpPr/>
              <p:nvPr/>
            </p:nvSpPr>
            <p:spPr>
              <a:xfrm>
                <a:off x="6946920" y="4076640"/>
                <a:ext cx="360000" cy="505080"/>
              </a:xfrm>
              <a:prstGeom prst="upDownArrow">
                <a:avLst>
                  <a:gd name="adj1" fmla="val 50000"/>
                  <a:gd name="adj2" fmla="val 27930"/>
                </a:avLst>
              </a:prstGeom>
              <a:solidFill>
                <a:srgbClr val="cc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5" name="Text Box 15"/>
            <p:cNvSpPr/>
            <p:nvPr/>
          </p:nvSpPr>
          <p:spPr>
            <a:xfrm>
              <a:off x="5508720" y="1773360"/>
              <a:ext cx="33130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agistrala sistem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adrese, date comenzi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A9BE-873E-43EF-897F-CFCC1F65F0B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istemul de întreruperi al calculatoarelor personale compatibile IBM PC 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 controloare de intrerupe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treruperi hardwar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mer de cea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astatur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anale serial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terfata de impriman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terfata FDD/HD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terfata de rete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treruperi softwar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treruperi BIOS: tastatura, interfata video, canal serial, interfata de imprimanta, interfata flopp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peluri sistem (INT 21h): citire canal standard de intrare, scriere canal de iesire, citire/scriere disc, etc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8165-0D2A-4BF2-B894-B8F3E0CA092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xemplu de redirectare a unei intreruperi softwar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1744560"/>
            <a:ext cx="79279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VECT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DW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2 DUP(?)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; aici se salvează vechiul vector d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; întrerupe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;initializa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……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..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AH, 35h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; 35h-funcţie sistem pentru citirea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;vectorului de întrerupe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AL, n 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; n – nivelul de întrerupere redirecta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INT 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21h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;apelul funcţiei sistem; funcţia returnează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;în ES:BX adresa rutinei de la nivelul 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VECT, BX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; salvare adresă offse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BX, 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VECT+2, BX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; salvare adresă segment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AX, SEG RUT_INT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DS, AX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;DS &lt;- adresa de segment a noii rutine d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; tratare a întreruperii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DX, OFFSET RUT_INT   ; DX &lt;- adresa de offset a noii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; rutine de întrerupere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MOV 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AH, 25h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;25h - funcţia de scriere vector; în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;DS:DX se pune adresa rutinei de întrer.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AL,n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;n – nivel de întrerupe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INT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21h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;apelul funcţiei sistem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………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; program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………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INT 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……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; sfîrşit program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AX, VECT+2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; refacerea adresei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DS, AX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DX, VECT  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MOV 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AH, 25h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; funcţia de scriere vector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AL,n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; n – nivel întrerupe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INT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21h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; înscrierea vechiului vector în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;tabela de intreruperi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……</a:t>
            </a: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9BB5-0CE8-4765-BB47-32A9BF863E7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ontinua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;rutina de tratare a întreruperii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UT_INT    PROC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FAR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; noua rutina de tratare a intreruperii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USH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; salvarea registrelor utilizate în cadru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; rutinei (r = AX, BX, ….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TI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; validare întrerupe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………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.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; corpul rutinei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………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.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; sfîrşitul rutinei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OP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; refacere registre salvat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IRE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UT_INT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NDP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81ED-81DF-49E1-8311-65C80883E38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xemplul 2 – programarea unei intreruperi hardwar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A00   EQU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0H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; adresa portului 0 din controlorul de întreruper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A01   EQU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1H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; adresa portului 1 din controlorul de întreruper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OI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EQU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0h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; comanda de incheiere intrerupe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CA  EQU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1011111B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; mască pentru validarea intrării nr. 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CA1  EQU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00100000B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; mască pentru invalidarea intrării nr. 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………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; initializare întrerupe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; invalidarea întreruperilor mascabil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X, SEG RUT_IN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S, AX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X, OFFSET RUT_INT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V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H, 25h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; 25h - funcţia de scriere vect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, 5+8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; 5+8= nivel de întrerupere progra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;adresa de bază a primului controlor de întreruperi este 8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1h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; apel de funcţie si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X, INTA0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,DX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; citire registru de mască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, MASCA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; şterge bit mască pt. întreruperea 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U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X,AL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; validare intrare de întrerupe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I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; validare întreruperi mascabi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………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; progra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……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A6DA-77BB-40E5-AA48-20083423792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ontinua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; sfîrşit progra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X, INTA0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,DX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; citire registru de mască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, MASCA1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; setează bitul mască pt. întreruperea 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U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X,AL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; invalidarea intrării de întrerupe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……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;rutina de tratare a întreruperi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UT_INT  PROC   FAR       ; noua rutina de tratare a intreruperi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SH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; salvarea registrelor utilizate in cadrul rutine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I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; validare întreruper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………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; corpul rutine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………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;sfîrşitul rutine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X, INTA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,EOI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U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X, AL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; comandă de sfîrşit întrerupe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P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; refacere registre salvate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RE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UT_IN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D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40F1-16A1-4604-B5C3-DBAB5EF1B12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hema de principiu a unei interfete de intrare/iesir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755640" y="1700280"/>
          <a:ext cx="8209080" cy="493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700280"/>
                    <a:ext cx="8209080" cy="49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5162-E1B0-47E3-BB25-4FF80118B70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omponente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terfata de magistrala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registre de date (de intrare şi/sau ieşir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registre de comenz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registre de star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loc de selecţie a registrelor (decodificator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ispozitiv de comandă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terfata de dispozitiv periferic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aptoare/convertoare de semna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morie tampon (RAM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morie de program (driver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trolor de dispozitiv (floppy, HDD, video, etc.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trolor DM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tc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3A55-574B-4C80-A03D-DF3BB31E8FE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oduri de transf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unctia principala a unei interfete: Transferul de da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ipuri de transfer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Transfer prin progra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Transfer prin intreruper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Transfer prin acces direct la memorie (DMA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Transfer prin procesor de intrare/iesi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iferite grade de implicare a procesorului princip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legerea modului de transfer optim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teza de transfe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mplexitatea transferulu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strictii de timp si de cos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2760-87C1-4C6B-9A63-0140A111770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azele unui transf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itializarea transferulu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arcini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rectia de transfer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r. de date transferate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esa zonei de memorie unde/de unde se transfer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ransferul propriu-zi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arcini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ansferul de d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ncronizarea transferului cu disp. Periferi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nalizarea transferulu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arcini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ificarea corectitudinii transferulu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75C8-A298-4503-B438-CCABD7AF386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ransferul prin program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el mai simplu mod de transf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ardware simpl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gram simplu de transf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cesorul se ocupa de toate fazele transferului, pe baza unui program (rutina, driver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itializa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ransfer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inalizare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7E85-3A81-4407-882E-1719D44BEAD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xemplu de program – fara semnal de control (de reactie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uf: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B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100 DUP(?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buf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QU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$-buf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; lungimea bufferulu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rport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QU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300h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; adresă port de intrar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……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; iniţializare transf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ov si, offset buf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; iniţializare poantor memori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ov dx, adrport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; iniţializare adresă por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ov cx, lbuf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; iniţializare conto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……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; transfer de da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t1: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 al, dx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; citire port de intrar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ov [si], al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; memorare dată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c si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; avans poanto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all delay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; apel rutină de întîrzier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op et1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; buclare (testare încheiere transfer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……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.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2598-4BD7-41AD-B6BB-FC5A77E7CF7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xemplu de program – cu semnal de control (de reactie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856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buf: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DB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100 DUP(?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lbuf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EQU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$-buf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; lungimea bufferului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adrport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EQU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300h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; adresă port de intrar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adrstare EQU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301h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; adresă registru de star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asca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EQU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01h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; mască pentru bitul D0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imeout  EQU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100h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; limită de timp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……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; iniţializare transfer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ov si, offset buf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; iniţializare poantor memori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ov dx, adrport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; iniţializare adresă por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ov cx, lbuf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; iniţializare contor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……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; transfer de dat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et1: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ov bx, timeout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;iniţializare limită de timp pt.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;aşteptar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inc dx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; adresă registru de star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et2: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in al, dx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; citire port de intrar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and al, masca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; testare bit de star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nz et3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; testare bit de stare set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dec bx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; decrementare contor de timp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mp bx,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; test depăşire limită de timp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nz et2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mp sfîrşit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; salt la sfîrşit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et3: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dec dx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; adresă port de intrar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in al, dx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; citire por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ov [si], 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; memorare dată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inc si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; avans poantor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loop et1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; buclare (testare încheiere transfer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; verificarea corectitudinii transferului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sfîrşit: cmp cx,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; se verifică dacă transferul s-a închei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nz eroare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; corect (contor=0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……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07:39:45Z</dcterms:created>
  <dc:creator>gheorghe.sebestyen</dc:creator>
  <dc:description/>
  <dc:language>en-US</dc:language>
  <cp:lastModifiedBy>Dredd</cp:lastModifiedBy>
  <dcterms:modified xsi:type="dcterms:W3CDTF">2021-03-20T09:05:03Z</dcterms:modified>
  <cp:revision>17</cp:revision>
  <dc:subject/>
  <dc:title>Sisteme cu microprocesoa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