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2DED-E1E0-4CA3-8D94-A25923FC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900-AB2B-4CAB-A2C9-C546A4EC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1EC7-B4F9-4101-8284-595C553A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8CD0-C651-475F-95D5-B356F533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C26D-7A37-46D4-A62D-B6F8996C8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A12-27F0-4054-9212-A9C7C99C1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087-4F47-4A56-ADD0-E61B7858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C97-1FD5-4695-81B8-B2893D8B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9964-5A0F-4165-B409-D5687AF1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F38-7FA0-44E3-9CC1-FD059A6C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EAB-84B8-4A37-9A98-A0254506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AC8-3009-4979-B279-C7DEFBE8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309-9622-47E3-9B9C-7F9A0FCE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38A-3BBE-4B66-87B9-81AADDB5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203-6C55-4A44-9147-ED68DEBE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96B-EA3F-4E0C-AD34-7AC76A68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7F8D-9297-47AB-86D5-E54162EA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A4E1-CF28-48A1-9B79-D8366D3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9F7-05CC-4099-812E-0C7566D4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7B34-D49E-4D72-A547-ACC823F6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04E7-90EF-439E-95E9-2FB0A31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58E6-A2F1-4358-B570-0A104C9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6C0-BE2E-47D4-AEDA-D07625AA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47C-2CF1-49C6-AB81-0878409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8EF-B90B-403A-8940-8CB4A029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7A6-BBC2-45F4-93AC-A7EFE75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99F-57D8-4B24-B738-4F47FF57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E57D-2DD7-4E4E-A206-78C8E52F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829-B3A2-4C26-9B1B-B8B39D9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BF4-75D1-4486-B7E1-4CC2A62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8E1-BB6B-4DD3-83DB-B9331F7E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EB5-51CA-4349-B67F-C4CC6A2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BAF-6822-4663-B8FE-F89C3CE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58C-60A7-4FFB-B8FD-4522749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73C-8966-438C-9372-E612AA9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7FB-B334-47FD-9687-92FEE7578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F19-0B9E-4906-9E40-2CD19021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D76-8341-4D07-8265-47DC60CFA6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9 Proiectarea interfetelor de intrare/iesire (continuar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827C-F305-4FA5-80E7-EE0FEFB486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aratie intre modurile de transf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049480"/>
                <a:gridCol w="1439640"/>
                <a:gridCol w="1368360"/>
                <a:gridCol w="1008360"/>
                <a:gridCol w="1447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icare proces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pro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intrerup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D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procesor de I/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11CF-68C0-4F31-B086-62261F1424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ta serial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3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rfete cu dispozitivele periferic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iale – numar redus de semnale, transfer bit-cu-b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ralele – numar mai mare de linii paralele de date (de obicei 8 semnale de date + semnale de contro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a serial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ul datelor se face pe un numar restrans de fire (2 sau 3 pe directia de transfer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misie bit-cu-b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olosita pentru transmisia la distanta a dat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alizeaza interconectarea unui calculator cu un dispozitiv periferic sau interconectarea a 2 (sau mai multe) calculato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ipuri de transfer seria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modull de realizare a sincronizarii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serial sincron – controlat de semnal de ce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asincr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modul de interconecta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unct-la-punct – conectarea a 2 echipamen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lti-punct – mai multe echipamente pe acelasi trons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directia de transfer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unidirection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bidirectional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ull duplex – 2 directii independen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lf duplex – 2 directii, alternativ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CE4D-281C-4001-A31F-B9A84D8AB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 serial sincr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182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a: sincronizarea intre emitator si receptor; cand este momentul optim de citire a urmatorului b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ansferul sincron = ritmul de transfer controlat prin semnal de ce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mp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2C – magistrala seriala pentru microcontrolo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fata de tastatura la PC-ur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e: simplu, usor de implementat, relativ sigu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e: fir suplimentar pentru ceas, distanta redusa de transmis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258920" y="4437000"/>
          <a:ext cx="6985080" cy="20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437000"/>
                    <a:ext cx="6985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8D4-B4CD-42CD-AD5B-BE7E12AF66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 serial asincr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ncronizarea se face prin structura specifica a datelor transmi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r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asincron pe caract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asincron pe mesa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ile de comunicatie stabilite printr-un protocol (standard) de transmi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tocolul stabilest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ul de codificare a informatiilor binare (ex: nivel de tensiune, nivel de curent, etc.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atura mediului de comunicatie (fire torsadate sau coaxiale, fibra optica, etc.); topologi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datelor transmi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sincroniz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detectia erorilor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controlul fluxului de d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929-16D5-4B0E-BEA5-D54ED3ED08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dificarea informatiilor: nivele de tensiu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0” – (+3..+15V) ; de obicei 12V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” – (-3..-15V) de obicei -12V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diu de comunicatie: fire electrice (si telefonic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ructura datelor transmis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ncronizarea: prin bit de start, stop si frecvente prestabilite: 300,600, 1200, 2400,… 19200 Bau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tectia erorilor: prin bit de parit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03280" y="3716280"/>
          <a:ext cx="6840720" cy="18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6840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489D-8B31-4A01-8AC0-B1656F8249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ul fluxului de da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rdware – prin perechi de semnale de contro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R-DTR – Dataset ready, Data Terminal Rea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TS-CTS – Request to Send – Clear To S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ftware: prin coduri ASCII speci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ON-XOFF – Pornire-oprire transmis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ta de transmisie maxima: 100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853-E99D-4D5B-BE0D-9169E0FA29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a la mare distanta prin MODEM si retea telefo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XD – transmis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XD – recept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ND – mas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SR – Data Set Rea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TR – Data Terminal rea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TS – Request To sen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TS – Clear To s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I - 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27"/>
          <p:cNvGrpSpPr/>
          <p:nvPr/>
        </p:nvGrpSpPr>
        <p:grpSpPr>
          <a:xfrm>
            <a:off x="1332000" y="2565360"/>
            <a:ext cx="6913440" cy="1860840"/>
            <a:chOff x="1332000" y="2565360"/>
            <a:chExt cx="6913440" cy="1860840"/>
          </a:xfrm>
        </p:grpSpPr>
        <p:sp>
          <p:nvSpPr>
            <p:cNvPr id="153" name="Rectangle 5"/>
            <p:cNvSpPr/>
            <p:nvPr/>
          </p:nvSpPr>
          <p:spPr>
            <a:xfrm>
              <a:off x="2773440" y="3213000"/>
              <a:ext cx="216000" cy="409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869080" y="3286080"/>
              <a:ext cx="216000" cy="409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3708360" y="3213000"/>
              <a:ext cx="1513080" cy="576360"/>
            </a:xfrm>
            <a:prstGeom prst="cloudCallout">
              <a:avLst>
                <a:gd name="adj1" fmla="val -28907"/>
                <a:gd name="adj2" fmla="val 3567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7093080" y="2854440"/>
              <a:ext cx="4953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"/>
            <p:cNvPicPr/>
            <p:nvPr/>
          </p:nvPicPr>
          <p:blipFill>
            <a:blip r:embed="rId2"/>
            <a:stretch/>
          </p:blipFill>
          <p:spPr>
            <a:xfrm>
              <a:off x="1332000" y="2997000"/>
              <a:ext cx="649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10"/>
            <p:cNvSpPr/>
            <p:nvPr/>
          </p:nvSpPr>
          <p:spPr>
            <a:xfrm>
              <a:off x="1908360" y="343044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6229440" y="350208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3060720" y="34304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5149800" y="350208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1405080" y="263844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T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2700360" y="263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C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2484360" y="357336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ODEM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3708360" y="292572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tea telefonic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1981080" y="31417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S23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6229440" y="3213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S23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3421080" y="3430440"/>
              <a:ext cx="79236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4429080" y="350208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3349800" y="4149720"/>
              <a:ext cx="25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mnale analogice modul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6877080" y="2565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alculat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5724720" y="2709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C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15B-F221-4F53-AB4B-25B6EF5553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412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uri de transmis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e unidirectional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e bidirectionala, cu protocol software de control al fluxului (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XON –XOF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bidirectional cu protocol hard de control al fluxului (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TR-DS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au CTS-RS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-7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5364000" y="1628640"/>
          <a:ext cx="3581640" cy="16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628640"/>
                    <a:ext cx="35816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8"/>
          <p:cNvGraphicFramePr/>
          <p:nvPr/>
        </p:nvGraphicFramePr>
        <p:xfrm>
          <a:off x="5327640" y="3284640"/>
          <a:ext cx="3637080" cy="181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7640" y="3284640"/>
                    <a:ext cx="36370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12"/>
          <p:cNvGrpSpPr/>
          <p:nvPr/>
        </p:nvGrpSpPr>
        <p:grpSpPr>
          <a:xfrm>
            <a:off x="5219640" y="5103720"/>
            <a:ext cx="4248000" cy="1754280"/>
            <a:chOff x="5219640" y="5103720"/>
            <a:chExt cx="4248000" cy="1754280"/>
          </a:xfrm>
        </p:grpSpPr>
        <p:sp>
          <p:nvSpPr>
            <p:cNvPr id="181" name="AutoShape 11"/>
            <p:cNvSpPr/>
            <p:nvPr/>
          </p:nvSpPr>
          <p:spPr>
            <a:xfrm>
              <a:off x="5219640" y="5103720"/>
              <a:ext cx="4248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527472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5785200" y="5105160"/>
              <a:ext cx="40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mitent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622800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634284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708552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7551720" y="5105160"/>
              <a:ext cx="45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805608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843336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889776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527472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5965560" y="525132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625248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25"/>
            <p:cNvSpPr/>
            <p:nvPr/>
          </p:nvSpPr>
          <p:spPr>
            <a:xfrm>
              <a:off x="634284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708552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7551720" y="525132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783684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843336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885060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527472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5959080" y="5395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625248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34"/>
            <p:cNvSpPr/>
            <p:nvPr/>
          </p:nvSpPr>
          <p:spPr>
            <a:xfrm>
              <a:off x="634284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708552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7551720" y="5395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7845840" y="5395680"/>
              <a:ext cx="3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843336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889776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40"/>
            <p:cNvSpPr/>
            <p:nvPr/>
          </p:nvSpPr>
          <p:spPr>
            <a:xfrm>
              <a:off x="527472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5951160" y="55400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42"/>
            <p:cNvSpPr/>
            <p:nvPr/>
          </p:nvSpPr>
          <p:spPr>
            <a:xfrm>
              <a:off x="625248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634284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708552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7552080" y="55400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46"/>
            <p:cNvSpPr/>
            <p:nvPr/>
          </p:nvSpPr>
          <p:spPr>
            <a:xfrm>
              <a:off x="785160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843336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889776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49"/>
            <p:cNvSpPr/>
            <p:nvPr/>
          </p:nvSpPr>
          <p:spPr>
            <a:xfrm>
              <a:off x="527472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5981400" y="56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625248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52"/>
            <p:cNvSpPr/>
            <p:nvPr/>
          </p:nvSpPr>
          <p:spPr>
            <a:xfrm>
              <a:off x="634284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53"/>
            <p:cNvSpPr/>
            <p:nvPr/>
          </p:nvSpPr>
          <p:spPr>
            <a:xfrm>
              <a:off x="708552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54"/>
            <p:cNvSpPr/>
            <p:nvPr/>
          </p:nvSpPr>
          <p:spPr>
            <a:xfrm>
              <a:off x="7551720" y="56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55"/>
            <p:cNvSpPr/>
            <p:nvPr/>
          </p:nvSpPr>
          <p:spPr>
            <a:xfrm>
              <a:off x="78213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56"/>
            <p:cNvSpPr/>
            <p:nvPr/>
          </p:nvSpPr>
          <p:spPr>
            <a:xfrm>
              <a:off x="84333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57"/>
            <p:cNvSpPr/>
            <p:nvPr/>
          </p:nvSpPr>
          <p:spPr>
            <a:xfrm>
              <a:off x="88977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58"/>
            <p:cNvSpPr/>
            <p:nvPr/>
          </p:nvSpPr>
          <p:spPr>
            <a:xfrm>
              <a:off x="527472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5973480" y="5832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T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625248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61"/>
            <p:cNvSpPr/>
            <p:nvPr/>
          </p:nvSpPr>
          <p:spPr>
            <a:xfrm>
              <a:off x="634284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62"/>
            <p:cNvSpPr/>
            <p:nvPr/>
          </p:nvSpPr>
          <p:spPr>
            <a:xfrm>
              <a:off x="708552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63"/>
            <p:cNvSpPr/>
            <p:nvPr/>
          </p:nvSpPr>
          <p:spPr>
            <a:xfrm>
              <a:off x="7552080" y="5832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T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64"/>
            <p:cNvSpPr/>
            <p:nvPr/>
          </p:nvSpPr>
          <p:spPr>
            <a:xfrm>
              <a:off x="78285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65"/>
            <p:cNvSpPr/>
            <p:nvPr/>
          </p:nvSpPr>
          <p:spPr>
            <a:xfrm>
              <a:off x="84333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Rectangle 66"/>
            <p:cNvSpPr/>
            <p:nvPr/>
          </p:nvSpPr>
          <p:spPr>
            <a:xfrm>
              <a:off x="88977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Rectangle 67"/>
            <p:cNvSpPr/>
            <p:nvPr/>
          </p:nvSpPr>
          <p:spPr>
            <a:xfrm>
              <a:off x="527472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68"/>
            <p:cNvSpPr/>
            <p:nvPr/>
          </p:nvSpPr>
          <p:spPr>
            <a:xfrm>
              <a:off x="6059160" y="5978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69"/>
            <p:cNvSpPr/>
            <p:nvPr/>
          </p:nvSpPr>
          <p:spPr>
            <a:xfrm>
              <a:off x="625248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70"/>
            <p:cNvSpPr/>
            <p:nvPr/>
          </p:nvSpPr>
          <p:spPr>
            <a:xfrm>
              <a:off x="634284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71"/>
            <p:cNvSpPr/>
            <p:nvPr/>
          </p:nvSpPr>
          <p:spPr>
            <a:xfrm>
              <a:off x="708552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72"/>
            <p:cNvSpPr/>
            <p:nvPr/>
          </p:nvSpPr>
          <p:spPr>
            <a:xfrm>
              <a:off x="7551360" y="5978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Rectangle 73"/>
            <p:cNvSpPr/>
            <p:nvPr/>
          </p:nvSpPr>
          <p:spPr>
            <a:xfrm>
              <a:off x="77421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74"/>
            <p:cNvSpPr/>
            <p:nvPr/>
          </p:nvSpPr>
          <p:spPr>
            <a:xfrm>
              <a:off x="84333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Rectangle 75"/>
            <p:cNvSpPr/>
            <p:nvPr/>
          </p:nvSpPr>
          <p:spPr>
            <a:xfrm>
              <a:off x="88977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Rectangle 76"/>
            <p:cNvSpPr/>
            <p:nvPr/>
          </p:nvSpPr>
          <p:spPr>
            <a:xfrm>
              <a:off x="527472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77"/>
            <p:cNvSpPr/>
            <p:nvPr/>
          </p:nvSpPr>
          <p:spPr>
            <a:xfrm>
              <a:off x="5997960" y="612432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78"/>
            <p:cNvSpPr/>
            <p:nvPr/>
          </p:nvSpPr>
          <p:spPr>
            <a:xfrm>
              <a:off x="625248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79"/>
            <p:cNvSpPr/>
            <p:nvPr/>
          </p:nvSpPr>
          <p:spPr>
            <a:xfrm>
              <a:off x="634284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80"/>
            <p:cNvSpPr/>
            <p:nvPr/>
          </p:nvSpPr>
          <p:spPr>
            <a:xfrm>
              <a:off x="708552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81"/>
            <p:cNvSpPr/>
            <p:nvPr/>
          </p:nvSpPr>
          <p:spPr>
            <a:xfrm>
              <a:off x="7551360" y="612432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82"/>
            <p:cNvSpPr/>
            <p:nvPr/>
          </p:nvSpPr>
          <p:spPr>
            <a:xfrm>
              <a:off x="780444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83"/>
            <p:cNvSpPr/>
            <p:nvPr/>
          </p:nvSpPr>
          <p:spPr>
            <a:xfrm>
              <a:off x="843336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84"/>
            <p:cNvSpPr/>
            <p:nvPr/>
          </p:nvSpPr>
          <p:spPr>
            <a:xfrm>
              <a:off x="889776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85"/>
            <p:cNvSpPr/>
            <p:nvPr/>
          </p:nvSpPr>
          <p:spPr>
            <a:xfrm>
              <a:off x="527472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6"/>
            <p:cNvSpPr/>
            <p:nvPr/>
          </p:nvSpPr>
          <p:spPr>
            <a:xfrm>
              <a:off x="5997960" y="62704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7"/>
            <p:cNvSpPr/>
            <p:nvPr/>
          </p:nvSpPr>
          <p:spPr>
            <a:xfrm>
              <a:off x="625248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88"/>
            <p:cNvSpPr/>
            <p:nvPr/>
          </p:nvSpPr>
          <p:spPr>
            <a:xfrm>
              <a:off x="634284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89"/>
            <p:cNvSpPr/>
            <p:nvPr/>
          </p:nvSpPr>
          <p:spPr>
            <a:xfrm>
              <a:off x="708552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90"/>
            <p:cNvSpPr/>
            <p:nvPr/>
          </p:nvSpPr>
          <p:spPr>
            <a:xfrm>
              <a:off x="7551360" y="62704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91"/>
            <p:cNvSpPr/>
            <p:nvPr/>
          </p:nvSpPr>
          <p:spPr>
            <a:xfrm>
              <a:off x="780444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2"/>
            <p:cNvSpPr/>
            <p:nvPr/>
          </p:nvSpPr>
          <p:spPr>
            <a:xfrm>
              <a:off x="843336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93"/>
            <p:cNvSpPr/>
            <p:nvPr/>
          </p:nvSpPr>
          <p:spPr>
            <a:xfrm>
              <a:off x="889776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94"/>
            <p:cNvSpPr/>
            <p:nvPr/>
          </p:nvSpPr>
          <p:spPr>
            <a:xfrm>
              <a:off x="52747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5"/>
            <p:cNvSpPr/>
            <p:nvPr/>
          </p:nvSpPr>
          <p:spPr>
            <a:xfrm>
              <a:off x="625248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96"/>
            <p:cNvSpPr/>
            <p:nvPr/>
          </p:nvSpPr>
          <p:spPr>
            <a:xfrm>
              <a:off x="634284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97"/>
            <p:cNvSpPr/>
            <p:nvPr/>
          </p:nvSpPr>
          <p:spPr>
            <a:xfrm>
              <a:off x="70855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98"/>
            <p:cNvSpPr/>
            <p:nvPr/>
          </p:nvSpPr>
          <p:spPr>
            <a:xfrm>
              <a:off x="75499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99"/>
            <p:cNvSpPr/>
            <p:nvPr/>
          </p:nvSpPr>
          <p:spPr>
            <a:xfrm>
              <a:off x="843336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00"/>
            <p:cNvSpPr/>
            <p:nvPr/>
          </p:nvSpPr>
          <p:spPr>
            <a:xfrm>
              <a:off x="889776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01"/>
            <p:cNvSpPr/>
            <p:nvPr/>
          </p:nvSpPr>
          <p:spPr>
            <a:xfrm>
              <a:off x="5659560" y="655920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gura 10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02"/>
            <p:cNvSpPr/>
            <p:nvPr/>
          </p:nvSpPr>
          <p:spPr>
            <a:xfrm>
              <a:off x="6238800" y="6559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03"/>
            <p:cNvSpPr/>
            <p:nvPr/>
          </p:nvSpPr>
          <p:spPr>
            <a:xfrm>
              <a:off x="6288840" y="6559200"/>
              <a:ext cx="24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 Transfer bidirec?ional, protocol DTR-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04"/>
            <p:cNvSpPr/>
            <p:nvPr/>
          </p:nvSpPr>
          <p:spPr>
            <a:xfrm>
              <a:off x="9023400" y="6559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05"/>
            <p:cNvSpPr/>
            <p:nvPr/>
          </p:nvSpPr>
          <p:spPr>
            <a:xfrm>
              <a:off x="5274720" y="6705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106"/>
            <p:cNvSpPr/>
            <p:nvPr/>
          </p:nvSpPr>
          <p:spPr>
            <a:xfrm>
              <a:off x="7106400" y="5468760"/>
              <a:ext cx="377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107"/>
            <p:cNvSpPr/>
            <p:nvPr/>
          </p:nvSpPr>
          <p:spPr>
            <a:xfrm>
              <a:off x="6485040" y="6175080"/>
              <a:ext cx="1440" cy="182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108"/>
            <p:cNvSpPr/>
            <p:nvPr/>
          </p:nvSpPr>
          <p:spPr>
            <a:xfrm>
              <a:off x="6476760" y="5927400"/>
              <a:ext cx="1440" cy="1065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09"/>
            <p:cNvSpPr/>
            <p:nvPr/>
          </p:nvSpPr>
          <p:spPr>
            <a:xfrm>
              <a:off x="7342920" y="5905440"/>
              <a:ext cx="1440" cy="122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10"/>
            <p:cNvSpPr/>
            <p:nvPr/>
          </p:nvSpPr>
          <p:spPr>
            <a:xfrm>
              <a:off x="7334640" y="6189480"/>
              <a:ext cx="1800" cy="1587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11"/>
            <p:cNvSpPr/>
            <p:nvPr/>
          </p:nvSpPr>
          <p:spPr>
            <a:xfrm>
              <a:off x="7318080" y="6333840"/>
              <a:ext cx="1886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112"/>
            <p:cNvSpPr/>
            <p:nvPr/>
          </p:nvSpPr>
          <p:spPr>
            <a:xfrm>
              <a:off x="6948360" y="5314680"/>
              <a:ext cx="1576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13"/>
            <p:cNvSpPr/>
            <p:nvPr/>
          </p:nvSpPr>
          <p:spPr>
            <a:xfrm>
              <a:off x="7114680" y="5316480"/>
              <a:ext cx="375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14"/>
            <p:cNvSpPr/>
            <p:nvPr/>
          </p:nvSpPr>
          <p:spPr>
            <a:xfrm flipV="1">
              <a:off x="6940080" y="5311080"/>
              <a:ext cx="172440" cy="1666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115"/>
            <p:cNvSpPr/>
            <p:nvPr/>
          </p:nvSpPr>
          <p:spPr>
            <a:xfrm>
              <a:off x="7318080" y="6197400"/>
              <a:ext cx="188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116"/>
            <p:cNvSpPr/>
            <p:nvPr/>
          </p:nvSpPr>
          <p:spPr>
            <a:xfrm>
              <a:off x="7122960" y="5916240"/>
              <a:ext cx="375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Line 117"/>
            <p:cNvSpPr/>
            <p:nvPr/>
          </p:nvSpPr>
          <p:spPr>
            <a:xfrm>
              <a:off x="6964920" y="5771880"/>
              <a:ext cx="157680" cy="1508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118"/>
            <p:cNvSpPr/>
            <p:nvPr/>
          </p:nvSpPr>
          <p:spPr>
            <a:xfrm>
              <a:off x="7137360" y="5771880"/>
              <a:ext cx="378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Line 119"/>
            <p:cNvSpPr/>
            <p:nvPr/>
          </p:nvSpPr>
          <p:spPr>
            <a:xfrm flipV="1">
              <a:off x="6955200" y="5766840"/>
              <a:ext cx="173880" cy="1666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120"/>
            <p:cNvSpPr/>
            <p:nvPr/>
          </p:nvSpPr>
          <p:spPr>
            <a:xfrm flipH="1">
              <a:off x="6310800" y="6040080"/>
              <a:ext cx="1576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121"/>
            <p:cNvSpPr/>
            <p:nvPr/>
          </p:nvSpPr>
          <p:spPr>
            <a:xfrm flipH="1">
              <a:off x="6287760" y="5308560"/>
              <a:ext cx="652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Line 122"/>
            <p:cNvSpPr/>
            <p:nvPr/>
          </p:nvSpPr>
          <p:spPr>
            <a:xfrm flipH="1">
              <a:off x="6272640" y="5475240"/>
              <a:ext cx="6519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Line 123"/>
            <p:cNvSpPr/>
            <p:nvPr/>
          </p:nvSpPr>
          <p:spPr>
            <a:xfrm flipH="1">
              <a:off x="6303960" y="5771880"/>
              <a:ext cx="6519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Line 124"/>
            <p:cNvSpPr/>
            <p:nvPr/>
          </p:nvSpPr>
          <p:spPr>
            <a:xfrm flipH="1">
              <a:off x="6295680" y="5922720"/>
              <a:ext cx="6519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Line 125"/>
            <p:cNvSpPr/>
            <p:nvPr/>
          </p:nvSpPr>
          <p:spPr>
            <a:xfrm>
              <a:off x="7341120" y="6037200"/>
              <a:ext cx="157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126"/>
            <p:cNvSpPr/>
            <p:nvPr/>
          </p:nvSpPr>
          <p:spPr>
            <a:xfrm>
              <a:off x="5722560" y="5246640"/>
              <a:ext cx="675000" cy="1155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127"/>
            <p:cNvSpPr/>
            <p:nvPr/>
          </p:nvSpPr>
          <p:spPr>
            <a:xfrm>
              <a:off x="7434720" y="5246640"/>
              <a:ext cx="677160" cy="1155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Line 128"/>
            <p:cNvSpPr/>
            <p:nvPr/>
          </p:nvSpPr>
          <p:spPr>
            <a:xfrm>
              <a:off x="6296040" y="5619600"/>
              <a:ext cx="12024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Line 129"/>
            <p:cNvSpPr/>
            <p:nvPr/>
          </p:nvSpPr>
          <p:spPr>
            <a:xfrm flipH="1">
              <a:off x="6303960" y="6181560"/>
              <a:ext cx="186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Line 130"/>
            <p:cNvSpPr/>
            <p:nvPr/>
          </p:nvSpPr>
          <p:spPr>
            <a:xfrm flipH="1">
              <a:off x="6287400" y="6333840"/>
              <a:ext cx="189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6149-6CA3-494B-8D21-74AC0E115C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rolorul serial asincron (USART) I825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1187280" y="2205000"/>
          <a:ext cx="727236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727236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F23-690A-4A5F-882C-FDB026DC57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te standarde de transmisie seriala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31376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S485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acteristic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ificarea informatiilor digitale prin diferente de potential (si nu prin nive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folosesc doua fire de transmisie torsa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pot conecta mai multe unitati pe acelasi tronson de cablu – transmisie multipun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foloseste ca nivel fizic pentru retele industriale de comunicatie (ex: Profibus, C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tante mai mari de transmisie (pana la 1 k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unitate mai mare la zgomote (datorita firelor torsadate si a codificari diferenti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prefera in mediile industri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8B3-085A-42B4-A01D-A1DE344DC0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 prin acces direct la memorie (DMA- Direct memory access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ce se utilizeaz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ntru cresterea vitezei d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ntru eliberarea procesorului de sarcina transfer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 de implement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rcuit specializat pentru operatii de transfer – controlor D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orul este programat de microprocesor, dupa care efectueaza transferul intre interfata si memorie (sau invers), fara implicarea procesor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zele transferulu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itializare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- procesorul programeaza transferul unui bloc de date: (controlorul DMA este sla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resa zonei de memori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rectia de transf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arul de date transfera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ferul proproiu-zi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ontrolorul efectueaza transferul si asigura sincronizarea cu dispozitivul periferic (contr. DMA este mas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lizarea transferulu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procesorul verifica corectitudinea transferului prin citirea starii controlorului DMA si a interfetei implocate (contr. DMA este sla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A02F-D38E-479B-A473-A89ACB4375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48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131840" y="2406600"/>
            <a:ext cx="7334280" cy="2634840"/>
            <a:chOff x="1131840" y="2406600"/>
            <a:chExt cx="7334280" cy="2634840"/>
          </a:xfrm>
        </p:grpSpPr>
        <p:grpSp>
          <p:nvGrpSpPr>
            <p:cNvPr id="310" name="Group 5"/>
            <p:cNvGrpSpPr/>
            <p:nvPr/>
          </p:nvGrpSpPr>
          <p:grpSpPr>
            <a:xfrm>
              <a:off x="2300400" y="2452680"/>
              <a:ext cx="5486400" cy="711360"/>
              <a:chOff x="2300400" y="2452680"/>
              <a:chExt cx="5486400" cy="711360"/>
            </a:xfrm>
          </p:grpSpPr>
          <p:sp>
            <p:nvSpPr>
              <p:cNvPr id="311" name="Freeform 6"/>
              <p:cNvSpPr/>
              <p:nvPr/>
            </p:nvSpPr>
            <p:spPr>
              <a:xfrm>
                <a:off x="2300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32148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4129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50436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59580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6872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12"/>
            <p:cNvGrpSpPr/>
            <p:nvPr/>
          </p:nvGrpSpPr>
          <p:grpSpPr>
            <a:xfrm>
              <a:off x="1843200" y="2452680"/>
              <a:ext cx="5486400" cy="711360"/>
              <a:chOff x="1843200" y="2452680"/>
              <a:chExt cx="5486400" cy="711360"/>
            </a:xfrm>
          </p:grpSpPr>
          <p:sp>
            <p:nvSpPr>
              <p:cNvPr id="318" name="Freeform 13"/>
              <p:cNvSpPr/>
              <p:nvPr/>
            </p:nvSpPr>
            <p:spPr>
              <a:xfrm>
                <a:off x="1843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27576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15"/>
              <p:cNvSpPr/>
              <p:nvPr/>
            </p:nvSpPr>
            <p:spPr>
              <a:xfrm>
                <a:off x="36720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Freeform 16"/>
              <p:cNvSpPr/>
              <p:nvPr/>
            </p:nvSpPr>
            <p:spPr>
              <a:xfrm>
                <a:off x="4586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17"/>
              <p:cNvSpPr/>
              <p:nvPr/>
            </p:nvSpPr>
            <p:spPr>
              <a:xfrm>
                <a:off x="55008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18"/>
              <p:cNvSpPr/>
              <p:nvPr/>
            </p:nvSpPr>
            <p:spPr>
              <a:xfrm>
                <a:off x="6415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4" name="Group 19"/>
            <p:cNvGrpSpPr/>
            <p:nvPr/>
          </p:nvGrpSpPr>
          <p:grpSpPr>
            <a:xfrm>
              <a:off x="2178000" y="2597040"/>
              <a:ext cx="1727280" cy="2392560"/>
              <a:chOff x="2178000" y="2597040"/>
              <a:chExt cx="1727280" cy="2392560"/>
            </a:xfrm>
          </p:grpSpPr>
          <p:sp>
            <p:nvSpPr>
              <p:cNvPr id="325" name="Freeform 20"/>
              <p:cNvSpPr/>
              <p:nvPr/>
            </p:nvSpPr>
            <p:spPr>
              <a:xfrm>
                <a:off x="2529000" y="3062160"/>
                <a:ext cx="533520" cy="83844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Freeform 21"/>
              <p:cNvSpPr/>
              <p:nvPr/>
            </p:nvSpPr>
            <p:spPr>
              <a:xfrm>
                <a:off x="2376720" y="2681280"/>
                <a:ext cx="380880" cy="136368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Oval 22"/>
              <p:cNvSpPr/>
              <p:nvPr/>
            </p:nvSpPr>
            <p:spPr>
              <a:xfrm>
                <a:off x="2495520" y="30672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Oval 23"/>
              <p:cNvSpPr/>
              <p:nvPr/>
            </p:nvSpPr>
            <p:spPr>
              <a:xfrm>
                <a:off x="2344680" y="2597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AutoShape 24"/>
              <p:cNvSpPr/>
              <p:nvPr/>
            </p:nvSpPr>
            <p:spPr>
              <a:xfrm rot="5400000">
                <a:off x="2742840" y="3687840"/>
                <a:ext cx="55116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AutoShape 25"/>
              <p:cNvSpPr/>
              <p:nvPr/>
            </p:nvSpPr>
            <p:spPr>
              <a:xfrm rot="16200000">
                <a:off x="2743200" y="4360680"/>
                <a:ext cx="55080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Oval 26"/>
              <p:cNvSpPr/>
              <p:nvPr/>
            </p:nvSpPr>
            <p:spPr>
              <a:xfrm>
                <a:off x="2727360" y="3773520"/>
                <a:ext cx="10656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Oval 27"/>
              <p:cNvSpPr/>
              <p:nvPr/>
            </p:nvSpPr>
            <p:spPr>
              <a:xfrm>
                <a:off x="2886120" y="4386240"/>
                <a:ext cx="106560" cy="1224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28"/>
              <p:cNvSpPr/>
              <p:nvPr/>
            </p:nvSpPr>
            <p:spPr>
              <a:xfrm>
                <a:off x="2524320" y="3835440"/>
                <a:ext cx="361800" cy="61128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Freeform 29"/>
              <p:cNvSpPr/>
              <p:nvPr/>
            </p:nvSpPr>
            <p:spPr>
              <a:xfrm>
                <a:off x="2376720" y="4019400"/>
                <a:ext cx="615960" cy="73368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Line 30"/>
              <p:cNvSpPr/>
              <p:nvPr/>
            </p:nvSpPr>
            <p:spPr>
              <a:xfrm>
                <a:off x="3257640" y="3895560"/>
                <a:ext cx="42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Line 31"/>
              <p:cNvSpPr/>
              <p:nvPr/>
            </p:nvSpPr>
            <p:spPr>
              <a:xfrm>
                <a:off x="3257640" y="456876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Oval 32"/>
              <p:cNvSpPr/>
              <p:nvPr/>
            </p:nvSpPr>
            <p:spPr>
              <a:xfrm>
                <a:off x="2506680" y="3851280"/>
                <a:ext cx="52560" cy="6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33"/>
              <p:cNvSpPr/>
              <p:nvPr/>
            </p:nvSpPr>
            <p:spPr>
              <a:xfrm>
                <a:off x="2341800" y="4011480"/>
                <a:ext cx="52200" cy="6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34"/>
              <p:cNvSpPr/>
              <p:nvPr/>
            </p:nvSpPr>
            <p:spPr>
              <a:xfrm>
                <a:off x="2178000" y="3568680"/>
                <a:ext cx="1727280" cy="1420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40" name="Group 35"/>
            <p:cNvGrpSpPr/>
            <p:nvPr/>
          </p:nvGrpSpPr>
          <p:grpSpPr>
            <a:xfrm>
              <a:off x="4437000" y="2649600"/>
              <a:ext cx="1727280" cy="2391840"/>
              <a:chOff x="4437000" y="2649600"/>
              <a:chExt cx="1727280" cy="2391840"/>
            </a:xfrm>
          </p:grpSpPr>
          <p:sp>
            <p:nvSpPr>
              <p:cNvPr id="341" name="Freeform 36"/>
              <p:cNvSpPr/>
              <p:nvPr/>
            </p:nvSpPr>
            <p:spPr>
              <a:xfrm>
                <a:off x="4788000" y="3114360"/>
                <a:ext cx="533520" cy="83808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37"/>
              <p:cNvSpPr/>
              <p:nvPr/>
            </p:nvSpPr>
            <p:spPr>
              <a:xfrm>
                <a:off x="4635720" y="2733480"/>
                <a:ext cx="380880" cy="136332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Oval 38"/>
              <p:cNvSpPr/>
              <p:nvPr/>
            </p:nvSpPr>
            <p:spPr>
              <a:xfrm>
                <a:off x="4754520" y="31194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Oval 39"/>
              <p:cNvSpPr/>
              <p:nvPr/>
            </p:nvSpPr>
            <p:spPr>
              <a:xfrm>
                <a:off x="4603680" y="2649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AutoShape 40"/>
              <p:cNvSpPr/>
              <p:nvPr/>
            </p:nvSpPr>
            <p:spPr>
              <a:xfrm rot="5400000">
                <a:off x="5001840" y="3739680"/>
                <a:ext cx="55080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AutoShape 41"/>
              <p:cNvSpPr/>
              <p:nvPr/>
            </p:nvSpPr>
            <p:spPr>
              <a:xfrm rot="16200000">
                <a:off x="5002560" y="4412520"/>
                <a:ext cx="55044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Oval 42"/>
              <p:cNvSpPr/>
              <p:nvPr/>
            </p:nvSpPr>
            <p:spPr>
              <a:xfrm>
                <a:off x="4986360" y="3825720"/>
                <a:ext cx="106560" cy="121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Oval 43"/>
              <p:cNvSpPr/>
              <p:nvPr/>
            </p:nvSpPr>
            <p:spPr>
              <a:xfrm>
                <a:off x="5145120" y="4438440"/>
                <a:ext cx="10656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Freeform 44"/>
              <p:cNvSpPr/>
              <p:nvPr/>
            </p:nvSpPr>
            <p:spPr>
              <a:xfrm>
                <a:off x="4783320" y="3887640"/>
                <a:ext cx="361800" cy="61092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Freeform 45"/>
              <p:cNvSpPr/>
              <p:nvPr/>
            </p:nvSpPr>
            <p:spPr>
              <a:xfrm>
                <a:off x="4635720" y="4071600"/>
                <a:ext cx="615960" cy="73332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Line 46"/>
              <p:cNvSpPr/>
              <p:nvPr/>
            </p:nvSpPr>
            <p:spPr>
              <a:xfrm>
                <a:off x="5516640" y="3947760"/>
                <a:ext cx="42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47"/>
              <p:cNvSpPr/>
              <p:nvPr/>
            </p:nvSpPr>
            <p:spPr>
              <a:xfrm>
                <a:off x="5516640" y="462096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Oval 48"/>
              <p:cNvSpPr/>
              <p:nvPr/>
            </p:nvSpPr>
            <p:spPr>
              <a:xfrm>
                <a:off x="4765680" y="3903480"/>
                <a:ext cx="5256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Oval 49"/>
              <p:cNvSpPr/>
              <p:nvPr/>
            </p:nvSpPr>
            <p:spPr>
              <a:xfrm>
                <a:off x="4600800" y="4063680"/>
                <a:ext cx="5220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50"/>
              <p:cNvSpPr/>
              <p:nvPr/>
            </p:nvSpPr>
            <p:spPr>
              <a:xfrm>
                <a:off x="4437000" y="3620880"/>
                <a:ext cx="1727280" cy="14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56" name="Group 51"/>
            <p:cNvGrpSpPr/>
            <p:nvPr/>
          </p:nvGrpSpPr>
          <p:grpSpPr>
            <a:xfrm>
              <a:off x="6739200" y="2614680"/>
              <a:ext cx="1726920" cy="2391840"/>
              <a:chOff x="6739200" y="2614680"/>
              <a:chExt cx="1726920" cy="2391840"/>
            </a:xfrm>
          </p:grpSpPr>
          <p:sp>
            <p:nvSpPr>
              <p:cNvPr id="357" name="Freeform 52"/>
              <p:cNvSpPr/>
              <p:nvPr/>
            </p:nvSpPr>
            <p:spPr>
              <a:xfrm>
                <a:off x="7089840" y="3079440"/>
                <a:ext cx="533160" cy="83808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Freeform 53"/>
              <p:cNvSpPr/>
              <p:nvPr/>
            </p:nvSpPr>
            <p:spPr>
              <a:xfrm>
                <a:off x="6937560" y="2698560"/>
                <a:ext cx="380520" cy="136332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54"/>
              <p:cNvSpPr/>
              <p:nvPr/>
            </p:nvSpPr>
            <p:spPr>
              <a:xfrm>
                <a:off x="7056360" y="30844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Oval 55"/>
              <p:cNvSpPr/>
              <p:nvPr/>
            </p:nvSpPr>
            <p:spPr>
              <a:xfrm>
                <a:off x="6905520" y="2614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AutoShape 56"/>
              <p:cNvSpPr/>
              <p:nvPr/>
            </p:nvSpPr>
            <p:spPr>
              <a:xfrm rot="5400000">
                <a:off x="7304040" y="3705120"/>
                <a:ext cx="550800" cy="47736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AutoShape 57"/>
              <p:cNvSpPr/>
              <p:nvPr/>
            </p:nvSpPr>
            <p:spPr>
              <a:xfrm rot="16200000">
                <a:off x="7304040" y="4377600"/>
                <a:ext cx="550440" cy="47736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Oval 58"/>
              <p:cNvSpPr/>
              <p:nvPr/>
            </p:nvSpPr>
            <p:spPr>
              <a:xfrm>
                <a:off x="7288200" y="3790800"/>
                <a:ext cx="106200" cy="121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59"/>
              <p:cNvSpPr/>
              <p:nvPr/>
            </p:nvSpPr>
            <p:spPr>
              <a:xfrm>
                <a:off x="7446960" y="4403520"/>
                <a:ext cx="10620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Freeform 60"/>
              <p:cNvSpPr/>
              <p:nvPr/>
            </p:nvSpPr>
            <p:spPr>
              <a:xfrm>
                <a:off x="7085160" y="3852720"/>
                <a:ext cx="361440" cy="61092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Freeform 61"/>
              <p:cNvSpPr/>
              <p:nvPr/>
            </p:nvSpPr>
            <p:spPr>
              <a:xfrm>
                <a:off x="6937560" y="4036680"/>
                <a:ext cx="615600" cy="73332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Line 62"/>
              <p:cNvSpPr/>
              <p:nvPr/>
            </p:nvSpPr>
            <p:spPr>
              <a:xfrm>
                <a:off x="7818480" y="3912840"/>
                <a:ext cx="42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Line 63"/>
              <p:cNvSpPr/>
              <p:nvPr/>
            </p:nvSpPr>
            <p:spPr>
              <a:xfrm>
                <a:off x="7818480" y="4586040"/>
                <a:ext cx="47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Oval 64"/>
              <p:cNvSpPr/>
              <p:nvPr/>
            </p:nvSpPr>
            <p:spPr>
              <a:xfrm>
                <a:off x="7067520" y="3868560"/>
                <a:ext cx="5220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Oval 65"/>
              <p:cNvSpPr/>
              <p:nvPr/>
            </p:nvSpPr>
            <p:spPr>
              <a:xfrm>
                <a:off x="6902640" y="4028760"/>
                <a:ext cx="5184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Rectangle 66"/>
              <p:cNvSpPr/>
              <p:nvPr/>
            </p:nvSpPr>
            <p:spPr>
              <a:xfrm>
                <a:off x="6739200" y="3585960"/>
                <a:ext cx="1726920" cy="14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2" name="Freeform 67"/>
            <p:cNvSpPr/>
            <p:nvPr/>
          </p:nvSpPr>
          <p:spPr>
            <a:xfrm>
              <a:off x="1190880" y="2800440"/>
              <a:ext cx="1117440" cy="465120"/>
            </a:xfrm>
            <a:custGeom>
              <a:avLst/>
              <a:gdLst/>
              <a:ahLst/>
              <a:rect l="l" t="t" r="r" b="b"/>
              <a:pathLst>
                <a:path w="704" h="293">
                  <a:moveTo>
                    <a:pt x="704" y="0"/>
                  </a:moveTo>
                  <a:cubicBezTo>
                    <a:pt x="652" y="100"/>
                    <a:pt x="601" y="201"/>
                    <a:pt x="484" y="247"/>
                  </a:cubicBezTo>
                  <a:cubicBezTo>
                    <a:pt x="367" y="293"/>
                    <a:pt x="183" y="284"/>
                    <a:pt x="0" y="2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Rectangle 68"/>
            <p:cNvSpPr/>
            <p:nvPr/>
          </p:nvSpPr>
          <p:spPr>
            <a:xfrm>
              <a:off x="1131840" y="2568600"/>
              <a:ext cx="173160" cy="536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Line 69"/>
            <p:cNvSpPr/>
            <p:nvPr/>
          </p:nvSpPr>
          <p:spPr>
            <a:xfrm flipV="1">
              <a:off x="1204920" y="307620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219320" y="2424240"/>
              <a:ext cx="652320" cy="477720"/>
            </a:xfrm>
            <a:custGeom>
              <a:avLst/>
              <a:gdLst/>
              <a:ahLst/>
              <a:rect l="l" t="t" r="r" b="b"/>
              <a:pathLst>
                <a:path w="411" h="301">
                  <a:moveTo>
                    <a:pt x="0" y="64"/>
                  </a:moveTo>
                  <a:lnTo>
                    <a:pt x="0" y="0"/>
                  </a:lnTo>
                  <a:lnTo>
                    <a:pt x="302" y="0"/>
                  </a:lnTo>
                  <a:lnTo>
                    <a:pt x="302" y="301"/>
                  </a:lnTo>
                  <a:lnTo>
                    <a:pt x="411" y="2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7344000" y="2406600"/>
              <a:ext cx="987480" cy="365040"/>
            </a:xfrm>
            <a:custGeom>
              <a:avLst/>
              <a:gdLst/>
              <a:ahLst/>
              <a:rect l="l" t="t" r="r" b="b"/>
              <a:pathLst>
                <a:path w="622" h="230">
                  <a:moveTo>
                    <a:pt x="0" y="230"/>
                  </a:moveTo>
                  <a:cubicBezTo>
                    <a:pt x="16" y="153"/>
                    <a:pt x="33" y="76"/>
                    <a:pt x="137" y="38"/>
                  </a:cubicBezTo>
                  <a:cubicBezTo>
                    <a:pt x="241" y="0"/>
                    <a:pt x="431" y="1"/>
                    <a:pt x="62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Rectangle 72"/>
            <p:cNvSpPr/>
            <p:nvPr/>
          </p:nvSpPr>
          <p:spPr>
            <a:xfrm>
              <a:off x="8239320" y="2490840"/>
              <a:ext cx="172800" cy="536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Line 73"/>
            <p:cNvSpPr/>
            <p:nvPr/>
          </p:nvSpPr>
          <p:spPr>
            <a:xfrm>
              <a:off x="8331480" y="240984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Freeform 74"/>
            <p:cNvSpPr/>
            <p:nvPr/>
          </p:nvSpPr>
          <p:spPr>
            <a:xfrm>
              <a:off x="7778880" y="2670120"/>
              <a:ext cx="566640" cy="507960"/>
            </a:xfrm>
            <a:custGeom>
              <a:avLst/>
              <a:gdLst/>
              <a:ahLst/>
              <a:rect l="l" t="t" r="r" b="b"/>
              <a:pathLst>
                <a:path w="357" h="320">
                  <a:moveTo>
                    <a:pt x="0" y="73"/>
                  </a:moveTo>
                  <a:lnTo>
                    <a:pt x="110" y="0"/>
                  </a:lnTo>
                  <a:lnTo>
                    <a:pt x="110" y="320"/>
                  </a:lnTo>
                  <a:lnTo>
                    <a:pt x="357" y="320"/>
                  </a:lnTo>
                  <a:lnTo>
                    <a:pt x="348" y="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000-9F18-4468-9E55-D4354F70FD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te standarde de transmisie seriala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DLC/SD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e seriala asincrona pe mesaj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 pentru transmisia in ret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e mai eficienta decat transmisia pe caracter (raportul date utile/nr. total de biti este mai bu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anism foarte bun de detectie a erorilor (CR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ncronizare prin mecanism PLL (Phase Lock Loo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uctura datelor transmise:- mesa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24000" y="5734080"/>
            <a:ext cx="8602560" cy="431640"/>
            <a:chOff x="324000" y="5734080"/>
            <a:chExt cx="8602560" cy="431640"/>
          </a:xfrm>
        </p:grpSpPr>
        <p:sp>
          <p:nvSpPr>
            <p:cNvPr id="384" name="Rectangle 5"/>
            <p:cNvSpPr/>
            <p:nvPr/>
          </p:nvSpPr>
          <p:spPr>
            <a:xfrm>
              <a:off x="393840" y="5734080"/>
              <a:ext cx="122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324000" y="5734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ambu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1619280" y="5734080"/>
              <a:ext cx="1150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Text Box 8"/>
            <p:cNvSpPr/>
            <p:nvPr/>
          </p:nvSpPr>
          <p:spPr>
            <a:xfrm>
              <a:off x="2770200" y="5734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Text Box 9"/>
            <p:cNvSpPr/>
            <p:nvPr/>
          </p:nvSpPr>
          <p:spPr>
            <a:xfrm>
              <a:off x="1763640" y="57340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res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2770200" y="5734080"/>
              <a:ext cx="1079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849840" y="5734080"/>
              <a:ext cx="3744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Text Box 12"/>
            <p:cNvSpPr/>
            <p:nvPr/>
          </p:nvSpPr>
          <p:spPr>
            <a:xfrm>
              <a:off x="4859280" y="57340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te util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7594560" y="5734080"/>
              <a:ext cx="1079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7739280" y="5734080"/>
              <a:ext cx="11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C717-4CFD-4DB1-8B97-846158BEB6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de conectare a controlorului DMA in si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755640" y="1614600"/>
          <a:ext cx="7993080" cy="46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14600"/>
                    <a:ext cx="79930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38EC-2F4F-4FAE-99F6-59FCEA0326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deservire a unei cereri D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interfata solicita un transfer prin activarea unui semnal DRQi catre controlorul D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verifica daca transferul este valid (programat) si nu este altul mai prioritar in desfasu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ca cererea este valida se solicita accesul pe magistala prin activarea semnalului HOLD catre proces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orul termina executia ultimului ciclu  de transfer dupa care isi invalideaza amplificatoarele de magistrala si semnalizeaza cedarea magistralei prin activarea semnalului HLDA (Hold Acknowledge) catre contro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isi activeaza amplificatoarele de adrese si de comanda si genereaza adesa locatiei de memorie unde/de unde se face transferul; activeaza semnalul DACK (DMA acknowledge) catre interf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genereaza semnal de citire memorie (MRDC) sau citire interfata (IOR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genereaza data de catre memorie sau de interf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genereaza semnal de scriere interfata (IOWC) sau de scriere memorie (MWTC); astfel se realizeaza transferul de la memorie la interfata sau inv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dezactiveaza semnalele de comanda si apoi cele de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dezactiveaza semnalul HOLD, cedand astfel procesorului controlul magistral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orul dezactiveaza semnalul HLDA, isi reactiveaza amplificatoarele de magistrala si preia controlul magistral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A2B-A416-4E9D-AA39-5FBDBD403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semnale pe magistral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826920" y="1557360"/>
          <a:ext cx="806616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806616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917E-202D-4225-92AB-4DA6184C3E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interna a controlorului DMA I823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403280" y="1700280"/>
          <a:ext cx="7056360" cy="49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7056360" cy="49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A12-4F9F-4BFA-BB53-91E44DDC76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controlorului DMA I823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ate deservi 4 periferice independente (are 4 canale 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teza de transfer maximă este de 1,6Mocteţi/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 multe controloare pot fi conectate în “cascadă”  pentru a mări numărul de canale DMA disponib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ă a blocului transferat este de 64K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ate efectua transfer de tip memorie-memor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 multe moduri de transfe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singul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pe bloc (burs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cu autoinitializ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memorie-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AEB-7E74-44B5-9A01-3DC45B6701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 prin proces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d se folosest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solicita viteza m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spozitivul periferic este complex (are un comportament comple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doreste eliberarea procesorului central de sarcina transfe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r de intrare/iesire +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gram de transf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folosesc mecanismele de tip DMA + intreruperi pentru sincronizarea dintre procesorul central si cel de I/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ri de procesoare utilizate pentru transfe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speciale de I/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obisnuite intr-o schema de interfata (ex: Z80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controloare sau procesoare de semnal (ex: 8048, 8032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specializate pentru un anumit tip de dispozitiv (ex: procesor grafic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A10F-4EA7-4826-8F0C-6173F80377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antajele si dezavantajele  transferului prin procesor de I/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p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adapteaza usor la comportamentul dispozitivului (prin progra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icil de implementat si tes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sturi mai ma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ar probleme de concurenta pe magistrala sau de inconsistenta a memorii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52:21Z</dcterms:created>
  <dc:creator>gheorghe.sebestyen</dc:creator>
  <dc:description/>
  <dc:language>en-US</dc:language>
  <cp:lastModifiedBy>Dredd</cp:lastModifiedBy>
  <dcterms:modified xsi:type="dcterms:W3CDTF">2021-03-20T09:05:19Z</dcterms:modified>
  <cp:revision>17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