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CAEA6-A4D8-4C71-BC65-93505179A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E97E7-FD3F-4759-95F9-2898B773C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06421-881A-4F8F-AFCB-D7E2B2086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AD9DC-8008-463C-950F-858BB4740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9AB8D-0F9D-4DE9-BE77-8B74E2622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8A05A-182B-4D9A-986F-A69B497A5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5BB57-F727-430F-BEFF-E8930315C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2E097-6C09-40FE-BF05-4B094FC50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C6BCF-4600-46F5-AEB7-1FD539423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5F4EF-DD0D-4A88-93E7-25E1B5DA3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970AD-A724-4F42-8D5A-DEEE128E1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5893B-07FC-46C4-995E-6E9600C64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87AD4-FF4A-40B3-8DEE-8D36DFA10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C59F2-834C-415F-96B9-4AE0482A0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0B422-DC69-45A4-A89A-DC2C26E84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48EE8-FF68-4371-88C3-619CF90A8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93765-D668-46A2-9312-C61FBFF87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17ABD-040B-4610-B9B7-3FB666A69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6720D-FAA8-4F1D-818B-930A7CD59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7807C-8962-4961-96EA-46B522B9D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5A218-E03D-4DEF-B080-B4979EBCC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231E4-CE37-47F7-A71D-DD9D4A132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49B8C-3C3F-44C7-9D7A-2E9AF9C10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8F380-FDE5-4E65-AA2B-06163FE47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51BEE-318C-457A-B7C6-EEB64B5C2C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C2EC6-86FE-4DEC-A9FE-AFDC2AE5EC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10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A23D1-6CDE-4C64-B6EC-FD29938C850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Sisteme cu microprocesoare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ursul 10 Proiectarea interfetelor de intrare/iesire (continuare)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6A50D-AF8C-4F94-87ED-FC17BD7711C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Topologia logica </a:t>
            </a: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(nivelul 2)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7" name="Oval 3"/>
          <p:cNvSpPr/>
          <p:nvPr/>
        </p:nvSpPr>
        <p:spPr>
          <a:xfrm>
            <a:off x="3429000" y="1523880"/>
            <a:ext cx="1676520" cy="83844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Text Box 4"/>
          <p:cNvSpPr/>
          <p:nvPr/>
        </p:nvSpPr>
        <p:spPr>
          <a:xfrm>
            <a:off x="3352680" y="167652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Hos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9" name="Group 5"/>
          <p:cNvGrpSpPr/>
          <p:nvPr/>
        </p:nvGrpSpPr>
        <p:grpSpPr>
          <a:xfrm>
            <a:off x="609480" y="2666880"/>
            <a:ext cx="1676520" cy="990720"/>
            <a:chOff x="609480" y="2666880"/>
            <a:chExt cx="1676520" cy="990720"/>
          </a:xfrm>
        </p:grpSpPr>
        <p:sp>
          <p:nvSpPr>
            <p:cNvPr id="190" name="Oval 6"/>
            <p:cNvSpPr/>
            <p:nvPr/>
          </p:nvSpPr>
          <p:spPr>
            <a:xfrm>
              <a:off x="609480" y="2666880"/>
              <a:ext cx="1676520" cy="99072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1" name="Text Box 7"/>
            <p:cNvSpPr/>
            <p:nvPr/>
          </p:nvSpPr>
          <p:spPr>
            <a:xfrm>
              <a:off x="761760" y="2743200"/>
              <a:ext cx="1447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Garamond"/>
                </a:rPr>
                <a:t>Dispozitiv logic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92" name="Group 8"/>
          <p:cNvGrpSpPr/>
          <p:nvPr/>
        </p:nvGrpSpPr>
        <p:grpSpPr>
          <a:xfrm>
            <a:off x="2971800" y="3352680"/>
            <a:ext cx="1676520" cy="990720"/>
            <a:chOff x="2971800" y="3352680"/>
            <a:chExt cx="1676520" cy="990720"/>
          </a:xfrm>
        </p:grpSpPr>
        <p:sp>
          <p:nvSpPr>
            <p:cNvPr id="193" name="Oval 9"/>
            <p:cNvSpPr/>
            <p:nvPr/>
          </p:nvSpPr>
          <p:spPr>
            <a:xfrm>
              <a:off x="2971800" y="3352680"/>
              <a:ext cx="1676520" cy="99072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4" name="Text Box 10"/>
            <p:cNvSpPr/>
            <p:nvPr/>
          </p:nvSpPr>
          <p:spPr>
            <a:xfrm>
              <a:off x="3124080" y="3429000"/>
              <a:ext cx="1447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Garamond"/>
                </a:rPr>
                <a:t>Dispozitiv logic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95" name="Group 11"/>
          <p:cNvGrpSpPr/>
          <p:nvPr/>
        </p:nvGrpSpPr>
        <p:grpSpPr>
          <a:xfrm>
            <a:off x="5638680" y="3352680"/>
            <a:ext cx="1676520" cy="990720"/>
            <a:chOff x="5638680" y="3352680"/>
            <a:chExt cx="1676520" cy="990720"/>
          </a:xfrm>
        </p:grpSpPr>
        <p:sp>
          <p:nvSpPr>
            <p:cNvPr id="196" name="Oval 12"/>
            <p:cNvSpPr/>
            <p:nvPr/>
          </p:nvSpPr>
          <p:spPr>
            <a:xfrm>
              <a:off x="5638680" y="3352680"/>
              <a:ext cx="1676520" cy="99072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7" name="Text Box 13"/>
            <p:cNvSpPr/>
            <p:nvPr/>
          </p:nvSpPr>
          <p:spPr>
            <a:xfrm>
              <a:off x="5790960" y="3429000"/>
              <a:ext cx="1447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Garamond"/>
                </a:rPr>
                <a:t>Dispozitiv logic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98" name="Group 14"/>
          <p:cNvGrpSpPr/>
          <p:nvPr/>
        </p:nvGrpSpPr>
        <p:grpSpPr>
          <a:xfrm>
            <a:off x="7010280" y="2209680"/>
            <a:ext cx="1676520" cy="990720"/>
            <a:chOff x="7010280" y="2209680"/>
            <a:chExt cx="1676520" cy="990720"/>
          </a:xfrm>
        </p:grpSpPr>
        <p:sp>
          <p:nvSpPr>
            <p:cNvPr id="199" name="Oval 15"/>
            <p:cNvSpPr/>
            <p:nvPr/>
          </p:nvSpPr>
          <p:spPr>
            <a:xfrm>
              <a:off x="7010280" y="2209680"/>
              <a:ext cx="1676520" cy="99072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0" name="Text Box 16"/>
            <p:cNvSpPr/>
            <p:nvPr/>
          </p:nvSpPr>
          <p:spPr>
            <a:xfrm>
              <a:off x="7162560" y="2286000"/>
              <a:ext cx="1447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Garamond"/>
                </a:rPr>
                <a:t>Dispozitiv logic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01" name="Line 17"/>
          <p:cNvSpPr/>
          <p:nvPr/>
        </p:nvSpPr>
        <p:spPr>
          <a:xfrm flipV="1">
            <a:off x="2209680" y="2209320"/>
            <a:ext cx="144792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Line 18"/>
          <p:cNvSpPr/>
          <p:nvPr/>
        </p:nvSpPr>
        <p:spPr>
          <a:xfrm flipV="1">
            <a:off x="3886200" y="2285640"/>
            <a:ext cx="22860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Line 19"/>
          <p:cNvSpPr/>
          <p:nvPr/>
        </p:nvSpPr>
        <p:spPr>
          <a:xfrm>
            <a:off x="4800600" y="2209680"/>
            <a:ext cx="129528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Line 20"/>
          <p:cNvSpPr/>
          <p:nvPr/>
        </p:nvSpPr>
        <p:spPr>
          <a:xfrm>
            <a:off x="5029200" y="1905120"/>
            <a:ext cx="205740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Text Box 21"/>
          <p:cNvSpPr/>
          <p:nvPr/>
        </p:nvSpPr>
        <p:spPr>
          <a:xfrm>
            <a:off x="762120" y="4724280"/>
            <a:ext cx="78483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Conexiuni directe intre Host si Dispozitivele logi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Se face abstractie de legaturile fizice, care implica si Hub-uri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4A915-5312-42AF-B283-B114D0E0719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Topologia la nivel de aplicatie</a:t>
            </a:r>
            <a:br>
              <a:rPr sz="2800"/>
            </a:b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 (nivel 3)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048120" y="2133720"/>
            <a:ext cx="1447560" cy="1054080"/>
            <a:chOff x="3048120" y="2133720"/>
            <a:chExt cx="1447560" cy="1054080"/>
          </a:xfrm>
        </p:grpSpPr>
        <p:sp>
          <p:nvSpPr>
            <p:cNvPr id="209" name="Oval 4"/>
            <p:cNvSpPr/>
            <p:nvPr/>
          </p:nvSpPr>
          <p:spPr>
            <a:xfrm>
              <a:off x="3048120" y="2133720"/>
              <a:ext cx="1447560" cy="91440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0" name="Text Box 5"/>
            <p:cNvSpPr/>
            <p:nvPr/>
          </p:nvSpPr>
          <p:spPr>
            <a:xfrm>
              <a:off x="3048120" y="2362320"/>
              <a:ext cx="14475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Garamond"/>
                </a:rPr>
                <a:t>Soft client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11" name="Group 6"/>
          <p:cNvGrpSpPr/>
          <p:nvPr/>
        </p:nvGrpSpPr>
        <p:grpSpPr>
          <a:xfrm>
            <a:off x="4038480" y="3048120"/>
            <a:ext cx="1447560" cy="1054080"/>
            <a:chOff x="4038480" y="3048120"/>
            <a:chExt cx="1447560" cy="1054080"/>
          </a:xfrm>
        </p:grpSpPr>
        <p:sp>
          <p:nvSpPr>
            <p:cNvPr id="212" name="Oval 7"/>
            <p:cNvSpPr/>
            <p:nvPr/>
          </p:nvSpPr>
          <p:spPr>
            <a:xfrm>
              <a:off x="4038480" y="3048120"/>
              <a:ext cx="1447560" cy="91440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3" name="Text Box 8"/>
            <p:cNvSpPr/>
            <p:nvPr/>
          </p:nvSpPr>
          <p:spPr>
            <a:xfrm>
              <a:off x="4038480" y="3276720"/>
              <a:ext cx="14475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Garamond"/>
                </a:rPr>
                <a:t>Soft client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14" name="Group 9"/>
          <p:cNvGrpSpPr/>
          <p:nvPr/>
        </p:nvGrpSpPr>
        <p:grpSpPr>
          <a:xfrm>
            <a:off x="5181480" y="2286000"/>
            <a:ext cx="1447560" cy="1054080"/>
            <a:chOff x="5181480" y="2286000"/>
            <a:chExt cx="1447560" cy="1054080"/>
          </a:xfrm>
        </p:grpSpPr>
        <p:sp>
          <p:nvSpPr>
            <p:cNvPr id="215" name="Oval 10"/>
            <p:cNvSpPr/>
            <p:nvPr/>
          </p:nvSpPr>
          <p:spPr>
            <a:xfrm>
              <a:off x="5181480" y="2286000"/>
              <a:ext cx="1447560" cy="91440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6" name="Text Box 11"/>
            <p:cNvSpPr/>
            <p:nvPr/>
          </p:nvSpPr>
          <p:spPr>
            <a:xfrm>
              <a:off x="5181480" y="2514600"/>
              <a:ext cx="14475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Garamond"/>
                </a:rPr>
                <a:t>Soft client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17" name="Group 12"/>
          <p:cNvGrpSpPr/>
          <p:nvPr/>
        </p:nvGrpSpPr>
        <p:grpSpPr>
          <a:xfrm>
            <a:off x="2209680" y="3048120"/>
            <a:ext cx="1447560" cy="1054080"/>
            <a:chOff x="2209680" y="3048120"/>
            <a:chExt cx="1447560" cy="1054080"/>
          </a:xfrm>
        </p:grpSpPr>
        <p:sp>
          <p:nvSpPr>
            <p:cNvPr id="218" name="Oval 13"/>
            <p:cNvSpPr/>
            <p:nvPr/>
          </p:nvSpPr>
          <p:spPr>
            <a:xfrm>
              <a:off x="2209680" y="3048120"/>
              <a:ext cx="1447560" cy="91440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9" name="Text Box 14"/>
            <p:cNvSpPr/>
            <p:nvPr/>
          </p:nvSpPr>
          <p:spPr>
            <a:xfrm>
              <a:off x="2209680" y="3276720"/>
              <a:ext cx="14475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Garamond"/>
                </a:rPr>
                <a:t>Soft client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20" name="AutoShape 15"/>
          <p:cNvSpPr/>
          <p:nvPr/>
        </p:nvSpPr>
        <p:spPr>
          <a:xfrm>
            <a:off x="2057400" y="2057400"/>
            <a:ext cx="4724280" cy="20574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21" name="Group 16"/>
          <p:cNvGrpSpPr/>
          <p:nvPr/>
        </p:nvGrpSpPr>
        <p:grpSpPr>
          <a:xfrm>
            <a:off x="1066680" y="4876920"/>
            <a:ext cx="1447560" cy="685800"/>
            <a:chOff x="1066680" y="4876920"/>
            <a:chExt cx="1447560" cy="685800"/>
          </a:xfrm>
        </p:grpSpPr>
        <p:sp>
          <p:nvSpPr>
            <p:cNvPr id="222" name="Oval 17"/>
            <p:cNvSpPr/>
            <p:nvPr/>
          </p:nvSpPr>
          <p:spPr>
            <a:xfrm>
              <a:off x="1066680" y="4876920"/>
              <a:ext cx="1295280" cy="68580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3" name="Text Box 18"/>
            <p:cNvSpPr/>
            <p:nvPr/>
          </p:nvSpPr>
          <p:spPr>
            <a:xfrm>
              <a:off x="1142640" y="4953240"/>
              <a:ext cx="137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Garamond"/>
                </a:rPr>
                <a:t>Functie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24" name="Group 19"/>
          <p:cNvGrpSpPr/>
          <p:nvPr/>
        </p:nvGrpSpPr>
        <p:grpSpPr>
          <a:xfrm>
            <a:off x="2590920" y="5334120"/>
            <a:ext cx="1447560" cy="685800"/>
            <a:chOff x="2590920" y="5334120"/>
            <a:chExt cx="1447560" cy="685800"/>
          </a:xfrm>
        </p:grpSpPr>
        <p:sp>
          <p:nvSpPr>
            <p:cNvPr id="225" name="Oval 20"/>
            <p:cNvSpPr/>
            <p:nvPr/>
          </p:nvSpPr>
          <p:spPr>
            <a:xfrm>
              <a:off x="2590920" y="5334120"/>
              <a:ext cx="1295280" cy="68580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6" name="Text Box 21"/>
            <p:cNvSpPr/>
            <p:nvPr/>
          </p:nvSpPr>
          <p:spPr>
            <a:xfrm>
              <a:off x="2666880" y="5410440"/>
              <a:ext cx="137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Garamond"/>
                </a:rPr>
                <a:t>Functie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27" name="Group 22"/>
          <p:cNvGrpSpPr/>
          <p:nvPr/>
        </p:nvGrpSpPr>
        <p:grpSpPr>
          <a:xfrm>
            <a:off x="4191120" y="5029200"/>
            <a:ext cx="1447560" cy="685800"/>
            <a:chOff x="4191120" y="5029200"/>
            <a:chExt cx="1447560" cy="685800"/>
          </a:xfrm>
        </p:grpSpPr>
        <p:sp>
          <p:nvSpPr>
            <p:cNvPr id="228" name="Oval 23"/>
            <p:cNvSpPr/>
            <p:nvPr/>
          </p:nvSpPr>
          <p:spPr>
            <a:xfrm>
              <a:off x="4191120" y="5029200"/>
              <a:ext cx="1295280" cy="68580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9" name="Text Box 24"/>
            <p:cNvSpPr/>
            <p:nvPr/>
          </p:nvSpPr>
          <p:spPr>
            <a:xfrm>
              <a:off x="4267080" y="5105520"/>
              <a:ext cx="137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Garamond"/>
                </a:rPr>
                <a:t>Functie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30" name="Group 25"/>
          <p:cNvGrpSpPr/>
          <p:nvPr/>
        </p:nvGrpSpPr>
        <p:grpSpPr>
          <a:xfrm>
            <a:off x="6172200" y="5181480"/>
            <a:ext cx="1447560" cy="685800"/>
            <a:chOff x="6172200" y="5181480"/>
            <a:chExt cx="1447560" cy="685800"/>
          </a:xfrm>
        </p:grpSpPr>
        <p:sp>
          <p:nvSpPr>
            <p:cNvPr id="231" name="Oval 26"/>
            <p:cNvSpPr/>
            <p:nvPr/>
          </p:nvSpPr>
          <p:spPr>
            <a:xfrm>
              <a:off x="6172200" y="5181480"/>
              <a:ext cx="1295280" cy="68580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2" name="Text Box 27"/>
            <p:cNvSpPr/>
            <p:nvPr/>
          </p:nvSpPr>
          <p:spPr>
            <a:xfrm>
              <a:off x="6248160" y="5257800"/>
              <a:ext cx="137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Garamond"/>
                </a:rPr>
                <a:t>Functie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33" name="Line 28"/>
          <p:cNvSpPr/>
          <p:nvPr/>
        </p:nvSpPr>
        <p:spPr>
          <a:xfrm flipV="1">
            <a:off x="1981080" y="3886200"/>
            <a:ext cx="60984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Line 29"/>
          <p:cNvSpPr/>
          <p:nvPr/>
        </p:nvSpPr>
        <p:spPr>
          <a:xfrm flipV="1">
            <a:off x="3429000" y="3048120"/>
            <a:ext cx="38088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Line 30"/>
          <p:cNvSpPr/>
          <p:nvPr/>
        </p:nvSpPr>
        <p:spPr>
          <a:xfrm flipV="1">
            <a:off x="4800600" y="396216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Line 31"/>
          <p:cNvSpPr/>
          <p:nvPr/>
        </p:nvSpPr>
        <p:spPr>
          <a:xfrm flipH="1" flipV="1">
            <a:off x="6172200" y="3200040"/>
            <a:ext cx="533520" cy="19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AutoShape 32"/>
          <p:cNvSpPr/>
          <p:nvPr/>
        </p:nvSpPr>
        <p:spPr>
          <a:xfrm>
            <a:off x="2514600" y="4876920"/>
            <a:ext cx="3124080" cy="1295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Text Box 33"/>
          <p:cNvSpPr/>
          <p:nvPr/>
        </p:nvSpPr>
        <p:spPr>
          <a:xfrm>
            <a:off x="4572000" y="16002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Gazd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AutoShape 34"/>
          <p:cNvSpPr/>
          <p:nvPr/>
        </p:nvSpPr>
        <p:spPr>
          <a:xfrm>
            <a:off x="6019920" y="5029200"/>
            <a:ext cx="1600200" cy="9144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AutoShape 35"/>
          <p:cNvSpPr/>
          <p:nvPr/>
        </p:nvSpPr>
        <p:spPr>
          <a:xfrm>
            <a:off x="990720" y="4724280"/>
            <a:ext cx="1447560" cy="9144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Text Box 36"/>
          <p:cNvSpPr/>
          <p:nvPr/>
        </p:nvSpPr>
        <p:spPr>
          <a:xfrm>
            <a:off x="609480" y="43434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Dispozitiv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3E69B-222A-491A-B5CA-9ECC135FA90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anale de comunicati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4" name="Oval 3"/>
          <p:cNvSpPr/>
          <p:nvPr/>
        </p:nvSpPr>
        <p:spPr>
          <a:xfrm>
            <a:off x="3657600" y="1676520"/>
            <a:ext cx="1981080" cy="91440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Text Box 4"/>
          <p:cNvSpPr/>
          <p:nvPr/>
        </p:nvSpPr>
        <p:spPr>
          <a:xfrm>
            <a:off x="3962520" y="18288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Soft cli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Rectangle 5"/>
          <p:cNvSpPr/>
          <p:nvPr/>
        </p:nvSpPr>
        <p:spPr>
          <a:xfrm>
            <a:off x="3200400" y="3048120"/>
            <a:ext cx="68580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Rectangle 6"/>
          <p:cNvSpPr/>
          <p:nvPr/>
        </p:nvSpPr>
        <p:spPr>
          <a:xfrm>
            <a:off x="4343400" y="3048120"/>
            <a:ext cx="68580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Rectangle 7"/>
          <p:cNvSpPr/>
          <p:nvPr/>
        </p:nvSpPr>
        <p:spPr>
          <a:xfrm>
            <a:off x="5486400" y="3048120"/>
            <a:ext cx="68580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Line 8"/>
          <p:cNvSpPr/>
          <p:nvPr/>
        </p:nvSpPr>
        <p:spPr>
          <a:xfrm>
            <a:off x="762120" y="3962520"/>
            <a:ext cx="74674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Oval 9"/>
          <p:cNvSpPr/>
          <p:nvPr/>
        </p:nvSpPr>
        <p:spPr>
          <a:xfrm>
            <a:off x="3505320" y="4800600"/>
            <a:ext cx="2133360" cy="10666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AutoShape 10"/>
          <p:cNvSpPr/>
          <p:nvPr/>
        </p:nvSpPr>
        <p:spPr>
          <a:xfrm rot="20717400">
            <a:off x="3531960" y="3422160"/>
            <a:ext cx="533160" cy="1757520"/>
          </a:xfrm>
          <a:prstGeom prst="can">
            <a:avLst>
              <a:gd name="adj" fmla="val 1365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AutoShape 11"/>
          <p:cNvSpPr/>
          <p:nvPr/>
        </p:nvSpPr>
        <p:spPr>
          <a:xfrm>
            <a:off x="4419720" y="3505320"/>
            <a:ext cx="533160" cy="1600200"/>
          </a:xfrm>
          <a:prstGeom prst="can">
            <a:avLst>
              <a:gd name="adj" fmla="val 1365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AutoShape 12"/>
          <p:cNvSpPr/>
          <p:nvPr/>
        </p:nvSpPr>
        <p:spPr>
          <a:xfrm rot="1120200">
            <a:off x="5295600" y="3498480"/>
            <a:ext cx="533520" cy="1676520"/>
          </a:xfrm>
          <a:prstGeom prst="can">
            <a:avLst>
              <a:gd name="adj" fmla="val 1365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Line 13"/>
          <p:cNvSpPr/>
          <p:nvPr/>
        </p:nvSpPr>
        <p:spPr>
          <a:xfrm>
            <a:off x="3581280" y="350532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Line 14"/>
          <p:cNvSpPr/>
          <p:nvPr/>
        </p:nvSpPr>
        <p:spPr>
          <a:xfrm>
            <a:off x="4648320" y="3505320"/>
            <a:ext cx="0" cy="1447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Line 15"/>
          <p:cNvSpPr/>
          <p:nvPr/>
        </p:nvSpPr>
        <p:spPr>
          <a:xfrm flipH="1">
            <a:off x="5257440" y="3505320"/>
            <a:ext cx="609480" cy="152388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Line 16"/>
          <p:cNvSpPr/>
          <p:nvPr/>
        </p:nvSpPr>
        <p:spPr>
          <a:xfrm flipV="1">
            <a:off x="3581280" y="2438280"/>
            <a:ext cx="381240" cy="6098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Line 17"/>
          <p:cNvSpPr/>
          <p:nvPr/>
        </p:nvSpPr>
        <p:spPr>
          <a:xfrm flipV="1">
            <a:off x="4724280" y="2590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Line 18"/>
          <p:cNvSpPr/>
          <p:nvPr/>
        </p:nvSpPr>
        <p:spPr>
          <a:xfrm flipH="1" flipV="1">
            <a:off x="5410080" y="23619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Text Box 19"/>
          <p:cNvSpPr/>
          <p:nvPr/>
        </p:nvSpPr>
        <p:spPr>
          <a:xfrm>
            <a:off x="762120" y="1752480"/>
            <a:ext cx="190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Gazd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Text Box 20"/>
          <p:cNvSpPr/>
          <p:nvPr/>
        </p:nvSpPr>
        <p:spPr>
          <a:xfrm>
            <a:off x="609480" y="52578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Dispozitiv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Text Box 21"/>
          <p:cNvSpPr/>
          <p:nvPr/>
        </p:nvSpPr>
        <p:spPr>
          <a:xfrm>
            <a:off x="6477120" y="29718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Buffe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Text Box 22"/>
          <p:cNvSpPr/>
          <p:nvPr/>
        </p:nvSpPr>
        <p:spPr>
          <a:xfrm>
            <a:off x="6297840" y="4273560"/>
            <a:ext cx="222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Canale (Pipe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Line 23"/>
          <p:cNvSpPr/>
          <p:nvPr/>
        </p:nvSpPr>
        <p:spPr>
          <a:xfrm flipH="1" flipV="1">
            <a:off x="5867280" y="4266720"/>
            <a:ext cx="6098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Line 24"/>
          <p:cNvSpPr/>
          <p:nvPr/>
        </p:nvSpPr>
        <p:spPr>
          <a:xfrm flipH="1" flipV="1">
            <a:off x="4952880" y="4266720"/>
            <a:ext cx="14479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Line 25"/>
          <p:cNvSpPr/>
          <p:nvPr/>
        </p:nvSpPr>
        <p:spPr>
          <a:xfrm flipH="1">
            <a:off x="4114800" y="4495680"/>
            <a:ext cx="2209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Text Box 26"/>
          <p:cNvSpPr/>
          <p:nvPr/>
        </p:nvSpPr>
        <p:spPr>
          <a:xfrm>
            <a:off x="1752480" y="3962520"/>
            <a:ext cx="1752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Fluxuri de comunicati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Line 27"/>
          <p:cNvSpPr/>
          <p:nvPr/>
        </p:nvSpPr>
        <p:spPr>
          <a:xfrm flipV="1">
            <a:off x="3276720" y="40381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Line 28"/>
          <p:cNvSpPr/>
          <p:nvPr/>
        </p:nvSpPr>
        <p:spPr>
          <a:xfrm flipV="1">
            <a:off x="3276720" y="4038120"/>
            <a:ext cx="13716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Line 29"/>
          <p:cNvSpPr/>
          <p:nvPr/>
        </p:nvSpPr>
        <p:spPr>
          <a:xfrm flipV="1">
            <a:off x="3276720" y="4114440"/>
            <a:ext cx="236196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Freeform 30"/>
          <p:cNvSpPr/>
          <p:nvPr/>
        </p:nvSpPr>
        <p:spPr>
          <a:xfrm>
            <a:off x="3676680" y="4834080"/>
            <a:ext cx="638280" cy="745920"/>
          </a:xfrm>
          <a:custGeom>
            <a:avLst/>
            <a:gdLst/>
            <a:ahLst/>
            <a:rect l="l" t="t" r="r" b="b"/>
            <a:pathLst>
              <a:path w="402" h="470">
                <a:moveTo>
                  <a:pt x="388" y="0"/>
                </a:moveTo>
                <a:cubicBezTo>
                  <a:pt x="385" y="38"/>
                  <a:pt x="402" y="153"/>
                  <a:pt x="372" y="219"/>
                </a:cubicBezTo>
                <a:cubicBezTo>
                  <a:pt x="342" y="285"/>
                  <a:pt x="273" y="357"/>
                  <a:pt x="211" y="399"/>
                </a:cubicBezTo>
                <a:cubicBezTo>
                  <a:pt x="149" y="441"/>
                  <a:pt x="44" y="455"/>
                  <a:pt x="0" y="47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Freeform 31"/>
          <p:cNvSpPr/>
          <p:nvPr/>
        </p:nvSpPr>
        <p:spPr>
          <a:xfrm>
            <a:off x="5003640" y="4876920"/>
            <a:ext cx="406440" cy="761760"/>
          </a:xfrm>
          <a:custGeom>
            <a:avLst/>
            <a:gdLst/>
            <a:ahLst/>
            <a:rect l="l" t="t" r="r" b="b"/>
            <a:pathLst>
              <a:path w="256" h="480">
                <a:moveTo>
                  <a:pt x="16" y="0"/>
                </a:moveTo>
                <a:cubicBezTo>
                  <a:pt x="8" y="64"/>
                  <a:pt x="0" y="128"/>
                  <a:pt x="16" y="192"/>
                </a:cubicBezTo>
                <a:cubicBezTo>
                  <a:pt x="32" y="256"/>
                  <a:pt x="72" y="336"/>
                  <a:pt x="112" y="384"/>
                </a:cubicBezTo>
                <a:cubicBezTo>
                  <a:pt x="152" y="432"/>
                  <a:pt x="204" y="456"/>
                  <a:pt x="256" y="4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Text Box 32"/>
          <p:cNvSpPr/>
          <p:nvPr/>
        </p:nvSpPr>
        <p:spPr>
          <a:xfrm>
            <a:off x="6019920" y="5257800"/>
            <a:ext cx="220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Puncte terminale (Endpoint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Line 33"/>
          <p:cNvSpPr/>
          <p:nvPr/>
        </p:nvSpPr>
        <p:spPr>
          <a:xfrm flipH="1" flipV="1">
            <a:off x="5410080" y="5333760"/>
            <a:ext cx="6098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Line 34"/>
          <p:cNvSpPr/>
          <p:nvPr/>
        </p:nvSpPr>
        <p:spPr>
          <a:xfrm flipH="1">
            <a:off x="5029200" y="5562720"/>
            <a:ext cx="99072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Line 35"/>
          <p:cNvSpPr/>
          <p:nvPr/>
        </p:nvSpPr>
        <p:spPr>
          <a:xfrm flipH="1" flipV="1">
            <a:off x="4038480" y="5257440"/>
            <a:ext cx="198144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Text Box 36"/>
          <p:cNvSpPr/>
          <p:nvPr/>
        </p:nvSpPr>
        <p:spPr>
          <a:xfrm>
            <a:off x="3962520" y="54100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Functi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5195B-8CB3-4AF0-A1E4-FB80B7BA117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anale de comunicati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838080" y="159984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Canal de comunicatie: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o conexiune logica dintre un dispozitiv si softul care ruleaza pe gazda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un dispozitiv poate avea nevoie de mai multe canale de comunicati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gazda aloca cate o anumita latime de banda pentru fiecare canal, functie de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ipul transferului de date si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latimea de banda disponibila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Fiecare canal se termina cu un “punct terminal” (endpoint), folosit pentru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onfigurarea canalului de dat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adresarea canalului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E0260-0B1B-49BE-B2C3-599A39CBC13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3400" cy="79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uncte terminal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229600" cy="483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Punct terminal (endpoint):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o portiune dintr-un dispozitiv USB care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 poate identifica in mod unic  printr-un numar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incheie un canal de comunicati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pastreaza parametrii canalului de comunicati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recventa de acces la magistrala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argimea de banda necesara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umarul punctului de cap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mportamentul in caz de eroar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rimea maxima a pachetelor acceptat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ipul de transf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irectia de transf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D2DE8-AF9D-4E7F-BE6B-3B37A8E3FE8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uncte terminal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n dispozitiv USB este o colectie de puncte terminal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ecare dispozitiv are doua puncte terminale predefinite, unul de intrare si unul de iesire, ambele avand numarul 0 ; restul punctelor sunt nedefinit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elelalte puncte terminale sunt configurate de gazda, la conectar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punctele terminale pot fi de intrare sau de iesir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n canal de comunicatie se identifica in mod unic prin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adresa dispozitivului,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numarul punctului terminal si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directia fluxului de dat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96D89-94FB-4384-AD04-58E01C4DD94E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omunicatia pe magistrala USB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371600" y="159984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omunicatia USB se desfasoara in cadre (frame-uri) de cate o milisecunda (1000 cadre/s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n cadru contine mai multe tranzactii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n anumit tip de transfer se realizeaza prin mai multe tranzactii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Tipuri de transfer pe magistrala USB</a:t>
            </a: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ransfer de control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ransfer de tip izocron (isochronous), sau periodic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ransfer de tip intrerupere (interrupt), sau aperiodic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ransfer de tip bloc (bulk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EC8AC-1AB3-408D-A810-82E69ADC03B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Transferuri de control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761760" y="1752480"/>
            <a:ext cx="784836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unt initiate de gazda, sunt nonperiodic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 folosesc pentru configurarea si interogarea dispozitivului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un transfer de control contine: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o tranzactie “setup” – prin care se interogeaza dispozitivul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zero sau mai multe tranzactii de transfer de dat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o transzactie de stare – indica starea dispozitivului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daca se initiaza un nou transfer de control inaintea incheierii celui precedent, atunci cel precedent se abandoneaza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transferurile de control se transmit printr-un canal standard de date prezent in orice dispozitiv USB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canalul standard este folosit pentru configurarea dispozitivului si pentru interogar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prin acest canal se configureaza celelalte canale de date (implicit punctele terminale)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731C9-F765-4F78-BBD1-0950022A71E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Transferuri de control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Verdana"/>
              </a:rPr>
              <a:t>dimensiunea maxima a pachetelor de control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 (specificata in punctul terminal) poate fi de 8, 16, 32 sau 64 de octeti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pachetul “setup” are dimensiunea fixa de 8 octeti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Verdana"/>
              </a:rPr>
              <a:t>descriptorul de dispozitiv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 specifica lungimea maxima acceptata a pachetelor de date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transferurile de control au 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</a:rPr>
              <a:t>prioritate mai mica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 fata de transferurile izocron sau intreruper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maxim 10% dintr-un cadru se aloca petru transferuri de control, restul se aloca pentru transferurile izocron si intreruper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transferul de control are 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</a:rPr>
              <a:t>metode “handshake”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 prin care se 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</a:rPr>
              <a:t>garanteaza corectitudinea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 datelor transmis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pachetele eronate sau pierdute se retransmit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C4E09-64B6-45AD-AC81-26B83E7F998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Transferuri izocrone (periodice)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1143000" y="1827360"/>
            <a:ext cx="7540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asigura o latime de banda garantata, pentru transferuri periodic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rmatul pachetului nu este specificat prin standardul USB (depinde de dispozitiv), continutul se interpreteaza numai la nivelul softului clien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ransmisia este in flux continu, nu se incheie decat la o comanda expresa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ecanism sumar de detectie a erorilor, cadrele eronate nu se retransmi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n transfer printr-un punct terminal se face intr-un singur sens; pentru transfer bidirectional se folosesc doua puncte terminal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41C65-93A2-4B07-AA09-3BBDC721B18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USB – Universal Serial Bu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500" spc="-1" strike="noStrike">
                <a:solidFill>
                  <a:srgbClr val="000000"/>
                </a:solidFill>
                <a:latin typeface="Rockwell"/>
              </a:rPr>
              <a:t>Scopul: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100" spc="-1" strike="noStrike">
                <a:solidFill>
                  <a:srgbClr val="000000"/>
                </a:solidFill>
                <a:latin typeface="Rockwell"/>
              </a:rPr>
              <a:t>standard de comunicatie pentru conectrarea unei game largi de dispozitive periferice la un PC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Rockwell"/>
              </a:rPr>
              <a:t>Mouse, tastatura, joy-stick</a:t>
            </a: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 – dispozitive de intra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Rockwell"/>
              </a:rPr>
              <a:t>Imprimanta</a:t>
            </a: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 – dispozitive de iesire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Rockwell"/>
              </a:rPr>
              <a:t>Scaner, Camera digitala, camera Web</a:t>
            </a: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 – dispozitive multimedi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Rockwell"/>
              </a:rPr>
              <a:t>Memory-stick</a:t>
            </a: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 – dispozitive de stoca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Rockwell"/>
              </a:rPr>
              <a:t>inlocuieste interfetele seriale si paralele clasic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Rockwell"/>
              </a:rPr>
              <a:t>Solutia de principiu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Rockwell"/>
              </a:rPr>
              <a:t>protocol multinivel de tip master-sla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4D767-7CF4-4B9C-91E2-63CFEA794AAE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Transferuri izocrone (periodice)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dimensiunea maxima a unui pachet izocron este de 1023 octeti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daca sunt conectate mai multe dispozitive cu transmisie izocrona dimensiunea pachetului se divizeaza corespunzator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istemul aloca 90% din latimea de banda pentru transfer izocron si de tip intreruper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fiecare dispozitiv va indica rata de transfer de care are nevoie, care poate fi intre 1 si 2</a:t>
            </a:r>
            <a:r>
              <a:rPr b="0" lang="en-US" sz="2500" spc="-1" strike="noStrike" baseline="30000">
                <a:solidFill>
                  <a:srgbClr val="000000"/>
                </a:solidFill>
                <a:latin typeface="Verdana"/>
              </a:rPr>
              <a:t>16 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, adica un pachet la un numar de cadr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A0DE1-0EE1-420E-8C9F-E45731EBFE2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Transferuri de tip intrerupere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losite pentru transmiterea unor date de volum mic in regim aperiodic (sporadic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exemple de utilizare: mouse, tastatura, dispozitive cu canale multiple de mai multe tipuri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dimensiunea maxima a pachetului: 64 octeti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pachetele pot fi de dimensiuni variabile dar mai mici decat dimensiunea maxima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pentru un canal de intrerupere se garanteaza o anumita latime de banda prin alocarea unei portiuni dintr-un cadru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la configurare se precizeaza perioada minima de utilizare unui transfer de tip intrerupere, cuprinsa intre 1-255 microsecund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la configurare sistemul verifica daca se poate aloca latimea de banda care sa garanteze frecventa specificata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C7693-ADDA-4D35-B85E-D802431587C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Transferuri pe bloc (bulk)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 utilizeaza pentru transferul unor blocuri mari de date, la care nu exista restrictii de timp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ransferurile sunt aperiodic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exemple de utilizare: imprimanta, camera digitala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ransferul pe bloc ocupa latimea de banda maxima disponibila pe maxistrala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pachetele eronate se retransmi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dimensiunea maxima a unui pachet: 8,16, 32, sau 64 pt. USB1.1 sau 512 pt. USB 2.0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nu se garanteaza o anumita latime de banda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ransferurile pe bloc au prioritatea minima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04F7B-86C3-4AF8-BE21-634DD9005DD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Comunicatia pe o interfata USB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0" name="Oval 3"/>
          <p:cNvSpPr/>
          <p:nvPr/>
        </p:nvSpPr>
        <p:spPr>
          <a:xfrm>
            <a:off x="3352680" y="1812960"/>
            <a:ext cx="2438640" cy="43164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Text Box 4"/>
          <p:cNvSpPr/>
          <p:nvPr/>
        </p:nvSpPr>
        <p:spPr>
          <a:xfrm>
            <a:off x="3886200" y="181296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Soft cli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Oval 5"/>
          <p:cNvSpPr/>
          <p:nvPr/>
        </p:nvSpPr>
        <p:spPr>
          <a:xfrm>
            <a:off x="3352680" y="2612880"/>
            <a:ext cx="2438640" cy="43200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Oval 6"/>
          <p:cNvSpPr/>
          <p:nvPr/>
        </p:nvSpPr>
        <p:spPr>
          <a:xfrm>
            <a:off x="3352680" y="3413160"/>
            <a:ext cx="2438640" cy="50004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Oval 7"/>
          <p:cNvSpPr/>
          <p:nvPr/>
        </p:nvSpPr>
        <p:spPr>
          <a:xfrm>
            <a:off x="3276720" y="5383080"/>
            <a:ext cx="2438280" cy="43020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Text Box 8"/>
          <p:cNvSpPr/>
          <p:nvPr/>
        </p:nvSpPr>
        <p:spPr>
          <a:xfrm>
            <a:off x="3352680" y="261288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USB Driver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Text Box 9"/>
          <p:cNvSpPr/>
          <p:nvPr/>
        </p:nvSpPr>
        <p:spPr>
          <a:xfrm>
            <a:off x="3505320" y="3352680"/>
            <a:ext cx="228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Host Controller Driv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7" name="Text Box 10"/>
          <p:cNvSpPr/>
          <p:nvPr/>
        </p:nvSpPr>
        <p:spPr>
          <a:xfrm>
            <a:off x="3505320" y="5383080"/>
            <a:ext cx="228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Host Controll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Rectangle 11"/>
          <p:cNvSpPr/>
          <p:nvPr/>
        </p:nvSpPr>
        <p:spPr>
          <a:xfrm>
            <a:off x="3505320" y="4151160"/>
            <a:ext cx="2057400" cy="98424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Rectangle 12"/>
          <p:cNvSpPr/>
          <p:nvPr/>
        </p:nvSpPr>
        <p:spPr>
          <a:xfrm>
            <a:off x="3809880" y="4521240"/>
            <a:ext cx="1067040" cy="22680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Rectangle 13"/>
          <p:cNvSpPr/>
          <p:nvPr/>
        </p:nvSpPr>
        <p:spPr>
          <a:xfrm>
            <a:off x="4343400" y="4829040"/>
            <a:ext cx="1143000" cy="26856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1" name="AutoShape 14"/>
          <p:cNvSpPr/>
          <p:nvPr/>
        </p:nvSpPr>
        <p:spPr>
          <a:xfrm>
            <a:off x="3962520" y="2244600"/>
            <a:ext cx="304560" cy="368280"/>
          </a:xfrm>
          <a:prstGeom prst="downArrow">
            <a:avLst>
              <a:gd name="adj1" fmla="val 50000"/>
              <a:gd name="adj2" fmla="val 30230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2" name="AutoShape 15"/>
          <p:cNvSpPr/>
          <p:nvPr/>
        </p:nvSpPr>
        <p:spPr>
          <a:xfrm>
            <a:off x="3886200" y="3044880"/>
            <a:ext cx="304920" cy="368280"/>
          </a:xfrm>
          <a:prstGeom prst="downArrow">
            <a:avLst>
              <a:gd name="adj1" fmla="val 50000"/>
              <a:gd name="adj2" fmla="val 30195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" name="AutoShape 16"/>
          <p:cNvSpPr/>
          <p:nvPr/>
        </p:nvSpPr>
        <p:spPr>
          <a:xfrm>
            <a:off x="3886200" y="3782880"/>
            <a:ext cx="304920" cy="368280"/>
          </a:xfrm>
          <a:prstGeom prst="downArrow">
            <a:avLst>
              <a:gd name="adj1" fmla="val 50000"/>
              <a:gd name="adj2" fmla="val 30195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4" name="AutoShape 17"/>
          <p:cNvSpPr/>
          <p:nvPr/>
        </p:nvSpPr>
        <p:spPr>
          <a:xfrm>
            <a:off x="3886200" y="5075280"/>
            <a:ext cx="304920" cy="368280"/>
          </a:xfrm>
          <a:prstGeom prst="downArrow">
            <a:avLst>
              <a:gd name="adj1" fmla="val 50000"/>
              <a:gd name="adj2" fmla="val 30195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AutoShape 18"/>
          <p:cNvSpPr/>
          <p:nvPr/>
        </p:nvSpPr>
        <p:spPr>
          <a:xfrm>
            <a:off x="4952880" y="5075280"/>
            <a:ext cx="304920" cy="368280"/>
          </a:xfrm>
          <a:prstGeom prst="upArrow">
            <a:avLst>
              <a:gd name="adj1" fmla="val 50000"/>
              <a:gd name="adj2" fmla="val 30195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AutoShape 19"/>
          <p:cNvSpPr/>
          <p:nvPr/>
        </p:nvSpPr>
        <p:spPr>
          <a:xfrm>
            <a:off x="4876920" y="3782880"/>
            <a:ext cx="304560" cy="368280"/>
          </a:xfrm>
          <a:prstGeom prst="upArrow">
            <a:avLst>
              <a:gd name="adj1" fmla="val 50000"/>
              <a:gd name="adj2" fmla="val 30230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AutoShape 20"/>
          <p:cNvSpPr/>
          <p:nvPr/>
        </p:nvSpPr>
        <p:spPr>
          <a:xfrm>
            <a:off x="4800600" y="3044880"/>
            <a:ext cx="304920" cy="368280"/>
          </a:xfrm>
          <a:prstGeom prst="upArrow">
            <a:avLst>
              <a:gd name="adj1" fmla="val 50000"/>
              <a:gd name="adj2" fmla="val 30195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AutoShape 21"/>
          <p:cNvSpPr/>
          <p:nvPr/>
        </p:nvSpPr>
        <p:spPr>
          <a:xfrm>
            <a:off x="4800600" y="2244600"/>
            <a:ext cx="304920" cy="368280"/>
          </a:xfrm>
          <a:prstGeom prst="upArrow">
            <a:avLst>
              <a:gd name="adj1" fmla="val 50000"/>
              <a:gd name="adj2" fmla="val 30195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Text Box 22"/>
          <p:cNvSpPr/>
          <p:nvPr/>
        </p:nvSpPr>
        <p:spPr>
          <a:xfrm>
            <a:off x="4343400" y="481824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Tranzacti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Rectangle 23"/>
          <p:cNvSpPr/>
          <p:nvPr/>
        </p:nvSpPr>
        <p:spPr>
          <a:xfrm>
            <a:off x="6248520" y="3352680"/>
            <a:ext cx="1371600" cy="492120"/>
          </a:xfrm>
          <a:prstGeom prst="rect">
            <a:avLst/>
          </a:prstGeom>
          <a:solidFill>
            <a:srgbClr val="99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Text Box 24"/>
          <p:cNvSpPr/>
          <p:nvPr/>
        </p:nvSpPr>
        <p:spPr>
          <a:xfrm>
            <a:off x="6324480" y="3413160"/>
            <a:ext cx="1447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Transferur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Rectangle 25"/>
          <p:cNvSpPr/>
          <p:nvPr/>
        </p:nvSpPr>
        <p:spPr>
          <a:xfrm>
            <a:off x="6400800" y="1752480"/>
            <a:ext cx="1219320" cy="432000"/>
          </a:xfrm>
          <a:prstGeom prst="rect">
            <a:avLst/>
          </a:prstGeom>
          <a:solidFill>
            <a:srgbClr val="99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Text Box 26"/>
          <p:cNvSpPr/>
          <p:nvPr/>
        </p:nvSpPr>
        <p:spPr>
          <a:xfrm>
            <a:off x="6477120" y="181296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Da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Rectangle 27"/>
          <p:cNvSpPr/>
          <p:nvPr/>
        </p:nvSpPr>
        <p:spPr>
          <a:xfrm>
            <a:off x="6248520" y="4583160"/>
            <a:ext cx="1371600" cy="368280"/>
          </a:xfrm>
          <a:prstGeom prst="rect">
            <a:avLst/>
          </a:prstGeom>
          <a:solidFill>
            <a:srgbClr val="99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Text Box 28"/>
          <p:cNvSpPr/>
          <p:nvPr/>
        </p:nvSpPr>
        <p:spPr>
          <a:xfrm>
            <a:off x="6248520" y="4583160"/>
            <a:ext cx="1371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Tranzacti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Rectangle 29"/>
          <p:cNvSpPr/>
          <p:nvPr/>
        </p:nvSpPr>
        <p:spPr>
          <a:xfrm>
            <a:off x="6172200" y="5691240"/>
            <a:ext cx="1447920" cy="368280"/>
          </a:xfrm>
          <a:prstGeom prst="rect">
            <a:avLst/>
          </a:prstGeom>
          <a:solidFill>
            <a:srgbClr val="99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Text Box 30"/>
          <p:cNvSpPr/>
          <p:nvPr/>
        </p:nvSpPr>
        <p:spPr>
          <a:xfrm>
            <a:off x="6248520" y="575136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Pache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Line 31"/>
          <p:cNvSpPr/>
          <p:nvPr/>
        </p:nvSpPr>
        <p:spPr>
          <a:xfrm>
            <a:off x="2362320" y="2428920"/>
            <a:ext cx="586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Line 32"/>
          <p:cNvSpPr/>
          <p:nvPr/>
        </p:nvSpPr>
        <p:spPr>
          <a:xfrm>
            <a:off x="2362320" y="3168720"/>
            <a:ext cx="5943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AutoShape 33"/>
          <p:cNvSpPr/>
          <p:nvPr/>
        </p:nvSpPr>
        <p:spPr>
          <a:xfrm>
            <a:off x="4419720" y="5794200"/>
            <a:ext cx="152280" cy="487440"/>
          </a:xfrm>
          <a:prstGeom prst="upDownArrow">
            <a:avLst>
              <a:gd name="adj1" fmla="val 50000"/>
              <a:gd name="adj2" fmla="val 63722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Rectangle 34"/>
          <p:cNvSpPr/>
          <p:nvPr/>
        </p:nvSpPr>
        <p:spPr>
          <a:xfrm>
            <a:off x="3962520" y="6211800"/>
            <a:ext cx="990360" cy="417600"/>
          </a:xfrm>
          <a:prstGeom prst="rec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Text Box 35"/>
          <p:cNvSpPr/>
          <p:nvPr/>
        </p:nvSpPr>
        <p:spPr>
          <a:xfrm>
            <a:off x="4038480" y="62118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USB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3" name="Text Box 36"/>
          <p:cNvSpPr/>
          <p:nvPr/>
        </p:nvSpPr>
        <p:spPr>
          <a:xfrm>
            <a:off x="1447920" y="2031840"/>
            <a:ext cx="1447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Interfata USB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4" name="Text Box 37"/>
          <p:cNvSpPr/>
          <p:nvPr/>
        </p:nvSpPr>
        <p:spPr>
          <a:xfrm>
            <a:off x="1523880" y="279720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Interfata HC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Text Box 38"/>
          <p:cNvSpPr/>
          <p:nvPr/>
        </p:nvSpPr>
        <p:spPr>
          <a:xfrm>
            <a:off x="1447920" y="509904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Interfata har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Text Box 39"/>
          <p:cNvSpPr/>
          <p:nvPr/>
        </p:nvSpPr>
        <p:spPr>
          <a:xfrm>
            <a:off x="3581280" y="4191120"/>
            <a:ext cx="2057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Lista de tranzacti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Text Box 40"/>
          <p:cNvSpPr/>
          <p:nvPr/>
        </p:nvSpPr>
        <p:spPr>
          <a:xfrm>
            <a:off x="3809880" y="44719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Tranzacti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61CB7-03BA-493F-889F-FB0D4397091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omponente implicate in comunicatie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Soft-ul clien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determina tipul de transfer realizat cu fiecare dispozitiv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nu se implica in stabilirea canalelor de comunicati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pentru comunicatie foloseste driverele (interfetele USB) oferite de sistemul de operar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Driver-ul USB (USBD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trateaza cererile de configurare si de transfer normal primite de la soft-ul client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tabileste si configureaza canale de comunicatie pe baza cererii primite; unele cereri sunt refuzate datorita limitarilor legate de capacitatea de transmisie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92F11-ABB2-4A5C-A9B2-777583A8667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omponente implicate in comunicatie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Verdana"/>
              </a:rPr>
              <a:t>Driver-ul controlorului gazda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 (HCD)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primeste cererile de transfer si se ocupa de transmiterea acestora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pune datele receptionate in buffer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verifica limitele de comunicatie (cereri v.s latime de banda)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anunta sfarsitul unui transfer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Lista de tranzactii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Verdana"/>
              </a:rPr>
              <a:t>contine lista tranzactiilor in curs de desfasurar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Controlor gazda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transforma tranzactiile aflate in asteptare in activitate pe magistrala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 ocupa de controlul cadrelor si transmiterea si receptia pachetelor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C8FB5-AD65-4A26-9309-102D8ACEC8F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66"/>
                </a:solidFill>
                <a:latin typeface="Arial"/>
              </a:rPr>
              <a:t>Interfata paralela</a:t>
            </a:r>
            <a:endParaRPr b="0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827360"/>
            <a:ext cx="7997760" cy="45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Transferul se realizeaza prin mai multe linii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Linii de date (ex: 8) – pentru datele propriu-zis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Linii de control – pentru sincronizare si pentru controlul fluxului de datei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aracteristici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Viteza mai mar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Distante mici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ransfer (de obicei) unidirectiona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Tipuri de transfer paralel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a) fără semnale de contro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b) protocol asincron fără confirmar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) protocol asincron cu confirmare (hand - shaking)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8D2AD-26B3-4096-A029-F44162EE93B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Tipuri de transfer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52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a) </a:t>
            </a: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fără semnale de control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- se folosesc numai semnale de dat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- se poate citi starea unor semnale digitale sau se pot comanda semnale digital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- nu se pot transfera secvente de date – nu exista semnale care sa indice secventa de dat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- exemple: testarea starii unor senzori, comanda unor elemente de actionar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b) </a:t>
            </a: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protocol asincron fără confirmare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- se foloseste un semnal de control emis fie de transmitator fie de receptor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- se pot transmite secvente de dat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- viteza de transfer este controlata de unitatea care genereaza semnalul de contro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- nu exista semnal de reactie (confirmare) din partea unitatii partenere; viteza trebuie sa fie suficient de mica pentru a acoperi toate intarzierile posibil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360" name="Object 4"/>
          <p:cNvGraphicFramePr/>
          <p:nvPr/>
        </p:nvGraphicFramePr>
        <p:xfrm>
          <a:off x="762120" y="4932360"/>
          <a:ext cx="7924680" cy="1925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6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4932360"/>
                    <a:ext cx="7924680" cy="192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3B55B-8945-4D07-AADE-EA3CB5DEC13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Transferul paralel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84872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c) protocol asincron cu confirmare (hand - shaking)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- se folosesc 2 semnale decontrol: unul emis de transmitator si unul de raspuns de la recepto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- transmisie cu “feed-back, cu reacti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- se poate adapta mult mai usor la viteza de lucru a ambelor unitati comunicante; viteza mai mar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- pot sa apara situatii de eroare, in cazul necorelarii corespunzatoare asemnalelor de contro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365" name="Object 4"/>
          <p:cNvGraphicFramePr/>
          <p:nvPr/>
        </p:nvGraphicFramePr>
        <p:xfrm>
          <a:off x="1066680" y="3505320"/>
          <a:ext cx="7391520" cy="3352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6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3505320"/>
                    <a:ext cx="739152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7" name="Text Box 6"/>
          <p:cNvSpPr/>
          <p:nvPr/>
        </p:nvSpPr>
        <p:spPr>
          <a:xfrm>
            <a:off x="3048120" y="4724280"/>
            <a:ext cx="16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rec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8" name="Text Box 7"/>
          <p:cNvSpPr/>
          <p:nvPr/>
        </p:nvSpPr>
        <p:spPr>
          <a:xfrm>
            <a:off x="7391520" y="472428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roar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Text Box 8"/>
          <p:cNvSpPr/>
          <p:nvPr/>
        </p:nvSpPr>
        <p:spPr>
          <a:xfrm>
            <a:off x="3733920" y="617220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roar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F6D8D-D9D8-4814-A59F-BEDD47659A5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Transferul paralel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088040" cy="190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c) protocol asincron cu confirmare (hand - shaking), cu interconditionare intre semnalele de control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- rezolva problema corectitudinii transferului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- activarea si dezactivarea celor 2 semnale de control se face interconditionat;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373" name="Object 4"/>
          <p:cNvGraphicFramePr/>
          <p:nvPr/>
        </p:nvGraphicFramePr>
        <p:xfrm>
          <a:off x="0" y="4267080"/>
          <a:ext cx="8610480" cy="2286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7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267080"/>
                    <a:ext cx="861048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5" name="Freeform 6"/>
          <p:cNvSpPr/>
          <p:nvPr/>
        </p:nvSpPr>
        <p:spPr>
          <a:xfrm>
            <a:off x="3352680" y="5029200"/>
            <a:ext cx="381240" cy="609480"/>
          </a:xfrm>
          <a:custGeom>
            <a:avLst/>
            <a:gdLst/>
            <a:ahLst/>
            <a:rect l="l" t="t" r="r" b="b"/>
            <a:pathLst>
              <a:path w="208" h="352">
                <a:moveTo>
                  <a:pt x="16" y="352"/>
                </a:moveTo>
                <a:cubicBezTo>
                  <a:pt x="8" y="260"/>
                  <a:pt x="0" y="168"/>
                  <a:pt x="16" y="112"/>
                </a:cubicBezTo>
                <a:cubicBezTo>
                  <a:pt x="32" y="56"/>
                  <a:pt x="80" y="32"/>
                  <a:pt x="112" y="16"/>
                </a:cubicBezTo>
                <a:cubicBezTo>
                  <a:pt x="144" y="0"/>
                  <a:pt x="192" y="16"/>
                  <a:pt x="208" y="16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DEC8D-BA0A-46A5-8486-EBA0448CD47E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600" spc="-1" strike="noStrike">
                <a:solidFill>
                  <a:srgbClr val="006666"/>
                </a:solidFill>
                <a:latin typeface="Rockwell"/>
              </a:rPr>
              <a:t>Caracteristici</a:t>
            </a:r>
            <a:r>
              <a:rPr b="0" lang="en-US" sz="3600" spc="-1" strike="noStrike">
                <a:solidFill>
                  <a:srgbClr val="006666"/>
                </a:solidFill>
                <a:latin typeface="Rockwell"/>
              </a:rPr>
              <a:t> de performanta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100" spc="-1" strike="noStrike">
                <a:solidFill>
                  <a:srgbClr val="000000"/>
                </a:solidFill>
                <a:latin typeface="Rockwell"/>
              </a:rPr>
              <a:t>Viteza </a:t>
            </a:r>
            <a:r>
              <a:rPr b="0" lang="en-US" sz="2100" spc="-1" strike="noStrike">
                <a:solidFill>
                  <a:srgbClr val="000000"/>
                </a:solidFill>
                <a:latin typeface="Rockwell"/>
              </a:rPr>
              <a:t>foarte mar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Rockwell"/>
              </a:rPr>
              <a:t>Latime de banda </a:t>
            </a:r>
            <a:r>
              <a:rPr b="0" lang="ro-RO" sz="2100" spc="-1" strike="noStrike">
                <a:solidFill>
                  <a:srgbClr val="000000"/>
                </a:solidFill>
                <a:latin typeface="Rockwell"/>
              </a:rPr>
              <a:t>ridicata</a:t>
            </a:r>
            <a:r>
              <a:rPr b="0" lang="en-US" sz="2100" spc="-1" strike="noStrike">
                <a:solidFill>
                  <a:srgbClr val="000000"/>
                </a:solidFill>
                <a:latin typeface="Rockwell"/>
              </a:rPr>
              <a:t> (12 Mbps, 480 Mbps, 5Gbps, 10 Gbps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100" spc="-1" strike="noStrike">
                <a:solidFill>
                  <a:srgbClr val="000000"/>
                </a:solidFill>
                <a:latin typeface="Rockwell"/>
              </a:rPr>
              <a:t>Facilitati PnP (Plag and Play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100" spc="-1" strike="noStrike">
                <a:solidFill>
                  <a:srgbClr val="000000"/>
                </a:solidFill>
                <a:latin typeface="Rockwell"/>
              </a:rPr>
              <a:t>O interfata deserveste </a:t>
            </a:r>
            <a:r>
              <a:rPr b="0" lang="en-US" sz="2100" spc="-1" strike="noStrike">
                <a:solidFill>
                  <a:srgbClr val="000000"/>
                </a:solidFill>
                <a:latin typeface="Rockwell"/>
              </a:rPr>
              <a:t>simultan </a:t>
            </a:r>
            <a:r>
              <a:rPr b="0" lang="ro-RO" sz="2100" spc="-1" strike="noStrike">
                <a:solidFill>
                  <a:srgbClr val="000000"/>
                </a:solidFill>
                <a:latin typeface="Rockwell"/>
              </a:rPr>
              <a:t>mai multe dispozi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Rockwell"/>
              </a:rPr>
              <a:t>Mai multe canale de comunicatie pe acelasi suport fizic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Rockwell"/>
              </a:rPr>
              <a:t>Facilitati de transmisie adaptate mai multor tipuri de dat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Rockwell"/>
              </a:rPr>
              <a:t>date sporadic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Rockwell"/>
              </a:rPr>
              <a:t>date periodic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Rockwell"/>
              </a:rPr>
              <a:t>date de volum mar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4F1B3-389E-4AEF-A36A-77F2A981386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Transferul paralel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6935760" cy="190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Circuitul I8255 – controlor pentru transfer paralel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3 porturi de date a cate 8 biti (A, B si C)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Moduri de lucru pentru cele 3 porturi: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trari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esiri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ransfer bidirectional – mai problematic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egistrul C se poate diviza in 2 pentru a deservi cu semnale de control registrele A si B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379" name="Object 4"/>
          <p:cNvGraphicFramePr/>
          <p:nvPr/>
        </p:nvGraphicFramePr>
        <p:xfrm>
          <a:off x="1143000" y="3809880"/>
          <a:ext cx="7086600" cy="2971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8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3809880"/>
                    <a:ext cx="708660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7EC14-E196-47A4-8FAE-D7215C9F0B7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Circuite de numarare/contorizare/temporizare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44197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Utilizate pentru: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ontorizarea unor evenimente extern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generarea unor semnale de o anumită frecvenţă prin divizarea unui semnal de cea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întîrzierea unor semnale (monostabil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generarea unor întreruperi periodice sau după un anumit timp de la apariţia unui evenimen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7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Exemplu de controlor specializat: I8253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3  contoare a 16 biti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Diverse moduri de lucru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7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Utilizare in cadrul unui calculator PC: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generarea unor întreruperi periodice necesare pentru contorizarea timpului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eclanşarea periodică a unor cicluri de reînprospătare a memoriei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generarea unor semnale sonore de avarie la difuzorul sistemului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384" name="Object 4"/>
          <p:cNvGraphicFramePr/>
          <p:nvPr/>
        </p:nvGraphicFramePr>
        <p:xfrm>
          <a:off x="4876920" y="1905120"/>
          <a:ext cx="4803480" cy="3657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8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76920" y="1905120"/>
                    <a:ext cx="4803480" cy="36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60365-6E7A-44A5-AE93-2212142E335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Proiectarea unei interfete de intrare/iesire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Verdana"/>
              </a:rPr>
              <a:t>Etape (pasi):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definirea schemei bloc funcţionale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alegerea circuitelor care implementează funcţiile interfeţei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alocarea adreselor de porturi din spaţiul UCP dedicat perifericelor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alegerea modului de selecţie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proiectarea circuitelor de generare a comenzilor şi a selecţiilor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Verdana"/>
              </a:rPr>
              <a:t>Blocuri functionale: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blocul de selecţie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registre (porturi) de intrare/ieşire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dispozitiv de comandă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registre de comandă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registre de stare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blocul de interfaţă cu perifericul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37591-DE02-4B04-A3D3-4A564B18767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Proiectarea interfetelor de intrare/iesire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370160" y="1827000"/>
            <a:ext cx="731664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Blocul de selectie: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Rolul: Selectarea interfetei si selectarea registrelor din interfata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Mod de selectie: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otala – se iau in considerare toate liniile de adresa (nu se prea foloseste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artiala – se considera numai o parte din semnalele de adresa (cel mai frecvent utilizat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niara – fiecare linie de adresa se considera un semnal de selectie pentru un registru (se foloseste la sistemele mici, dedicate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392" name="Object 4"/>
          <p:cNvGraphicFramePr/>
          <p:nvPr/>
        </p:nvGraphicFramePr>
        <p:xfrm>
          <a:off x="1219320" y="4419720"/>
          <a:ext cx="6324480" cy="2361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9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4419720"/>
                    <a:ext cx="6324480" cy="23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F5CF1-7945-4975-BB1C-3938962A75F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Proiectarea interfetelor de intrare/iesire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914040" y="1523520"/>
            <a:ext cx="75438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Verdana"/>
              </a:rPr>
              <a:t>Blocul de registre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Registre de date – pentru transferul de date: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e intrar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e iesir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Registru/registre de control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Genereaza semnale de control catre dispozitivul periferic sau determina modul de lucru al interfetei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Registru/registre de stare: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dica starea interfetei si a dispozitivului periferic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Amplificatorul de date: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asigura incarcatrea magistralei cu o singura sarcina TTL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397" name="Object 4"/>
          <p:cNvGraphicFramePr/>
          <p:nvPr/>
        </p:nvGraphicFramePr>
        <p:xfrm>
          <a:off x="838080" y="4495680"/>
          <a:ext cx="7315200" cy="234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9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4495680"/>
                    <a:ext cx="7315200" cy="23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5693B-E10C-456E-8384-293AD9FE1F5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Circuite specializate pentru anumite tipuri de interfete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ontrolor pentru interfata paralela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PIO – parallel I/O:  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</a:rPr>
              <a:t>I8255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ontrolor pentru interfata seriala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O – serial I/O, sau USART – universal serial asynchron receiver and transmitters: 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</a:rPr>
              <a:t>I8251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ontrolor pentru contorizare/temporizar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CTC – counter/timer controller: I8253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ontrolor pentru interfata floppy: I827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ontrolor DMA: I8237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ontrolor de intreruperi: I8259A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A51CD-0AFD-439E-BBEA-91A83D7E064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aracteristici fizic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-76320" y="15238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Transmisie pe cablu standard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4 fire: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2 de alimentare: Vcc(rosu)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ND(maro) =&gt; 5V, 500m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2 de date (albastru si galben)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rsada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Lungimea cablului: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xim 5 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tensibil cu HUB-uri pana la 30 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onectori standard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 tip “A” – pentru calculator (master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 tip “B” – pentru dispozitive periferi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onectare in timpul functionarii (hot-swappable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2" name="Content Placeholder 14" descr=""/>
          <p:cNvPicPr/>
          <p:nvPr/>
        </p:nvPicPr>
        <p:blipFill>
          <a:blip r:embed="rId1"/>
          <a:stretch/>
        </p:blipFill>
        <p:spPr>
          <a:xfrm>
            <a:off x="5140440" y="1981080"/>
            <a:ext cx="3979800" cy="22860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1" descr=""/>
          <p:cNvPicPr/>
          <p:nvPr/>
        </p:nvPicPr>
        <p:blipFill>
          <a:blip r:embed="rId2"/>
          <a:stretch/>
        </p:blipFill>
        <p:spPr>
          <a:xfrm>
            <a:off x="6492960" y="0"/>
            <a:ext cx="2651040" cy="176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F032F-F265-4530-97DE-6E5A7965B80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Topologia fizica a conexiunii (retelei) USB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Text Box 28"/>
          <p:cNvSpPr/>
          <p:nvPr/>
        </p:nvSpPr>
        <p:spPr>
          <a:xfrm>
            <a:off x="6400800" y="1523880"/>
            <a:ext cx="27432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Dispozitiv = Devi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Gazda = Hos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7" name="Group 47"/>
          <p:cNvGrpSpPr/>
          <p:nvPr/>
        </p:nvGrpSpPr>
        <p:grpSpPr>
          <a:xfrm>
            <a:off x="609480" y="1752480"/>
            <a:ext cx="8305920" cy="5189040"/>
            <a:chOff x="609480" y="1752480"/>
            <a:chExt cx="8305920" cy="5189040"/>
          </a:xfrm>
        </p:grpSpPr>
        <p:sp>
          <p:nvSpPr>
            <p:cNvPr id="108" name="Oval 2"/>
            <p:cNvSpPr/>
            <p:nvPr/>
          </p:nvSpPr>
          <p:spPr>
            <a:xfrm>
              <a:off x="3505320" y="2116080"/>
              <a:ext cx="1752480" cy="72684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9" name="AutoShape 4"/>
            <p:cNvSpPr/>
            <p:nvPr/>
          </p:nvSpPr>
          <p:spPr>
            <a:xfrm>
              <a:off x="3429000" y="1752480"/>
              <a:ext cx="1905120" cy="72720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0" name="Text Box 5"/>
            <p:cNvSpPr/>
            <p:nvPr/>
          </p:nvSpPr>
          <p:spPr>
            <a:xfrm>
              <a:off x="3429000" y="1825200"/>
              <a:ext cx="1981080" cy="76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Garamond"/>
                </a:rPr>
                <a:t>Gazda</a:t>
              </a:r>
              <a:r>
                <a:rPr b="0" lang="en-US" sz="2000" spc="-1" strike="noStrike">
                  <a:solidFill>
                    <a:srgbClr val="000000"/>
                  </a:solidFill>
                  <a:latin typeface="Garamond"/>
                </a:rPr>
                <a:t> (calculator)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1" name="Text Box 6"/>
            <p:cNvSpPr/>
            <p:nvPr/>
          </p:nvSpPr>
          <p:spPr>
            <a:xfrm>
              <a:off x="3733920" y="2479680"/>
              <a:ext cx="1904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aramond"/>
                </a:rPr>
                <a:t>Root Hub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12" name="Group 7"/>
            <p:cNvGrpSpPr/>
            <p:nvPr/>
          </p:nvGrpSpPr>
          <p:grpSpPr>
            <a:xfrm>
              <a:off x="1143000" y="2697840"/>
              <a:ext cx="1828800" cy="508680"/>
              <a:chOff x="1143000" y="2697840"/>
              <a:chExt cx="1828800" cy="508680"/>
            </a:xfrm>
          </p:grpSpPr>
          <p:sp>
            <p:nvSpPr>
              <p:cNvPr id="113" name="AutoShape 8"/>
              <p:cNvSpPr/>
              <p:nvPr/>
            </p:nvSpPr>
            <p:spPr>
              <a:xfrm>
                <a:off x="1219320" y="2748600"/>
                <a:ext cx="1676160" cy="457920"/>
              </a:xfrm>
              <a:prstGeom prst="roundRect">
                <a:avLst>
                  <a:gd name="adj" fmla="val 16667"/>
                </a:avLst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4" name="Text Box 9"/>
              <p:cNvSpPr/>
              <p:nvPr/>
            </p:nvSpPr>
            <p:spPr>
              <a:xfrm>
                <a:off x="1143000" y="2697840"/>
                <a:ext cx="1828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Garamond"/>
                  </a:rPr>
                  <a:t>Dispozitiv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15" name="Line 10"/>
            <p:cNvSpPr/>
            <p:nvPr/>
          </p:nvSpPr>
          <p:spPr>
            <a:xfrm flipV="1">
              <a:off x="2895480" y="2625120"/>
              <a:ext cx="762120" cy="29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6" name="Line 11"/>
            <p:cNvSpPr/>
            <p:nvPr/>
          </p:nvSpPr>
          <p:spPr>
            <a:xfrm>
              <a:off x="5181480" y="2625120"/>
              <a:ext cx="1219320" cy="58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7" name="Rectangle 12"/>
            <p:cNvSpPr/>
            <p:nvPr/>
          </p:nvSpPr>
          <p:spPr>
            <a:xfrm>
              <a:off x="609480" y="3643560"/>
              <a:ext cx="3962520" cy="2327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18" name="Group 13"/>
            <p:cNvGrpSpPr/>
            <p:nvPr/>
          </p:nvGrpSpPr>
          <p:grpSpPr>
            <a:xfrm>
              <a:off x="5334120" y="4007160"/>
              <a:ext cx="1218600" cy="799560"/>
              <a:chOff x="5334120" y="4007160"/>
              <a:chExt cx="1218600" cy="799560"/>
            </a:xfrm>
          </p:grpSpPr>
          <p:sp>
            <p:nvSpPr>
              <p:cNvPr id="119" name="Oval 14"/>
              <p:cNvSpPr/>
              <p:nvPr/>
            </p:nvSpPr>
            <p:spPr>
              <a:xfrm>
                <a:off x="5334120" y="4007160"/>
                <a:ext cx="1066680" cy="799560"/>
              </a:xfrm>
              <a:prstGeom prst="ellipse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0" name="Text Box 15"/>
              <p:cNvSpPr/>
              <p:nvPr/>
            </p:nvSpPr>
            <p:spPr>
              <a:xfrm>
                <a:off x="5486400" y="4224960"/>
                <a:ext cx="1066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Garamond"/>
                  </a:rPr>
                  <a:t>Hub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21" name="Group 16"/>
            <p:cNvGrpSpPr/>
            <p:nvPr/>
          </p:nvGrpSpPr>
          <p:grpSpPr>
            <a:xfrm>
              <a:off x="2819520" y="4079880"/>
              <a:ext cx="1218600" cy="799560"/>
              <a:chOff x="2819520" y="4079880"/>
              <a:chExt cx="1218600" cy="799560"/>
            </a:xfrm>
          </p:grpSpPr>
          <p:sp>
            <p:nvSpPr>
              <p:cNvPr id="122" name="Oval 17"/>
              <p:cNvSpPr/>
              <p:nvPr/>
            </p:nvSpPr>
            <p:spPr>
              <a:xfrm>
                <a:off x="2819520" y="4079880"/>
                <a:ext cx="1066680" cy="799560"/>
              </a:xfrm>
              <a:prstGeom prst="ellipse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3" name="Text Box 18"/>
              <p:cNvSpPr/>
              <p:nvPr/>
            </p:nvSpPr>
            <p:spPr>
              <a:xfrm>
                <a:off x="2971800" y="4297680"/>
                <a:ext cx="1066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Garamond"/>
                  </a:rPr>
                  <a:t>Hub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24" name="Line 19"/>
            <p:cNvSpPr/>
            <p:nvPr/>
          </p:nvSpPr>
          <p:spPr>
            <a:xfrm>
              <a:off x="4800600" y="2770920"/>
              <a:ext cx="838080" cy="130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5" name="Line 20"/>
            <p:cNvSpPr/>
            <p:nvPr/>
          </p:nvSpPr>
          <p:spPr>
            <a:xfrm>
              <a:off x="6400800" y="4370760"/>
              <a:ext cx="76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6" name="Line 21"/>
            <p:cNvSpPr/>
            <p:nvPr/>
          </p:nvSpPr>
          <p:spPr>
            <a:xfrm>
              <a:off x="6248520" y="4661640"/>
              <a:ext cx="990360" cy="87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7" name="Line 22"/>
            <p:cNvSpPr/>
            <p:nvPr/>
          </p:nvSpPr>
          <p:spPr>
            <a:xfrm>
              <a:off x="5867280" y="4734360"/>
              <a:ext cx="0" cy="87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8" name="Line 23"/>
            <p:cNvSpPr/>
            <p:nvPr/>
          </p:nvSpPr>
          <p:spPr>
            <a:xfrm flipV="1">
              <a:off x="1905120" y="4661280"/>
              <a:ext cx="990360" cy="581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9" name="Line 24"/>
            <p:cNvSpPr/>
            <p:nvPr/>
          </p:nvSpPr>
          <p:spPr>
            <a:xfrm flipH="1" flipV="1">
              <a:off x="3504960" y="4807080"/>
              <a:ext cx="152280" cy="43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0" name="Line 25"/>
            <p:cNvSpPr/>
            <p:nvPr/>
          </p:nvSpPr>
          <p:spPr>
            <a:xfrm flipV="1">
              <a:off x="3505320" y="2842920"/>
              <a:ext cx="609480" cy="1236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1" name="Text Box 26"/>
            <p:cNvSpPr/>
            <p:nvPr/>
          </p:nvSpPr>
          <p:spPr>
            <a:xfrm>
              <a:off x="685800" y="3643560"/>
              <a:ext cx="2590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Garamond"/>
                </a:rPr>
                <a:t>Dispozitiv compus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2" name="Text Box 27"/>
            <p:cNvSpPr/>
            <p:nvPr/>
          </p:nvSpPr>
          <p:spPr>
            <a:xfrm>
              <a:off x="3048120" y="6116040"/>
              <a:ext cx="30477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Garamond"/>
                </a:rPr>
                <a:t>Topologie de tip stea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33" name="Group 29"/>
            <p:cNvGrpSpPr/>
            <p:nvPr/>
          </p:nvGrpSpPr>
          <p:grpSpPr>
            <a:xfrm>
              <a:off x="4800600" y="5534280"/>
              <a:ext cx="1828800" cy="508680"/>
              <a:chOff x="4800600" y="5534280"/>
              <a:chExt cx="1828800" cy="508680"/>
            </a:xfrm>
          </p:grpSpPr>
          <p:sp>
            <p:nvSpPr>
              <p:cNvPr id="134" name="AutoShape 30"/>
              <p:cNvSpPr/>
              <p:nvPr/>
            </p:nvSpPr>
            <p:spPr>
              <a:xfrm>
                <a:off x="4876920" y="5585040"/>
                <a:ext cx="1676160" cy="457920"/>
              </a:xfrm>
              <a:prstGeom prst="roundRect">
                <a:avLst>
                  <a:gd name="adj" fmla="val 16667"/>
                </a:avLst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5" name="Text Box 31"/>
              <p:cNvSpPr/>
              <p:nvPr/>
            </p:nvSpPr>
            <p:spPr>
              <a:xfrm>
                <a:off x="4800600" y="5534280"/>
                <a:ext cx="1828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Garamond"/>
                  </a:rPr>
                  <a:t>Dispozitiv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36" name="Group 32"/>
            <p:cNvGrpSpPr/>
            <p:nvPr/>
          </p:nvGrpSpPr>
          <p:grpSpPr>
            <a:xfrm>
              <a:off x="2666880" y="5170680"/>
              <a:ext cx="1828800" cy="508320"/>
              <a:chOff x="2666880" y="5170680"/>
              <a:chExt cx="1828800" cy="508320"/>
            </a:xfrm>
          </p:grpSpPr>
          <p:sp>
            <p:nvSpPr>
              <p:cNvPr id="137" name="AutoShape 33"/>
              <p:cNvSpPr/>
              <p:nvPr/>
            </p:nvSpPr>
            <p:spPr>
              <a:xfrm>
                <a:off x="2743200" y="5221440"/>
                <a:ext cx="1676160" cy="457560"/>
              </a:xfrm>
              <a:prstGeom prst="roundRect">
                <a:avLst>
                  <a:gd name="adj" fmla="val 16667"/>
                </a:avLst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8" name="Text Box 34"/>
              <p:cNvSpPr/>
              <p:nvPr/>
            </p:nvSpPr>
            <p:spPr>
              <a:xfrm>
                <a:off x="2666880" y="5170680"/>
                <a:ext cx="1828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Garamond"/>
                  </a:rPr>
                  <a:t>Dispozitiv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762120" y="5170680"/>
              <a:ext cx="1828800" cy="508320"/>
              <a:chOff x="762120" y="5170680"/>
              <a:chExt cx="1828800" cy="508320"/>
            </a:xfrm>
          </p:grpSpPr>
          <p:sp>
            <p:nvSpPr>
              <p:cNvPr id="140" name="AutoShape 36"/>
              <p:cNvSpPr/>
              <p:nvPr/>
            </p:nvSpPr>
            <p:spPr>
              <a:xfrm>
                <a:off x="838440" y="5221440"/>
                <a:ext cx="1676160" cy="457560"/>
              </a:xfrm>
              <a:prstGeom prst="roundRect">
                <a:avLst>
                  <a:gd name="adj" fmla="val 16667"/>
                </a:avLst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1" name="Text Box 37"/>
              <p:cNvSpPr/>
              <p:nvPr/>
            </p:nvSpPr>
            <p:spPr>
              <a:xfrm>
                <a:off x="762120" y="5170680"/>
                <a:ext cx="1828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Garamond"/>
                  </a:rPr>
                  <a:t>Dispozitiv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42" name="Group 38"/>
            <p:cNvGrpSpPr/>
            <p:nvPr/>
          </p:nvGrpSpPr>
          <p:grpSpPr>
            <a:xfrm>
              <a:off x="6781680" y="5461560"/>
              <a:ext cx="1828800" cy="508680"/>
              <a:chOff x="6781680" y="5461560"/>
              <a:chExt cx="1828800" cy="508680"/>
            </a:xfrm>
          </p:grpSpPr>
          <p:sp>
            <p:nvSpPr>
              <p:cNvPr id="143" name="AutoShape 39"/>
              <p:cNvSpPr/>
              <p:nvPr/>
            </p:nvSpPr>
            <p:spPr>
              <a:xfrm>
                <a:off x="6858000" y="5512320"/>
                <a:ext cx="1676160" cy="457920"/>
              </a:xfrm>
              <a:prstGeom prst="roundRect">
                <a:avLst>
                  <a:gd name="adj" fmla="val 16667"/>
                </a:avLst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4" name="Text Box 40"/>
              <p:cNvSpPr/>
              <p:nvPr/>
            </p:nvSpPr>
            <p:spPr>
              <a:xfrm>
                <a:off x="6781680" y="5461560"/>
                <a:ext cx="1828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Garamond"/>
                  </a:rPr>
                  <a:t>Dispozitiv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45" name="Group 41"/>
            <p:cNvGrpSpPr/>
            <p:nvPr/>
          </p:nvGrpSpPr>
          <p:grpSpPr>
            <a:xfrm>
              <a:off x="7086600" y="4152240"/>
              <a:ext cx="1828800" cy="508680"/>
              <a:chOff x="7086600" y="4152240"/>
              <a:chExt cx="1828800" cy="508680"/>
            </a:xfrm>
          </p:grpSpPr>
          <p:sp>
            <p:nvSpPr>
              <p:cNvPr id="146" name="AutoShape 42"/>
              <p:cNvSpPr/>
              <p:nvPr/>
            </p:nvSpPr>
            <p:spPr>
              <a:xfrm>
                <a:off x="7162920" y="4203000"/>
                <a:ext cx="1676160" cy="457920"/>
              </a:xfrm>
              <a:prstGeom prst="roundRect">
                <a:avLst>
                  <a:gd name="adj" fmla="val 16667"/>
                </a:avLst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7" name="Text Box 43"/>
              <p:cNvSpPr/>
              <p:nvPr/>
            </p:nvSpPr>
            <p:spPr>
              <a:xfrm>
                <a:off x="7086600" y="4152240"/>
                <a:ext cx="1828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Garamond"/>
                  </a:rPr>
                  <a:t>Dispozitiv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48" name="Group 44"/>
            <p:cNvGrpSpPr/>
            <p:nvPr/>
          </p:nvGrpSpPr>
          <p:grpSpPr>
            <a:xfrm>
              <a:off x="6324480" y="2989080"/>
              <a:ext cx="1828800" cy="508320"/>
              <a:chOff x="6324480" y="2989080"/>
              <a:chExt cx="1828800" cy="508320"/>
            </a:xfrm>
          </p:grpSpPr>
          <p:sp>
            <p:nvSpPr>
              <p:cNvPr id="149" name="AutoShape 45"/>
              <p:cNvSpPr/>
              <p:nvPr/>
            </p:nvSpPr>
            <p:spPr>
              <a:xfrm>
                <a:off x="6400800" y="3039840"/>
                <a:ext cx="1676160" cy="457560"/>
              </a:xfrm>
              <a:prstGeom prst="roundRect">
                <a:avLst>
                  <a:gd name="adj" fmla="val 16667"/>
                </a:avLst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0" name="Text Box 46"/>
              <p:cNvSpPr/>
              <p:nvPr/>
            </p:nvSpPr>
            <p:spPr>
              <a:xfrm>
                <a:off x="6324480" y="2989080"/>
                <a:ext cx="1828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Garamond"/>
                  </a:rPr>
                  <a:t>Dispozitiv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AB8DA-6951-4813-8538-3153A555C13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340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Tipuri de dispozitive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3059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Host”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(master) – dispozitiv gazda (calculator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dispozitivul care controleaza comunicatia in reteaua USB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distribuie drept de acces la retea celorlalte dispozitiv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monitorizeaza topologia retelei USB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Device”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– dispozitiv periferic conectat la calculator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ofera o anumita “functionalitate” pentru gazda (ex: mouse, imprimanta, scaner, etc.)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la conectare, dispozitivul primeste o adresa unica (data de gazda)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rmatul datelor difera functie de dispozitiv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informatiile schimbate intre host si device pot fi: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formatii general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formatii particulare dependente de tipul dispozitivulu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10C17-9587-4E07-9301-94CBA9B7E43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Tipuri de dispozitive (continuare):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Hub”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– dispozitiv de amplificare si ramificar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Compound Device”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– dispozitiv compu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ontine un hub si mai multe dispozitiv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ecare dispozitiv (inclusiv hub-ul) are adresa propri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Composit Device”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– dispozitiv agregat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ontine mai multe functii, dar exista o singura adresa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A0E15-7F80-4921-A177-1DFCDB0AB7A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Modelul de protocol USB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52388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protocol organizat pe 3 nivele ierarhice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USB bus interface layer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– nivelul fizic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 ocupa de transmisia fizica (pe cablu) a datel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USB device layer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– nivelul dispozitiv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igura conexiunea logica dintre host si dispozitiv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ste viziunea sistemului de operare asupra interfetei USB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Function layer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– nivelul functiona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igura comunicatia logica dintre “softul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ent” din gazda si “functia dispozitivului”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1BF2C-65A8-4197-8C4B-4AD87ADE416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Modelul de protocol USB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2" name="Rectangle 3"/>
          <p:cNvSpPr/>
          <p:nvPr/>
        </p:nvSpPr>
        <p:spPr>
          <a:xfrm>
            <a:off x="1905120" y="2133720"/>
            <a:ext cx="1904760" cy="68580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Text Box 4"/>
          <p:cNvSpPr/>
          <p:nvPr/>
        </p:nvSpPr>
        <p:spPr>
          <a:xfrm>
            <a:off x="1981080" y="220968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Soft cli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Rectangle 5"/>
          <p:cNvSpPr/>
          <p:nvPr/>
        </p:nvSpPr>
        <p:spPr>
          <a:xfrm>
            <a:off x="1905120" y="3200400"/>
            <a:ext cx="1904760" cy="68580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Rectangle 6"/>
          <p:cNvSpPr/>
          <p:nvPr/>
        </p:nvSpPr>
        <p:spPr>
          <a:xfrm>
            <a:off x="1905120" y="4267080"/>
            <a:ext cx="1904760" cy="68580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Text Box 7"/>
          <p:cNvSpPr/>
          <p:nvPr/>
        </p:nvSpPr>
        <p:spPr>
          <a:xfrm>
            <a:off x="1905120" y="32767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Soft siste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Text Box 8"/>
          <p:cNvSpPr/>
          <p:nvPr/>
        </p:nvSpPr>
        <p:spPr>
          <a:xfrm>
            <a:off x="1905120" y="4419720"/>
            <a:ext cx="2209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Controlor USB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Rectangle 9"/>
          <p:cNvSpPr/>
          <p:nvPr/>
        </p:nvSpPr>
        <p:spPr>
          <a:xfrm>
            <a:off x="1600200" y="1905120"/>
            <a:ext cx="2514600" cy="335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Text Box 10"/>
          <p:cNvSpPr/>
          <p:nvPr/>
        </p:nvSpPr>
        <p:spPr>
          <a:xfrm>
            <a:off x="1600200" y="14479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Gazda (host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Rectangle 11"/>
          <p:cNvSpPr/>
          <p:nvPr/>
        </p:nvSpPr>
        <p:spPr>
          <a:xfrm>
            <a:off x="5638680" y="2133720"/>
            <a:ext cx="1905120" cy="68580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Text Box 12"/>
          <p:cNvSpPr/>
          <p:nvPr/>
        </p:nvSpPr>
        <p:spPr>
          <a:xfrm>
            <a:off x="5715000" y="220968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Functi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Rectangle 13"/>
          <p:cNvSpPr/>
          <p:nvPr/>
        </p:nvSpPr>
        <p:spPr>
          <a:xfrm>
            <a:off x="5638680" y="3200400"/>
            <a:ext cx="1905120" cy="68580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Rectangle 14"/>
          <p:cNvSpPr/>
          <p:nvPr/>
        </p:nvSpPr>
        <p:spPr>
          <a:xfrm>
            <a:off x="5638680" y="4267080"/>
            <a:ext cx="1905120" cy="68580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Text Box 15"/>
          <p:cNvSpPr/>
          <p:nvPr/>
        </p:nvSpPr>
        <p:spPr>
          <a:xfrm>
            <a:off x="5638680" y="312408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Dispozitiv logic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Text Box 16"/>
          <p:cNvSpPr/>
          <p:nvPr/>
        </p:nvSpPr>
        <p:spPr>
          <a:xfrm>
            <a:off x="5791320" y="4191120"/>
            <a:ext cx="1752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Interfata de magistrala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Rectangle 17"/>
          <p:cNvSpPr/>
          <p:nvPr/>
        </p:nvSpPr>
        <p:spPr>
          <a:xfrm>
            <a:off x="5334120" y="1905120"/>
            <a:ext cx="2514600" cy="335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AutoShape 18"/>
          <p:cNvSpPr/>
          <p:nvPr/>
        </p:nvSpPr>
        <p:spPr>
          <a:xfrm>
            <a:off x="3809880" y="2438280"/>
            <a:ext cx="1828800" cy="228600"/>
          </a:xfrm>
          <a:prstGeom prst="leftRightArrow">
            <a:avLst>
              <a:gd name="adj1" fmla="val 50000"/>
              <a:gd name="adj2" fmla="val 159259"/>
            </a:avLst>
          </a:prstGeom>
          <a:solidFill>
            <a:srgbClr val="0066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AutoShape 19"/>
          <p:cNvSpPr/>
          <p:nvPr/>
        </p:nvSpPr>
        <p:spPr>
          <a:xfrm>
            <a:off x="3809880" y="3429000"/>
            <a:ext cx="1828800" cy="228600"/>
          </a:xfrm>
          <a:prstGeom prst="leftRightArrow">
            <a:avLst>
              <a:gd name="adj1" fmla="val 50000"/>
              <a:gd name="adj2" fmla="val 159259"/>
            </a:avLst>
          </a:prstGeom>
          <a:solidFill>
            <a:srgbClr val="0066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AutoShape 20"/>
          <p:cNvSpPr/>
          <p:nvPr/>
        </p:nvSpPr>
        <p:spPr>
          <a:xfrm>
            <a:off x="3809880" y="4572000"/>
            <a:ext cx="1828800" cy="228600"/>
          </a:xfrm>
          <a:prstGeom prst="leftRightArrow">
            <a:avLst>
              <a:gd name="adj1" fmla="val 50000"/>
              <a:gd name="adj2" fmla="val 159259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AutoShape 21"/>
          <p:cNvSpPr/>
          <p:nvPr/>
        </p:nvSpPr>
        <p:spPr>
          <a:xfrm>
            <a:off x="1676520" y="5715000"/>
            <a:ext cx="1828800" cy="228600"/>
          </a:xfrm>
          <a:prstGeom prst="leftRightArrow">
            <a:avLst>
              <a:gd name="adj1" fmla="val 50000"/>
              <a:gd name="adj2" fmla="val 159259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Text Box 22"/>
          <p:cNvSpPr/>
          <p:nvPr/>
        </p:nvSpPr>
        <p:spPr>
          <a:xfrm>
            <a:off x="3581280" y="556272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Conexiune fizic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AutoShape 23"/>
          <p:cNvSpPr/>
          <p:nvPr/>
        </p:nvSpPr>
        <p:spPr>
          <a:xfrm>
            <a:off x="1676520" y="6324480"/>
            <a:ext cx="1828800" cy="228600"/>
          </a:xfrm>
          <a:prstGeom prst="leftRightArrow">
            <a:avLst>
              <a:gd name="adj1" fmla="val 50000"/>
              <a:gd name="adj2" fmla="val 159259"/>
            </a:avLst>
          </a:prstGeom>
          <a:solidFill>
            <a:srgbClr val="0066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Text Box 24"/>
          <p:cNvSpPr/>
          <p:nvPr/>
        </p:nvSpPr>
        <p:spPr>
          <a:xfrm>
            <a:off x="3581280" y="617220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Conexiune logic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Text Box 25"/>
          <p:cNvSpPr/>
          <p:nvPr/>
        </p:nvSpPr>
        <p:spPr>
          <a:xfrm>
            <a:off x="5181480" y="144792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Dispozitiv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9T05:28:22Z</dcterms:created>
  <dc:creator>spg</dc:creator>
  <dc:description/>
  <dc:language>en-US</dc:language>
  <cp:lastModifiedBy>Dredd</cp:lastModifiedBy>
  <dcterms:modified xsi:type="dcterms:W3CDTF">2021-03-20T09:05:35Z</dcterms:modified>
  <cp:revision>15</cp:revision>
  <dc:subject/>
  <dc:title>Sisteme cu microprocesoar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5</vt:r8>
  </property>
</Properties>
</file>