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340-EFCA-44B1-B76C-37194A00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504-A75E-44EA-9BCC-CE5F55C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944-FFFF-4549-A8E5-F66A6C01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5E6-5F1D-4DF0-B8CB-12034B1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CB02-087F-46FC-B29C-CF2CAA6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10B-51B3-47F0-BFDD-39DE0F59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7CC-89A6-454D-9297-2BF27F7E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98E5-EFB4-4D5D-AB35-CE6E170B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E706-3314-4A6F-AF35-9C98C821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CBD3-4D39-447B-B549-04EE061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F782-437E-458A-9FB3-8843E8A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37A-DFA2-43ED-B9F6-A18E1995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454-F872-4801-9193-22E91500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2040-088C-414F-A1F7-D322174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D151-43EF-4669-9B17-E7B13485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1A1-97A1-4C32-9203-B9BFC017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3C51-C5B7-4B15-BF77-99B69963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7E2-95EC-4FD1-90C5-A609E8A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1E0-09BB-4C23-89B1-A322F688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C33-2DF6-421E-A588-84D8027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46E-2D8B-42CC-B870-8971960F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68C-FDE1-483F-9258-4C6DD25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074-C716-4E94-BC7C-65017957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F50-4931-4E35-85A1-D04CF2E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FB6A-7ED5-4A97-96BB-0600DB487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51F-E6D7-4504-B040-7AC00EC59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AAC5-3BC4-4FD9-ABEA-9D8358EB19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11 Retele de calculato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541A-FC1F-49EA-90F4-2AE32B81E2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981080" y="3505320"/>
            <a:ext cx="3810240" cy="457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90920" y="2666880"/>
            <a:ext cx="297180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mpachetarea mesajului transm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352680" y="1981080"/>
            <a:ext cx="198144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05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inut ut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352680" y="2666880"/>
            <a:ext cx="198144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590920" y="3505320"/>
            <a:ext cx="297180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352680" y="3505320"/>
            <a:ext cx="198144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1143000" y="4876920"/>
            <a:ext cx="4952880" cy="457200"/>
            <a:chOff x="1143000" y="4876920"/>
            <a:chExt cx="4952880" cy="457200"/>
          </a:xfrm>
        </p:grpSpPr>
        <p:sp>
          <p:nvSpPr>
            <p:cNvPr id="128" name="Rectangle 15"/>
            <p:cNvSpPr/>
            <p:nvPr/>
          </p:nvSpPr>
          <p:spPr>
            <a:xfrm>
              <a:off x="1143000" y="4876920"/>
              <a:ext cx="4952880" cy="4572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2057400" y="4876920"/>
              <a:ext cx="3809880" cy="457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2666880" y="4876920"/>
              <a:ext cx="2971800" cy="457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429000" y="4876920"/>
              <a:ext cx="1981080" cy="457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8954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143000" y="1676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tete (preambu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828800" y="2286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1752480" y="236232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600200" y="23623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6477120" y="2057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stamb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21"/>
          <p:cNvSpPr/>
          <p:nvPr/>
        </p:nvSpPr>
        <p:spPr>
          <a:xfrm flipH="1">
            <a:off x="5486400" y="2438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5715000" y="2438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3"/>
          <p:cNvSpPr/>
          <p:nvPr/>
        </p:nvSpPr>
        <p:spPr>
          <a:xfrm flipH="1">
            <a:off x="6019920" y="2438280"/>
            <a:ext cx="121896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oup 25"/>
          <p:cNvGrpSpPr/>
          <p:nvPr/>
        </p:nvGrpSpPr>
        <p:grpSpPr>
          <a:xfrm>
            <a:off x="1143000" y="5867280"/>
            <a:ext cx="2133720" cy="457200"/>
            <a:chOff x="1143000" y="5867280"/>
            <a:chExt cx="2133720" cy="457200"/>
          </a:xfrm>
        </p:grpSpPr>
        <p:sp>
          <p:nvSpPr>
            <p:cNvPr id="142" name="Rectangle 26"/>
            <p:cNvSpPr/>
            <p:nvPr/>
          </p:nvSpPr>
          <p:spPr>
            <a:xfrm>
              <a:off x="1143000" y="5867280"/>
              <a:ext cx="2133720" cy="4572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1536840" y="5867280"/>
              <a:ext cx="1641240" cy="457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799280" y="5867280"/>
              <a:ext cx="1280160" cy="457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2127600" y="5867280"/>
              <a:ext cx="853200" cy="457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" name="Group 30"/>
          <p:cNvGrpSpPr/>
          <p:nvPr/>
        </p:nvGrpSpPr>
        <p:grpSpPr>
          <a:xfrm>
            <a:off x="3505320" y="5867280"/>
            <a:ext cx="2133360" cy="457200"/>
            <a:chOff x="3505320" y="5867280"/>
            <a:chExt cx="2133360" cy="457200"/>
          </a:xfrm>
        </p:grpSpPr>
        <p:sp>
          <p:nvSpPr>
            <p:cNvPr id="147" name="Rectangle 31"/>
            <p:cNvSpPr/>
            <p:nvPr/>
          </p:nvSpPr>
          <p:spPr>
            <a:xfrm>
              <a:off x="3505320" y="5867280"/>
              <a:ext cx="2133360" cy="4572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2"/>
            <p:cNvSpPr/>
            <p:nvPr/>
          </p:nvSpPr>
          <p:spPr>
            <a:xfrm>
              <a:off x="3899160" y="5867280"/>
              <a:ext cx="1640880" cy="457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4161600" y="5867280"/>
              <a:ext cx="1280160" cy="457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4489920" y="5867280"/>
              <a:ext cx="853200" cy="457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Group 35"/>
          <p:cNvGrpSpPr/>
          <p:nvPr/>
        </p:nvGrpSpPr>
        <p:grpSpPr>
          <a:xfrm>
            <a:off x="5867280" y="5867280"/>
            <a:ext cx="2133720" cy="457200"/>
            <a:chOff x="5867280" y="5867280"/>
            <a:chExt cx="2133720" cy="457200"/>
          </a:xfrm>
        </p:grpSpPr>
        <p:sp>
          <p:nvSpPr>
            <p:cNvPr id="152" name="Rectangle 36"/>
            <p:cNvSpPr/>
            <p:nvPr/>
          </p:nvSpPr>
          <p:spPr>
            <a:xfrm>
              <a:off x="5867280" y="5867280"/>
              <a:ext cx="2133720" cy="4572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6261120" y="5867280"/>
              <a:ext cx="1641240" cy="457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6523560" y="5867280"/>
              <a:ext cx="1280160" cy="457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9"/>
            <p:cNvSpPr/>
            <p:nvPr/>
          </p:nvSpPr>
          <p:spPr>
            <a:xfrm>
              <a:off x="6851880" y="5867280"/>
              <a:ext cx="853200" cy="457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Line 40"/>
          <p:cNvSpPr/>
          <p:nvPr/>
        </p:nvSpPr>
        <p:spPr>
          <a:xfrm>
            <a:off x="4114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42"/>
          <p:cNvSpPr/>
          <p:nvPr/>
        </p:nvSpPr>
        <p:spPr>
          <a:xfrm flipH="1">
            <a:off x="2438280" y="518148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43"/>
          <p:cNvSpPr/>
          <p:nvPr/>
        </p:nvSpPr>
        <p:spPr>
          <a:xfrm>
            <a:off x="4419720" y="51055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4"/>
          <p:cNvSpPr/>
          <p:nvPr/>
        </p:nvSpPr>
        <p:spPr>
          <a:xfrm>
            <a:off x="5181480" y="5181480"/>
            <a:ext cx="2133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EC3-12D6-4FCC-BC97-7C2FBDC7FD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Accesul la serviciile de comunicat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iecare nivel ofera un set de servicii de comunica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Exista nivele cu un singur tip de serviciu (ex: nivelul retea in Internet are numai protocolul IP), sau nivele cu mai multe tipuri de servicii oferite(ex: nivelul transport are serviciul TCP orientat pe conexiune si serviciul fara coneciune UDP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ivelul superior acceseaza serviciile nivelului inferior prin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uncte de acces (service access point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oua componente de la acelasi nivel dar din calculatoare diferite dialogeaza ca si cum ar fi direct conectate – conexiune log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izic se parcurge intreaga stiva de protoco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70B3-C318-4E77-B781-D8284AB205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delul TCP/IP in comparatie cu OS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685800" y="1828800"/>
          <a:ext cx="8534520" cy="46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85345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0D43-5B63-4CB2-A19F-089DA420E8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ul AT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762120" y="1676520"/>
          <a:ext cx="77724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56E-9902-4249-A9AE-0A5231793D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vele de protoc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ivelul fizic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ivelul fizic se ocupă de transmisia informaţiilor la nivel de bit. Un protocol de nivel fizic trebuie să precizez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atura semnalelor utilizate pentru codificarea informaţiilor binare (ex: nivele de tensiune, curenţi, fascicol laser, etc.), şi nivelele adm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aracteristicile electrice, mecanice şi de performanţă ale mediului de transmisie (cabluri electrice, fibră optică, unde radio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tode de reducere a influenţei zgomotelor şi de eliminare a erorilor de transmis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p de conectori utilizaţ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tocolul fizic trebuie să asigure utilizarea eficientă a mediului de transmisie, şi o rată de transfer cît mai mar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uncţie de natura mediului de transmisie se pot utiliza diferite metode de codificar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şi compactare a informaţiilor binar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ele mai utilizate medii de transmisie în comunicaţia digitală sunt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ablul torsadat –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ste ieftin, cu banda de frecvenţă dependentă de distanţa de transmisie; poate fi ecranat sau neecranat (UTP – Unshielded Twisted Pair); torsadarea celor două fire creşte imunitatea la zgomot a cablului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.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ablul coaxial –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ste cu lăţime de bandă mare şi imunitate mare la zgomot; distanţa de transmisie este relativ mare; există două modalităţi de utilizare: în bandă de bază (un canal/cablu) sau în bandă largă (mai multe canale/cablu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.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ibra optică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– este un mediu de transmisie cu parametri de performanţă ridicaţi (lăţime de bandă foarte mare, întîrzieri mici); prezintă imunitate totală la zgomote electromagnetice; pe un singur fir optic se pot transmite foarte multe canale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AFAA-864B-41E6-A012-348906BA6E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Nivelul fiz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edii de comunicati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Cablu torsadat (UTP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Cablu coaxi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ibra opt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Unde rad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Unde infraros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opologi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te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agist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rb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gra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102280" y="1752480"/>
          <a:ext cx="3581280" cy="42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2280" y="1752480"/>
                    <a:ext cx="35812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2EE6-33DD-491C-A577-2F3FF80B51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velul legăturii de dat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929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olul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Structurarea datelor in cad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sigurarea unui canal sigur de comunicaţie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Detecrarea erorilor de transmisi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in biti de paritate, suma de control, CR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ipuri de servicii oferit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rviciu neconfirmat, fără conexiune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rviciu confirmat fără conexiu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rviciu confirmat orientat pe conexiu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Exemp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tocolul HDLC (High Data Link Control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tocolul SLIP (Serial Line Internet Protoco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transmitere pachete IP nealterate (in Internet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tocolul PPP (Point-to-Point Protocol)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676520" y="4724280"/>
          <a:ext cx="601956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724280"/>
                    <a:ext cx="6019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6F0E-6904-4938-9DE5-4953525C67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Arial"/>
              </a:rPr>
              <a:t>Mecanisme de acces la mediul de comunicatie (subnivelul MAC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4032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Nivel utilizat pentru retele locale de calculatoare unde acelasi mediu este utilizat in comun de mai multe nodur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ntrolul accesulu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Centraliz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Distribu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asificarea metodelor de acc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3733920"/>
          <a:ext cx="7162920" cy="2000160"/>
        </p:xfrm>
        <a:graphic>
          <a:graphicData uri="http://schemas.openxmlformats.org/drawingml/2006/table">
            <a:tbl>
              <a:tblPr/>
              <a:tblGrid>
                <a:gridCol w="2514600"/>
                <a:gridCol w="2032200"/>
                <a:gridCol w="2616120"/>
              </a:tblGrid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aliz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-R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, Token 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rezerv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zervare centraliza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zervare distribui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acces multip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MA/CD (Eth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CF6-1EA0-4A77-B80F-759D55B212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velul Reţe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088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Rolul: dirijarea mesaj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luti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Comutare de circuit – sistem telefonic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Comutare de pache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lgoritmi de dirija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ijarea pe calea cea mai scurtă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lgoritmul de inundare (flooding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ijarea pe bază de flux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ijarea prin vectori de distanţă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ijarea ierarhică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Verdana"/>
              </a:rPr>
              <a:t>Nivelul retea in Internet – protocolul 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Reţeaua este organizată pe aproximativ 3 nivele ierarhic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reţeaua de mare viteză care alcătuieşte coloana vertebrală a sistemului (backbone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reţele regionale (Europa, America, Asia,..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retele universitare, guvernamentale, companii, furnizori de servicii Internet, et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Adrese IP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1066680" y="4876920"/>
          <a:ext cx="723924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72392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68AA-B43B-4B08-9300-9F9E415A47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Nivelul transport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olul: realizeaza un canal sigur de comunicatie pe un mediu nesig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 realizeaza o conexiune logica intre aplicatii aflate la distanta (ca si o conducta dedicata pentru cele doua aplicati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Interne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CP – protocol de transport cu conexiu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UDP – protocol de transport fara conexiu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peratii efectua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ordonarea mesajelor pt. a respecta ordinea initi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transmiterea mesajelor ero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liminarea mesajelor duplic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 foloseste tehnica confirmarii mesajelor reception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 numeroteaza pachetele pentru a tine evidenta ordinii acesto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nexiunea se realizeaza prin socluri (socket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ocket = adresa de port + adresa 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1523880" y="4876920"/>
            <a:ext cx="1067040" cy="1752480"/>
            <a:chOff x="1523880" y="4876920"/>
            <a:chExt cx="1067040" cy="1752480"/>
          </a:xfrm>
        </p:grpSpPr>
        <p:sp>
          <p:nvSpPr>
            <p:cNvPr id="198" name="Rectangle 4"/>
            <p:cNvSpPr/>
            <p:nvPr/>
          </p:nvSpPr>
          <p:spPr>
            <a:xfrm>
              <a:off x="1523880" y="4876920"/>
              <a:ext cx="1067040" cy="1752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1523880" y="50292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Ap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1523880" y="53341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1523880" y="57150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</a:rPr>
                <a:t>Ap 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2286000" y="5105520"/>
              <a:ext cx="228600" cy="2286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2286000" y="5486400"/>
              <a:ext cx="228600" cy="2286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2286000" y="5867280"/>
              <a:ext cx="228600" cy="2286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2286000" y="6248520"/>
              <a:ext cx="228600" cy="2286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" name="Rectangle 14"/>
          <p:cNvSpPr/>
          <p:nvPr/>
        </p:nvSpPr>
        <p:spPr>
          <a:xfrm>
            <a:off x="5105520" y="4800600"/>
            <a:ext cx="1066680" cy="1752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5638680" y="5105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638680" y="5562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p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5638680" y="6095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p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5181480" y="5029200"/>
            <a:ext cx="228600" cy="2286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181480" y="5410080"/>
            <a:ext cx="228600" cy="2286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181480" y="5791320"/>
            <a:ext cx="228600" cy="2286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181480" y="6172200"/>
            <a:ext cx="228600" cy="2286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2590920" y="647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4419720" y="6400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24"/>
          <p:cNvSpPr/>
          <p:nvPr/>
        </p:nvSpPr>
        <p:spPr>
          <a:xfrm>
            <a:off x="3200400" y="5943600"/>
            <a:ext cx="1371600" cy="914400"/>
          </a:xfrm>
          <a:prstGeom prst="cloudCallout">
            <a:avLst>
              <a:gd name="adj1" fmla="val -29398"/>
              <a:gd name="adj2" fmla="val 347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3429000" y="6248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2514600" y="5181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7"/>
          <p:cNvSpPr/>
          <p:nvPr/>
        </p:nvSpPr>
        <p:spPr>
          <a:xfrm flipV="1">
            <a:off x="2514600" y="5562720"/>
            <a:ext cx="266688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2514600" y="5638680"/>
            <a:ext cx="2666880" cy="533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19051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1905120" y="5486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1828800" y="5486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2"/>
          <p:cNvSpPr/>
          <p:nvPr/>
        </p:nvSpPr>
        <p:spPr>
          <a:xfrm flipH="1" flipV="1">
            <a:off x="5334120" y="51814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3"/>
          <p:cNvSpPr/>
          <p:nvPr/>
        </p:nvSpPr>
        <p:spPr>
          <a:xfrm flipH="1" flipV="1">
            <a:off x="5334120" y="55623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34"/>
          <p:cNvSpPr/>
          <p:nvPr/>
        </p:nvSpPr>
        <p:spPr>
          <a:xfrm flipH="1">
            <a:off x="5257800" y="62485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A246-A813-47EE-B925-D731F8A8A3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cesitatea retelelor de calculato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voia de comunicare (schimb de date) intre sisteme de calcu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tilizarea in comun a unor resurse de calcul (calculatoare, dispozitive periferic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mele retel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RPA-NET – retea cu destinatie milita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tele universitare (american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ERN – retea de tip inter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tazi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teaua este o infrastructura de comunicatie si cooperare pentru dezvoltarea de aplicatii distribui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set de calculatoare mici (PC) plus o retea face mai mult decat un calculator puternic si mai multe termin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BE2-7016-4A9B-A49B-F94B9CFE61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lte nivele O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468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ivelul sesiun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ponsabil pentru controlul secvenţei de dialog dintre două aplicaţii care comunică între el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cupă de autentificarea partenerilor de dialog prin verificarea parolelor de acc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ivelul prezent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 ocupa de problemele de codare-decodare inclusiv pt. securizarea date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ivelul aplicati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feră diferite modele şi interfeţe de comunicaţie pentru aplicaţiile utilizator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terminal virtual de reţea (ex: TELNE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transfer de fişiere (ex: FT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poştă electronică (ex: SMT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- execuţia de la distanţă a lucrărilor (R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managementul reţelei (ex: SNM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navigare pe Web, etc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C66-5EEA-4EFE-8E6F-BB4EA07F7B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lte protocoale de nivel Aplicat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99776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NS (Domain Name Sistem) 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ste un serviciu care permite adresarea mesajelor pe baza unor nume simbolice; protocolul permite transformarea numelor simbolice în adrese de reţea (adrese I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FS (Network File System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 este un serviciu care permite maparea directoarelor de fişiere aflate la distanţă în directorul local; acest serviciu asigură un acces uniform la fişiere indiferent de locaţia acest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IS (Network Information System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 este un serviciu care oferă informaţii legate de resursele conţinute în reţea; de exemplu pot fi identificate aplicaţii, porţi de acces, servicii, etc.; se aseamănă  cu “paginile aurii” editate pentru identificarea firmelor şi a serviciilor pe care acestea le ofer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PC (Remote Procedure Call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 este un protocol prin care pot fi lansate aplicaţii sau proceduri de la distanţă; protocolul asigură mecanismul de apel al procedurilor şi de transmitere a parametrilor de apel; multe din aplicaţiile de reţea au la bază un mecanism RP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WW (World Wide Web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 este un serviciu distribuit de informaţii ce permite căutarea de informaţii diverse prin baze de date aflate în întreaga reţea Internet; informaţiile sunt organizate sub forma unor pagini; o pagină poate să conţină text, imagini, mici aplicaţii (aplet-uri) şi mai ales legături la alte pagini care conţin informaţii similare; căutarea informaţiilor se face cu ajutorul unor programe de “navigare” (ex: Netscape, Internet Explorer, etc.); scrierea paginilor se face folosind limbajul HTML, iar protocolul de comunicaţie utilizat este HTTP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D0CD-3629-480C-AC9F-ECD2FA7E72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asificarea retele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upa tehnologia utilizat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Reţelele punct-la-punc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conexiune dedicata intre 2 echipam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Reţelele de difuzar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: mediu de comunicatie pentru mai multe echipam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cast – un singur destinat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cast – mai multi destinata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oadcast – toate nodurile din retea sunt destinat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cast – un nod oarecare este destinatarul transmisie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upa aria de intinde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Retele personale (PA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ţelele locale de calculatoar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LA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ţelele metropolita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MA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ţelele larg răspîndite geografi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WAN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744D-D933-411A-85FD-A8BE308D14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Retele perso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u o intindere de 1-2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estinate pentru interconectarea unor echipamente la nivelul unei persoane: telefon, PDA, casti, MP3 player, et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Exemple: Bluetoo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Viteza redus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ectivitate prin unde radio in bande de frecvente publ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5F8-75C4-4A53-813D-470A1DC64C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ţelele locale de calculatoare (LAN)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conecteaza echipamente din aceeasi cladi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artin unei anumite organizati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ante: 10m-1k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iteza: 10-100M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ocoale tipic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thernet (CSMA/CD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token ring, token b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ta mica de ero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u de comunicatie: cablu electric torsadat sau coax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E939-7FF7-44E9-94E2-97F1D88681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ţelele metropolitan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conecteaza retele locale de pe teritoriul unei localitati sau regiu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t fi private sau publ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emplu: reteaua metropolitana a universitatilor cluje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ante: 1-10k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iteza: 100kbs-10M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ocoale tipi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QDB (Double Queue Doubel Bus), ATM, Frame Rel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u de comunicatie: fibra opt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D71F-A174-43A6-B59A-4BBA9289F1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ţelele larg răspîndite geografic (WAN)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mit transferul de informaţii la distanţe foarte mari şi în locuri divers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tea de retele =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tante: mii de k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tocol: TCP/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iteza: 100kbs-10Mb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emplu: Internet-ul, AOL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5719-FEAF-4547-9050-E37243AF9F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e de comunicatie in rete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cesitatea unui model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tru a asigura compatibilitatea intre echipamente si retele, indiferent de producator, tip, loc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ul OSI-ISO Open Syste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cha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pararea functiilor de comunicatie pe mai multe nivele de abstractizare: 7 nive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DF0-F832-4DB5-86B0-02B8EDA621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ul O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914400" y="1600200"/>
          <a:ext cx="739152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391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6:33:01Z</dcterms:created>
  <dc:creator>spg</dc:creator>
  <dc:description/>
  <dc:language>en-US</dc:language>
  <cp:lastModifiedBy>Dredd</cp:lastModifiedBy>
  <dcterms:modified xsi:type="dcterms:W3CDTF">2021-03-20T09:05:52Z</dcterms:modified>
  <cp:revision>17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