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9890-6242-4C83-8761-44A4CE38E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2AEF-C115-48DB-AA65-57FAF1414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1301-D66A-49DE-9BBD-9E18771F0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809B-25B1-4B77-84DA-A5798D9F4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7B09-4BBB-4681-9A8E-DEC52D3BD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583A-8018-4297-B2A5-E0AC14CD2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C68A-887C-49E4-952A-0E8050F74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5176-6031-432B-AB83-DC6FD4D9D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68EF-D59D-49C8-9EB5-BD465630E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F99E-73D3-4912-9C9B-23CF88C72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99EF-0433-4957-A4C3-80362B862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DE6B-42D6-4320-BA35-A02E4D7FB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5D76-8118-4F6F-B76E-C0613092C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2E17-AB20-446C-9048-E32E7CA6E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0609-7729-4FB8-AC9D-70E9AD91C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F194-3E4B-40D3-BF61-6104AF3A6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F5F7-E2E4-45C7-9A25-2B47DF4D3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D940-6500-473E-BA8A-1DAAE656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E57B-6FE6-4913-973C-C2F50409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1A3A-E1BA-40AC-BD1E-3E0DC095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3D7-37F5-4BC6-8167-88532802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10A4-3F16-48BC-9FD2-9D066BF0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8DD4-A83B-4202-AB40-A9136CFC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BF0D-DDCF-426D-95A2-EA962037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8EB2-3D26-4A59-9D24-4EAC70B2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82EC-4ADA-4DF0-A326-52BC8AEC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02F1-82E7-40AE-9857-BBBF4EE6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7444-DD0C-4485-A056-9132131D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D2FE-E9D4-4193-88FC-26F0CEA0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9569-4804-4D0D-BA7E-A26E2F0C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5FB4-A224-496C-8A58-5EA0CD1D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9CDA-29DF-4B39-A96F-4E8DA987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DCE4-05FC-4F62-8177-B88B709D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543A-341A-4C2A-8513-CFC756AF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FC6D-2053-4492-BD7E-5F79451C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328C-AEA9-4122-A024-2BA59938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276A-0D03-4903-B252-D4CBF604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B6C3-B740-4616-8132-A2FABFDB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FC8F-5AB8-4740-8157-F9FA606F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0D32-2D0E-4827-B42C-CC46C067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ED82-A6E9-4922-8608-CC43564D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71BC-65C5-458E-ADA2-AD06582D0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F544-A685-4DB3-94A5-2F5E82CB2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E67F-092F-46EB-9393-D182B13BED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isteme cu microprocesoar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ursul 12 Sisteme distribui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23F1-FF07-4838-B9E4-A6D8820305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  <a:ea typeface="굴림"/>
              </a:rPr>
              <a:t>Probleme specifice privind controlul prin calculator al proceselor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Achiziţia semnalelor de proc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mnale digital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his/deschis, pornit/oprit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frecventa controlota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n de impulsur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ulsuri de latime control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mnale analogic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tensiune, de curent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mnale complexe – suma de semnale sinusoida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 stabilest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cventa de esantionare (citir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umarul de biti alocati pentru un semnal – plaja de variatie a semnalulu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gimul de achizitie: continu, sau la cere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6198-7444-453F-AB41-095E29C0BA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anale analogice de intrare si de iesi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24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al analogic de intrar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al analogic de iesir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1763640" y="2465280"/>
          <a:ext cx="5416560" cy="177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465280"/>
                    <a:ext cx="5416560" cy="17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Line 5"/>
          <p:cNvSpPr/>
          <p:nvPr/>
        </p:nvSpPr>
        <p:spPr>
          <a:xfrm>
            <a:off x="1219320" y="49528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676520" y="5410080"/>
            <a:ext cx="8380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752480" y="5410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8"/>
          <p:cNvSpPr/>
          <p:nvPr/>
        </p:nvSpPr>
        <p:spPr>
          <a:xfrm rot="5400000">
            <a:off x="3200400" y="54100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1219320" y="56386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2514600" y="56386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1066680" y="5029200"/>
            <a:ext cx="2895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12"/>
          <p:cNvSpPr/>
          <p:nvPr/>
        </p:nvSpPr>
        <p:spPr>
          <a:xfrm>
            <a:off x="3733920" y="56386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5334120" y="5410080"/>
            <a:ext cx="5331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5410080" y="5410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Oval 15"/>
          <p:cNvSpPr/>
          <p:nvPr/>
        </p:nvSpPr>
        <p:spPr>
          <a:xfrm>
            <a:off x="6172200" y="4952880"/>
            <a:ext cx="228600" cy="129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5867280" y="56386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F458-C6E9-487F-AB66-974B35BDE7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enzi “analogice” prin semnale digitale – semnale PW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7" name="Object 3"/>
          <p:cNvGraphicFramePr/>
          <p:nvPr/>
        </p:nvGraphicFramePr>
        <p:xfrm>
          <a:off x="2090880" y="2039760"/>
          <a:ext cx="59371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0880" y="2039760"/>
                    <a:ext cx="59371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990D-2FDE-4805-8F1C-6DFE0E225D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cesarea datelo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ff-li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cesarea nu se face in timpul achizitiei de semnal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u sunt conditii de timp; procesarea poate fi oricat de complex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n-li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cesarea are loc in timpul achizitiei semnalel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strictii de timp (perioada de esantionare=perioada de procesare a unui set de dat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duri de implementare a aplicatiei de control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cla de contro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 driven- activarea unor taskuri de achizitie si procesare la anumite intervale de timp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vent-driven – activarea unor taskuri ca reactie la aparitia unor evenimen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ctivarea taskurilor cu ajutorul unui planificator de timp-re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lanificare statica – inainte de lansarea aplicatie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lanificare dinamica – in timpul executiei aplicatie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07D7-8FDA-470C-94CD-68FD607B56A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erinte impuse sistemelor de control in medii industria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abilitate si toleranta la defec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in replicare spatiala si temporal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munitate mai mare la zgomote electro-magnet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ucru in conditii de mediu seve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ariatii mari de temperatur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miditate ridicat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ersonal de deservire mai putin calific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strictii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mensionale si de form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 cos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 consum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DA02-4A1E-497D-9700-4B13347E82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oluti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steme dedicate si incapsula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tele industriale de comunicati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cesoare specializate pentru aplicatii de control (microcontroloare) si de procesare a semnalelor (procesoare de semnal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morii nevolatile semiconductoare (ex: flash in locul discurilor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rcase robuste, protejate la praf si la umezeal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03BC-7A4D-41A5-B838-770C23319F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ivele de contro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990720" y="1447920"/>
          <a:ext cx="739116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7391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4E1C-C4DB-4310-9E73-999530B33B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isteme distribuite v.s. sisteme centralizat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vantajele distribuirii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osibilitatea adaptării structurii sistemului informatic la distribuţia geografică intrinsecă a aplicaţiei (ex: sisteme bancare cu filiale distrbuite, sisteme de urmărire şi control cu puncte multiple de intrare/ieşire, baze de date distribuite, etc.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reşterea fiabilităţii şi a toleranţei la defecte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îmbunătăţirea raportului performanţă/preţ, prin utilizarea unor sisteme ieftine realizate pe scară mar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reşterea interactivităţii sistemului prin alocarea unor terminale inteligente unor utilizatori multipli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ăugarea unor facilităţi noi: transferul electronic al informaţiilor, controlul de la distanţă al proceselor, poşta electronică, publicaţii electronice, teleconferinţe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acilitează lucrul în gru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utilizarea în comun a unor resurse (baze de date, periferice scumpe, etc.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roblem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îndirea umană este în mare parte secvenţială, ceea ce face dificilă transpunerea unor aplicaţii în algoritmi paraleli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 există instrumente adecvate pentru descrierea şi controlul concurenţei, a execuţiei paralele şi a sincronizării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ţeaua induce întîrzieri  şi erori în transmiterea datel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torită vitezei limitate de transmisie a informaţiilor în reţea, nu se cunoaşte exact starea globală a sistemului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6D22-83CF-4A07-B746-84ACE8EAEB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rme de distribui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steme multiprocesor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isteme paralel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duri strans conectate fizic si log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impul de comunicatie intre noduri este neglijab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isteme distribui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duri slab conectate fizic dar strans conectate logi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cooperare de la distan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impul de transmisie a mesajelor este comparabil cu timpul de executie a taskuril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durile indeplinesc impreuna o anumita functionalitate (ex: serviciu banca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lculatoare in retea de tip interne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duri slab conectate fizic si logic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durile coopereaza in mica masura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e se distribuie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istributia echipamentelo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istributia datelo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istributia controlului (a programului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1970-B102-46E7-9BCE-64854256A6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rme de distribui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99640" y="1557000"/>
            <a:ext cx="7783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ţie de distribuţia resurselor fizice se pot identifica următoarele clase de sistem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sisteme uniproces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sisteme multiprocesor bazate pe o magistrală comun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sisteme de calcul parale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sisteme de calcul bazate pe o reţea de comunicaţi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ţie de gradul de descentralizare a datelor se pot distinge următoarele categorii de sistem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sistem cu bază de date unică centralizat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sistem cu fişiere distribuite dar cu un director centraliz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sistem cu baze de date duplicate sau replic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sistem cu baza de date partiţionată şi complect descentralizat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 baza modului de realizare a controlului se disting urmatoarele sistem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sistem cu punct de control uni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sistem ierarhic de control cu relaţie de tip master/slav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sistem cu puncte multiple de control care execută în mod concurent firele unui tas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sistem cu puncte de control multiple şi autonome care execută individual sau în comun serviciile unei aplicaţi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7485-5A0B-416F-A120-510FC973C9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riterii considerate definitorii pentru un sistem distribui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ă dispună de resurse fizice şi logice multip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sursele să fie distribuite fizi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ă existe o viziune globală asupra sistemulu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ă existe independenţă şi în acelaşi timp cooperare între componentele sistemulu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stribuţia să fie transparentă pentru interfaţa de utilizare a sistemulu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0E0D-E160-4E95-B77B-D176F0AD8C3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rvicii necesare intr-un sistem distribui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erviciul de num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copul: de a oferi o modalitate unitară de adresare a resurselor distribuite ale sistemului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 ocupă mai ales de regăsirea datelor păstrate în bazele de date sau fişierele distribuite ale sistemului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xemplu: serviciul DNS (Domain Name Server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erviciul de timp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incronizarea ceasurilor local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emplu: NTP (Network Time Protocol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erviciul de replicar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dondanta pentru: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cces mai eficient la resur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leranta la defec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roblema: pastrarea consistentei datelo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Gestiunea tranzactiilor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cop: rezolvarea accesului concurent la resurse partajat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0017-2FC8-4712-8696-70C50D10FA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rvicii necesare intr-un sistem distribui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sul transparent la resur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unicatia de gru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502E-2C31-458D-9AD2-E209665952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isteme de contro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Utilizarea tehnicii de calcul in controlul proceselor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vantaj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cizie  mai mare în măsurarea şi procesarea informaţiilor cules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 mai mare imunitate la perturbaţii de diferite tipuri (ex: zgomote, variaţii ale condiţiilor de mediu sau ale surselor de alimentare, modificarea în timp a valorii componentelor, etc.); pot fi implementate scheme de autocalibrare şi autotestare, prin care se măreşte încrederea în sistemul de contro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osibilitatea implementării prin program a unor scheme/metode complexe de reglaj, ca de exemplu: algoritmi neliniari de control, algoritmi adaptivi, scheme de reglaj cu mai mulţi poli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osibilitatea stocării datelor cules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osibilitatea vizualizării procesului pe mai multe nivele de detalier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onentele unui sistem complex pot fi corelate prin comunicare digitală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 pot construi scheme ierarhizate de control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ezavantaje ale controlului prin calculator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mnalele de proces sunt discretizate în tim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Valorile semnalelolsunt cuantizate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ntru schemele simple de reglaj, utilizarea unui calculator nu se justifică din punct de vedere economic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chemele de reglaj implementate prin program sunt mai puţin vizibile pentru utilizatorul banal,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anarea sau ajustarea dispozitivului de control necesită un personal de specialitate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17D0-A4D8-4E50-8D2D-088D023D73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hema unui sistem de control bazata pe un calculato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1633680" y="1909800"/>
          <a:ext cx="6721200" cy="40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3680" y="1909800"/>
                    <a:ext cx="672120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12:55:17Z</dcterms:created>
  <dc:creator>gheorghe.sebestyen</dc:creator>
  <dc:description/>
  <dc:language>en-US</dc:language>
  <cp:lastModifiedBy>Dredd</cp:lastModifiedBy>
  <dcterms:modified xsi:type="dcterms:W3CDTF">2021-03-20T09:06:06Z</dcterms:modified>
  <cp:revision>6</cp:revision>
  <dc:subject/>
  <dc:title>Sisteme cu microproceso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