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2340-3FC9-438F-9557-B81847E4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DD8D-AC5A-4DE0-98EA-14AE8937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E29D-12F1-49DB-A5F9-8EE65688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8E1E-C861-47B9-8371-D9BC5857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3805-064C-4679-982C-88128657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C537-ECCC-4754-9B17-758CDF39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EFEB-72B1-4A28-B97A-8CA26204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124F-010E-4F28-9974-D6A42B8F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7A02-2726-4F51-B491-AA3373FC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98F9-C3DE-41BE-A17D-507D4DD4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7E80-07E7-43BE-ACD4-F22250DD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79E7-9B25-4CA8-B2D7-E0ED1063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E7BF-F492-4CFE-878F-9B2412D7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C6EC-D830-441E-A9EC-817F39C3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B008-DA7D-46A3-816D-7F4E7100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3D40-120C-43AF-9C3E-30365419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A5DB-4394-49FC-84AC-98DE0A60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01C5-982B-445E-A82C-656D3B3A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B13F-1A53-4262-ABB1-1DAA3AA5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B12-4FA3-408E-A211-147F0BDB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59E3-7A34-4F72-AF25-7F50CBCB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81A8-695C-499C-BC11-07151C3E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5EE-D3B6-48F0-B5D0-BDF0AEFF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DA29-47AA-494C-A273-0C1FD187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88FB-5BC2-4DC2-BD90-E6B3734A53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A450-9A12-4929-B704-AAD7848E669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isteme cu microprocesoare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ursul 2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uctura generala a unui calculat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A9BC-7239-4E34-B220-F6CAA26A09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ircuit de adunare si scadere in complement fata de 2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a scadere al doilea operand se complementeaz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224000" y="2816280"/>
            <a:ext cx="7020000" cy="3457440"/>
            <a:chOff x="1224000" y="2816280"/>
            <a:chExt cx="7020000" cy="3457440"/>
          </a:xfrm>
        </p:grpSpPr>
        <p:sp>
          <p:nvSpPr>
            <p:cNvPr id="394" name=""/>
            <p:cNvSpPr/>
            <p:nvPr/>
          </p:nvSpPr>
          <p:spPr>
            <a:xfrm flipH="1">
              <a:off x="5110200" y="4867200"/>
              <a:ext cx="10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114960" y="4581360"/>
              <a:ext cx="735120" cy="617760"/>
            </a:xfrm>
            <a:prstGeom prst="rect">
              <a:avLst/>
            </a:prstGeom>
            <a:solidFill>
              <a:srgbClr val="00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9144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37320" y="4280040"/>
              <a:ext cx="1440" cy="29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88120" y="2816280"/>
              <a:ext cx="4777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69080" y="4390920"/>
              <a:ext cx="487440" cy="1621080"/>
            </a:xfrm>
            <a:custGeom>
              <a:avLst/>
              <a:gdLst/>
              <a:ahLst/>
              <a:rect l="l" t="t" r="r" b="b"/>
              <a:pathLst>
                <a:path w="369" h="1541">
                  <a:moveTo>
                    <a:pt x="369" y="1375"/>
                  </a:moveTo>
                  <a:lnTo>
                    <a:pt x="369" y="1541"/>
                  </a:lnTo>
                  <a:lnTo>
                    <a:pt x="0" y="1537"/>
                  </a:lnTo>
                  <a:lnTo>
                    <a:pt x="10" y="0"/>
                  </a:lnTo>
                  <a:lnTo>
                    <a:pt x="340" y="0"/>
                  </a:lnTo>
                  <a:lnTo>
                    <a:pt x="344" y="1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4764240" y="5211720"/>
              <a:ext cx="144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3708000" y="4867200"/>
              <a:ext cx="67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84800" y="4581360"/>
              <a:ext cx="733320" cy="617760"/>
            </a:xfrm>
            <a:prstGeom prst="rect">
              <a:avLst/>
            </a:prstGeom>
            <a:solidFill>
              <a:srgbClr val="00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9144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89520" y="4280040"/>
              <a:ext cx="1440" cy="29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57600" y="2816280"/>
              <a:ext cx="478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459320" y="5549760"/>
              <a:ext cx="611280" cy="3016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94200" y="5851440"/>
              <a:ext cx="1800" cy="42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2293920" y="5197320"/>
              <a:ext cx="1440" cy="35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13040" y="4581360"/>
              <a:ext cx="734760" cy="617760"/>
            </a:xfrm>
            <a:prstGeom prst="rect">
              <a:avLst/>
            </a:prstGeom>
            <a:solidFill>
              <a:srgbClr val="00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9144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n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17760" y="4281480"/>
              <a:ext cx="1440" cy="29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7640" y="2816280"/>
              <a:ext cx="595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n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89000" y="5549760"/>
              <a:ext cx="609840" cy="3016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 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n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24240" y="5851440"/>
              <a:ext cx="0" cy="42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638080" y="4867200"/>
              <a:ext cx="39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3101760" y="4867200"/>
              <a:ext cx="4921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96200" y="5202360"/>
              <a:ext cx="0" cy="33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89840" y="5541840"/>
              <a:ext cx="610920" cy="3016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24720" y="5843520"/>
              <a:ext cx="1440" cy="42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03880" y="3308400"/>
              <a:ext cx="609840" cy="3016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71920" y="3308400"/>
              <a:ext cx="611280" cy="3016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01960" y="3308400"/>
              <a:ext cx="610920" cy="3016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n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313000" y="2998800"/>
              <a:ext cx="1440" cy="29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782600" y="3011400"/>
              <a:ext cx="180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513120" y="2998800"/>
              <a:ext cx="1800" cy="29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06760" y="3181320"/>
              <a:ext cx="4924440" cy="284040"/>
            </a:xfrm>
            <a:custGeom>
              <a:avLst/>
              <a:gdLst/>
              <a:ahLst/>
              <a:rect l="l" t="t" r="r" b="b"/>
              <a:pathLst>
                <a:path w="3728" h="270">
                  <a:moveTo>
                    <a:pt x="0" y="267"/>
                  </a:moveTo>
                  <a:lnTo>
                    <a:pt x="178" y="270"/>
                  </a:lnTo>
                  <a:lnTo>
                    <a:pt x="185" y="0"/>
                  </a:lnTo>
                  <a:lnTo>
                    <a:pt x="3728" y="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32640" y="3147840"/>
              <a:ext cx="93600" cy="74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79960" y="3181320"/>
              <a:ext cx="227160" cy="276120"/>
            </a:xfrm>
            <a:custGeom>
              <a:avLst/>
              <a:gdLst/>
              <a:ahLst/>
              <a:rect l="l" t="t" r="r" b="b"/>
              <a:pathLst>
                <a:path w="172" h="262">
                  <a:moveTo>
                    <a:pt x="172" y="0"/>
                  </a:moveTo>
                  <a:lnTo>
                    <a:pt x="172" y="262"/>
                  </a:lnTo>
                  <a:lnTo>
                    <a:pt x="0" y="2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88040" y="3168720"/>
              <a:ext cx="50760" cy="410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811920" y="3181320"/>
              <a:ext cx="227160" cy="276120"/>
            </a:xfrm>
            <a:custGeom>
              <a:avLst/>
              <a:gdLst/>
              <a:ahLst/>
              <a:rect l="l" t="t" r="r" b="b"/>
              <a:pathLst>
                <a:path w="172" h="262">
                  <a:moveTo>
                    <a:pt x="172" y="0"/>
                  </a:moveTo>
                  <a:lnTo>
                    <a:pt x="172" y="262"/>
                  </a:lnTo>
                  <a:lnTo>
                    <a:pt x="0" y="2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18200" y="3168720"/>
              <a:ext cx="52560" cy="410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92360" y="5411880"/>
              <a:ext cx="4938840" cy="285480"/>
            </a:xfrm>
            <a:custGeom>
              <a:avLst/>
              <a:gdLst/>
              <a:ahLst/>
              <a:rect l="l" t="t" r="r" b="b"/>
              <a:pathLst>
                <a:path w="3738" h="272">
                  <a:moveTo>
                    <a:pt x="0" y="269"/>
                  </a:moveTo>
                  <a:lnTo>
                    <a:pt x="178" y="272"/>
                  </a:lnTo>
                  <a:lnTo>
                    <a:pt x="185" y="2"/>
                  </a:lnTo>
                  <a:lnTo>
                    <a:pt x="373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27960" y="5372280"/>
              <a:ext cx="95040" cy="74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67360" y="5413320"/>
              <a:ext cx="226800" cy="274680"/>
            </a:xfrm>
            <a:custGeom>
              <a:avLst/>
              <a:gdLst/>
              <a:ahLst/>
              <a:rect l="l" t="t" r="r" b="b"/>
              <a:pathLst>
                <a:path w="172" h="262">
                  <a:moveTo>
                    <a:pt x="172" y="0"/>
                  </a:moveTo>
                  <a:lnTo>
                    <a:pt x="172" y="262"/>
                  </a:lnTo>
                  <a:lnTo>
                    <a:pt x="0" y="2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75440" y="5398920"/>
              <a:ext cx="50760" cy="414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97520" y="5413320"/>
              <a:ext cx="227160" cy="274680"/>
            </a:xfrm>
            <a:custGeom>
              <a:avLst/>
              <a:gdLst/>
              <a:ahLst/>
              <a:rect l="l" t="t" r="r" b="b"/>
              <a:pathLst>
                <a:path w="172" h="262">
                  <a:moveTo>
                    <a:pt x="172" y="0"/>
                  </a:moveTo>
                  <a:lnTo>
                    <a:pt x="172" y="262"/>
                  </a:lnTo>
                  <a:lnTo>
                    <a:pt x="0" y="2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05600" y="5398920"/>
              <a:ext cx="50760" cy="414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30960" y="2846520"/>
              <a:ext cx="7416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CLK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86760" y="5518080"/>
              <a:ext cx="7412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CLK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118040" y="4406760"/>
              <a:ext cx="488880" cy="1619280"/>
            </a:xfrm>
            <a:custGeom>
              <a:avLst/>
              <a:gdLst/>
              <a:ahLst/>
              <a:rect l="l" t="t" r="r" b="b"/>
              <a:pathLst>
                <a:path w="369" h="1541">
                  <a:moveTo>
                    <a:pt x="369" y="1375"/>
                  </a:moveTo>
                  <a:lnTo>
                    <a:pt x="369" y="1541"/>
                  </a:lnTo>
                  <a:lnTo>
                    <a:pt x="0" y="1537"/>
                  </a:lnTo>
                  <a:lnTo>
                    <a:pt x="10" y="0"/>
                  </a:lnTo>
                  <a:lnTo>
                    <a:pt x="340" y="0"/>
                  </a:lnTo>
                  <a:lnTo>
                    <a:pt x="344" y="1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52760" y="4406760"/>
              <a:ext cx="488880" cy="1619280"/>
            </a:xfrm>
            <a:custGeom>
              <a:avLst/>
              <a:gdLst/>
              <a:ahLst/>
              <a:rect l="l" t="t" r="r" b="b"/>
              <a:pathLst>
                <a:path w="369" h="1541">
                  <a:moveTo>
                    <a:pt x="369" y="1375"/>
                  </a:moveTo>
                  <a:lnTo>
                    <a:pt x="369" y="1541"/>
                  </a:lnTo>
                  <a:lnTo>
                    <a:pt x="0" y="1537"/>
                  </a:lnTo>
                  <a:lnTo>
                    <a:pt x="10" y="0"/>
                  </a:lnTo>
                  <a:lnTo>
                    <a:pt x="340" y="0"/>
                  </a:lnTo>
                  <a:lnTo>
                    <a:pt x="344" y="1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6519960" y="3619440"/>
              <a:ext cx="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6734160" y="3796920"/>
              <a:ext cx="1440" cy="12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789440" y="3619440"/>
              <a:ext cx="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5003280" y="3796920"/>
              <a:ext cx="1800" cy="12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2319480" y="3619440"/>
              <a:ext cx="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2533680" y="3796920"/>
              <a:ext cx="1440" cy="12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27200" y="3790800"/>
              <a:ext cx="4980240" cy="360"/>
            </a:xfrm>
            <a:custGeom>
              <a:avLst/>
              <a:gdLst/>
              <a:ahLst/>
              <a:rect l="l" t="t" r="r" b="b"/>
              <a:pathLst>
                <a:path w="3770" h="1">
                  <a:moveTo>
                    <a:pt x="0" y="0"/>
                  </a:moveTo>
                  <a:lnTo>
                    <a:pt x="377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984920" y="3768840"/>
              <a:ext cx="50760" cy="410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715080" y="3780000"/>
              <a:ext cx="50760" cy="410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20040" y="3759120"/>
              <a:ext cx="95040" cy="74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73320" y="3930480"/>
              <a:ext cx="495360" cy="84240"/>
            </a:xfrm>
            <a:custGeom>
              <a:avLst/>
              <a:gdLst/>
              <a:ahLst/>
              <a:rect l="l" t="t" r="r" b="b"/>
              <a:pathLst>
                <a:path w="435" h="81">
                  <a:moveTo>
                    <a:pt x="0" y="0"/>
                  </a:moveTo>
                  <a:cubicBezTo>
                    <a:pt x="90" y="68"/>
                    <a:pt x="167" y="81"/>
                    <a:pt x="239" y="81"/>
                  </a:cubicBezTo>
                  <a:cubicBezTo>
                    <a:pt x="312" y="81"/>
                    <a:pt x="345" y="68"/>
                    <a:pt x="4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81240" y="3938760"/>
              <a:ext cx="485640" cy="338040"/>
            </a:xfrm>
            <a:custGeom>
              <a:avLst/>
              <a:gdLst/>
              <a:ahLst/>
              <a:rect l="l" t="t" r="r" b="b"/>
              <a:pathLst>
                <a:path w="427" h="322">
                  <a:moveTo>
                    <a:pt x="0" y="0"/>
                  </a:moveTo>
                  <a:cubicBezTo>
                    <a:pt x="8" y="195"/>
                    <a:pt x="148" y="321"/>
                    <a:pt x="219" y="322"/>
                  </a:cubicBezTo>
                  <a:cubicBezTo>
                    <a:pt x="293" y="315"/>
                    <a:pt x="413" y="135"/>
                    <a:pt x="427" y="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40400" y="3862440"/>
              <a:ext cx="495000" cy="84240"/>
            </a:xfrm>
            <a:custGeom>
              <a:avLst/>
              <a:gdLst/>
              <a:ahLst/>
              <a:rect l="l" t="t" r="r" b="b"/>
              <a:pathLst>
                <a:path w="435" h="81">
                  <a:moveTo>
                    <a:pt x="0" y="0"/>
                  </a:moveTo>
                  <a:cubicBezTo>
                    <a:pt x="90" y="68"/>
                    <a:pt x="167" y="81"/>
                    <a:pt x="239" y="81"/>
                  </a:cubicBezTo>
                  <a:cubicBezTo>
                    <a:pt x="312" y="81"/>
                    <a:pt x="345" y="68"/>
                    <a:pt x="4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48320" y="3924360"/>
              <a:ext cx="485640" cy="339840"/>
            </a:xfrm>
            <a:custGeom>
              <a:avLst/>
              <a:gdLst/>
              <a:ahLst/>
              <a:rect l="l" t="t" r="r" b="b"/>
              <a:pathLst>
                <a:path w="427" h="322">
                  <a:moveTo>
                    <a:pt x="0" y="0"/>
                  </a:moveTo>
                  <a:cubicBezTo>
                    <a:pt x="8" y="195"/>
                    <a:pt x="148" y="321"/>
                    <a:pt x="219" y="322"/>
                  </a:cubicBezTo>
                  <a:cubicBezTo>
                    <a:pt x="293" y="315"/>
                    <a:pt x="413" y="135"/>
                    <a:pt x="427" y="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378480" y="3860640"/>
              <a:ext cx="495360" cy="86040"/>
            </a:xfrm>
            <a:custGeom>
              <a:avLst/>
              <a:gdLst/>
              <a:ahLst/>
              <a:rect l="l" t="t" r="r" b="b"/>
              <a:pathLst>
                <a:path w="435" h="81">
                  <a:moveTo>
                    <a:pt x="0" y="0"/>
                  </a:moveTo>
                  <a:cubicBezTo>
                    <a:pt x="90" y="68"/>
                    <a:pt x="167" y="81"/>
                    <a:pt x="239" y="81"/>
                  </a:cubicBezTo>
                  <a:cubicBezTo>
                    <a:pt x="312" y="81"/>
                    <a:pt x="345" y="68"/>
                    <a:pt x="4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86400" y="3924360"/>
              <a:ext cx="486000" cy="338040"/>
            </a:xfrm>
            <a:custGeom>
              <a:avLst/>
              <a:gdLst/>
              <a:ahLst/>
              <a:rect l="l" t="t" r="r" b="b"/>
              <a:pathLst>
                <a:path w="427" h="322">
                  <a:moveTo>
                    <a:pt x="0" y="0"/>
                  </a:moveTo>
                  <a:cubicBezTo>
                    <a:pt x="8" y="195"/>
                    <a:pt x="148" y="321"/>
                    <a:pt x="219" y="322"/>
                  </a:cubicBezTo>
                  <a:cubicBezTo>
                    <a:pt x="293" y="315"/>
                    <a:pt x="413" y="135"/>
                    <a:pt x="427" y="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86760" y="3460680"/>
              <a:ext cx="9572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Ad / Su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67680" y="3448080"/>
              <a:ext cx="315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1350720" y="4869000"/>
              <a:ext cx="533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46840" y="3789360"/>
              <a:ext cx="343080" cy="1025640"/>
            </a:xfrm>
            <a:custGeom>
              <a:avLst/>
              <a:gdLst/>
              <a:ahLst/>
              <a:rect l="l" t="t" r="r" b="b"/>
              <a:pathLst>
                <a:path w="172" h="976">
                  <a:moveTo>
                    <a:pt x="167" y="0"/>
                  </a:moveTo>
                  <a:lnTo>
                    <a:pt x="172" y="976"/>
                  </a:lnTo>
                  <a:lnTo>
                    <a:pt x="0" y="9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47080" y="3774960"/>
              <a:ext cx="50760" cy="414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65720" y="4614840"/>
              <a:ext cx="22392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it-IT" sz="1400" spc="-1" strike="noStrike" baseline="-25000">
                  <a:solidFill>
                    <a:srgbClr val="000000"/>
                  </a:solidFill>
                  <a:latin typeface="(Tipo di carattere testo asiati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792600" y="4605480"/>
              <a:ext cx="22392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it-IT" sz="1400" spc="-1" strike="noStrike" baseline="-25000">
                  <a:solidFill>
                    <a:srgbClr val="000000"/>
                  </a:solidFill>
                  <a:latin typeface="(Tipo di carattere testo asiat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24000" y="4564080"/>
              <a:ext cx="35712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it-IT" sz="1400" spc="-1" strike="noStrike" baseline="-25000">
                  <a:solidFill>
                    <a:srgbClr val="000000"/>
                  </a:solidFill>
                  <a:latin typeface="(Tipo di carattere testo asiati"/>
                </a:rPr>
                <a:t>n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163600" y="3868560"/>
              <a:ext cx="495360" cy="84240"/>
            </a:xfrm>
            <a:custGeom>
              <a:avLst/>
              <a:gdLst/>
              <a:ahLst/>
              <a:rect l="l" t="t" r="r" b="b"/>
              <a:pathLst>
                <a:path w="435" h="81">
                  <a:moveTo>
                    <a:pt x="0" y="0"/>
                  </a:moveTo>
                  <a:cubicBezTo>
                    <a:pt x="90" y="68"/>
                    <a:pt x="167" y="81"/>
                    <a:pt x="239" y="81"/>
                  </a:cubicBezTo>
                  <a:cubicBezTo>
                    <a:pt x="312" y="81"/>
                    <a:pt x="345" y="68"/>
                    <a:pt x="4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648320" y="3922560"/>
              <a:ext cx="495360" cy="86040"/>
            </a:xfrm>
            <a:custGeom>
              <a:avLst/>
              <a:gdLst/>
              <a:ahLst/>
              <a:rect l="l" t="t" r="r" b="b"/>
              <a:pathLst>
                <a:path w="435" h="81">
                  <a:moveTo>
                    <a:pt x="0" y="0"/>
                  </a:moveTo>
                  <a:cubicBezTo>
                    <a:pt x="90" y="68"/>
                    <a:pt x="167" y="81"/>
                    <a:pt x="239" y="81"/>
                  </a:cubicBezTo>
                  <a:cubicBezTo>
                    <a:pt x="312" y="81"/>
                    <a:pt x="345" y="68"/>
                    <a:pt x="4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78480" y="3913200"/>
              <a:ext cx="495360" cy="85680"/>
            </a:xfrm>
            <a:custGeom>
              <a:avLst/>
              <a:gdLst/>
              <a:ahLst/>
              <a:rect l="l" t="t" r="r" b="b"/>
              <a:pathLst>
                <a:path w="435" h="81">
                  <a:moveTo>
                    <a:pt x="0" y="0"/>
                  </a:moveTo>
                  <a:cubicBezTo>
                    <a:pt x="90" y="68"/>
                    <a:pt x="167" y="81"/>
                    <a:pt x="239" y="81"/>
                  </a:cubicBezTo>
                  <a:cubicBezTo>
                    <a:pt x="312" y="81"/>
                    <a:pt x="345" y="68"/>
                    <a:pt x="4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8735-73A5-4125-8050-4C662B21C6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nitate logica pe un bi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763640" y="2421000"/>
            <a:ext cx="6408720" cy="3960720"/>
            <a:chOff x="1763640" y="2421000"/>
            <a:chExt cx="6408720" cy="3960720"/>
          </a:xfrm>
        </p:grpSpPr>
        <p:sp>
          <p:nvSpPr>
            <p:cNvPr id="468" name=""/>
            <p:cNvSpPr/>
            <p:nvPr/>
          </p:nvSpPr>
          <p:spPr>
            <a:xfrm flipH="1">
              <a:off x="6540480" y="4857840"/>
              <a:ext cx="465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32240" y="4610160"/>
              <a:ext cx="2209680" cy="87624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9144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Verdana"/>
                </a:rPr>
                <a:t>MUX 4: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589640" y="418464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148360" y="4184640"/>
              <a:ext cx="1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444640" y="5473800"/>
              <a:ext cx="1800" cy="4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78600" y="5954760"/>
              <a:ext cx="533160" cy="4269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i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784760" y="2421000"/>
              <a:ext cx="534960" cy="4269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i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10280" y="4807080"/>
              <a:ext cx="81000" cy="106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10360" y="4686480"/>
              <a:ext cx="106200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Cod operat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4486320" y="32493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5060880" y="286236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49760" y="3502080"/>
              <a:ext cx="965160" cy="241200"/>
            </a:xfrm>
            <a:custGeom>
              <a:avLst/>
              <a:gdLst/>
              <a:ahLst/>
              <a:rect l="l" t="t" r="r" b="b"/>
              <a:pathLst>
                <a:path w="834" h="162">
                  <a:moveTo>
                    <a:pt x="0" y="129"/>
                  </a:moveTo>
                  <a:lnTo>
                    <a:pt x="0" y="0"/>
                  </a:lnTo>
                  <a:lnTo>
                    <a:pt x="834" y="0"/>
                  </a:lnTo>
                  <a:lnTo>
                    <a:pt x="831" y="1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937040" y="3681360"/>
              <a:ext cx="425520" cy="479520"/>
            </a:xfrm>
            <a:custGeom>
              <a:avLst/>
              <a:gdLst/>
              <a:ahLst/>
              <a:rect l="l" t="t" r="r" b="b"/>
              <a:pathLst>
                <a:path w="427" h="322">
                  <a:moveTo>
                    <a:pt x="0" y="0"/>
                  </a:moveTo>
                  <a:cubicBezTo>
                    <a:pt x="8" y="195"/>
                    <a:pt x="148" y="321"/>
                    <a:pt x="219" y="322"/>
                  </a:cubicBezTo>
                  <a:cubicBezTo>
                    <a:pt x="293" y="315"/>
                    <a:pt x="413" y="135"/>
                    <a:pt x="427" y="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61040" y="3591000"/>
              <a:ext cx="433080" cy="120600"/>
            </a:xfrm>
            <a:custGeom>
              <a:avLst/>
              <a:gdLst/>
              <a:ahLst/>
              <a:rect l="l" t="t" r="r" b="b"/>
              <a:pathLst>
                <a:path w="435" h="81">
                  <a:moveTo>
                    <a:pt x="0" y="0"/>
                  </a:moveTo>
                  <a:cubicBezTo>
                    <a:pt x="90" y="68"/>
                    <a:pt x="167" y="81"/>
                    <a:pt x="239" y="81"/>
                  </a:cubicBezTo>
                  <a:cubicBezTo>
                    <a:pt x="312" y="81"/>
                    <a:pt x="345" y="68"/>
                    <a:pt x="43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67160" y="3679920"/>
              <a:ext cx="426960" cy="479160"/>
            </a:xfrm>
            <a:custGeom>
              <a:avLst/>
              <a:gdLst/>
              <a:ahLst/>
              <a:rect l="l" t="t" r="r" b="b"/>
              <a:pathLst>
                <a:path w="427" h="322">
                  <a:moveTo>
                    <a:pt x="0" y="0"/>
                  </a:moveTo>
                  <a:cubicBezTo>
                    <a:pt x="8" y="195"/>
                    <a:pt x="148" y="321"/>
                    <a:pt x="219" y="322"/>
                  </a:cubicBezTo>
                  <a:cubicBezTo>
                    <a:pt x="293" y="315"/>
                    <a:pt x="413" y="135"/>
                    <a:pt x="427" y="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937040" y="3678120"/>
              <a:ext cx="433440" cy="120600"/>
            </a:xfrm>
            <a:custGeom>
              <a:avLst/>
              <a:gdLst/>
              <a:ahLst/>
              <a:rect l="l" t="t" r="r" b="b"/>
              <a:pathLst>
                <a:path w="435" h="81">
                  <a:moveTo>
                    <a:pt x="0" y="0"/>
                  </a:moveTo>
                  <a:cubicBezTo>
                    <a:pt x="90" y="68"/>
                    <a:pt x="167" y="81"/>
                    <a:pt x="239" y="81"/>
                  </a:cubicBezTo>
                  <a:cubicBezTo>
                    <a:pt x="312" y="81"/>
                    <a:pt x="345" y="68"/>
                    <a:pt x="43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62480" y="3665520"/>
              <a:ext cx="433440" cy="119160"/>
            </a:xfrm>
            <a:custGeom>
              <a:avLst/>
              <a:gdLst/>
              <a:ahLst/>
              <a:rect l="l" t="t" r="r" b="b"/>
              <a:pathLst>
                <a:path w="435" h="81">
                  <a:moveTo>
                    <a:pt x="0" y="0"/>
                  </a:moveTo>
                  <a:cubicBezTo>
                    <a:pt x="90" y="68"/>
                    <a:pt x="167" y="81"/>
                    <a:pt x="239" y="81"/>
                  </a:cubicBezTo>
                  <a:cubicBezTo>
                    <a:pt x="312" y="81"/>
                    <a:pt x="345" y="68"/>
                    <a:pt x="43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1320" y="3278160"/>
              <a:ext cx="1030320" cy="492120"/>
            </a:xfrm>
            <a:custGeom>
              <a:avLst/>
              <a:gdLst/>
              <a:ahLst/>
              <a:rect l="l" t="t" r="r" b="b"/>
              <a:pathLst>
                <a:path w="890" h="331">
                  <a:moveTo>
                    <a:pt x="0" y="331"/>
                  </a:moveTo>
                  <a:lnTo>
                    <a:pt x="2" y="0"/>
                  </a:lnTo>
                  <a:lnTo>
                    <a:pt x="890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5400000">
              <a:off x="5438520" y="3517560"/>
              <a:ext cx="5709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 rot="5400000">
              <a:off x="5485680" y="3497040"/>
              <a:ext cx="53568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498640" y="3736800"/>
              <a:ext cx="43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5818320" y="3265200"/>
              <a:ext cx="144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802480" y="3255840"/>
              <a:ext cx="4428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37320" y="4011480"/>
              <a:ext cx="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157800" y="3718080"/>
              <a:ext cx="252360" cy="334800"/>
            </a:xfrm>
            <a:custGeom>
              <a:avLst/>
              <a:gdLst/>
              <a:ahLst/>
              <a:rect l="l" t="t" r="r" b="b"/>
              <a:pathLst>
                <a:path w="218" h="225">
                  <a:moveTo>
                    <a:pt x="0" y="0"/>
                  </a:moveTo>
                  <a:lnTo>
                    <a:pt x="120" y="225"/>
                  </a:lnTo>
                  <a:lnTo>
                    <a:pt x="218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46720" y="4054320"/>
              <a:ext cx="81000" cy="106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6286680" y="416700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6291360" y="2838600"/>
              <a:ext cx="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540480" y="5200560"/>
              <a:ext cx="465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10280" y="5149800"/>
              <a:ext cx="81000" cy="104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37120" y="3468600"/>
              <a:ext cx="4608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64360" y="3255840"/>
              <a:ext cx="4608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12000" y="2421000"/>
              <a:ext cx="533160" cy="4269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i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4005000" y="4857840"/>
              <a:ext cx="31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798560" y="4610160"/>
              <a:ext cx="2210040" cy="87624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9144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Verdana"/>
                </a:rPr>
                <a:t>MUX 4: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54160" y="4184640"/>
              <a:ext cx="180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614680" y="4184640"/>
              <a:ext cx="1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2909880" y="5473800"/>
              <a:ext cx="1440" cy="4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43120" y="5954760"/>
              <a:ext cx="534960" cy="4269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249640" y="2421000"/>
              <a:ext cx="534960" cy="4269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951200" y="32493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2525760" y="286236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116080" y="3502080"/>
              <a:ext cx="965160" cy="241200"/>
            </a:xfrm>
            <a:custGeom>
              <a:avLst/>
              <a:gdLst/>
              <a:ahLst/>
              <a:rect l="l" t="t" r="r" b="b"/>
              <a:pathLst>
                <a:path w="834" h="162">
                  <a:moveTo>
                    <a:pt x="0" y="129"/>
                  </a:moveTo>
                  <a:lnTo>
                    <a:pt x="0" y="0"/>
                  </a:lnTo>
                  <a:lnTo>
                    <a:pt x="834" y="0"/>
                  </a:lnTo>
                  <a:lnTo>
                    <a:pt x="831" y="1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401920" y="3681360"/>
              <a:ext cx="426960" cy="479520"/>
            </a:xfrm>
            <a:custGeom>
              <a:avLst/>
              <a:gdLst/>
              <a:ahLst/>
              <a:rect l="l" t="t" r="r" b="b"/>
              <a:pathLst>
                <a:path w="427" h="322">
                  <a:moveTo>
                    <a:pt x="0" y="0"/>
                  </a:moveTo>
                  <a:cubicBezTo>
                    <a:pt x="8" y="195"/>
                    <a:pt x="148" y="321"/>
                    <a:pt x="219" y="322"/>
                  </a:cubicBezTo>
                  <a:cubicBezTo>
                    <a:pt x="293" y="315"/>
                    <a:pt x="413" y="135"/>
                    <a:pt x="427" y="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825560" y="3591000"/>
              <a:ext cx="434880" cy="120600"/>
            </a:xfrm>
            <a:custGeom>
              <a:avLst/>
              <a:gdLst/>
              <a:ahLst/>
              <a:rect l="l" t="t" r="r" b="b"/>
              <a:pathLst>
                <a:path w="435" h="81">
                  <a:moveTo>
                    <a:pt x="0" y="0"/>
                  </a:moveTo>
                  <a:cubicBezTo>
                    <a:pt x="90" y="68"/>
                    <a:pt x="167" y="81"/>
                    <a:pt x="239" y="81"/>
                  </a:cubicBezTo>
                  <a:cubicBezTo>
                    <a:pt x="312" y="81"/>
                    <a:pt x="345" y="68"/>
                    <a:pt x="43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833480" y="3679920"/>
              <a:ext cx="425520" cy="479160"/>
            </a:xfrm>
            <a:custGeom>
              <a:avLst/>
              <a:gdLst/>
              <a:ahLst/>
              <a:rect l="l" t="t" r="r" b="b"/>
              <a:pathLst>
                <a:path w="427" h="322">
                  <a:moveTo>
                    <a:pt x="0" y="0"/>
                  </a:moveTo>
                  <a:cubicBezTo>
                    <a:pt x="8" y="195"/>
                    <a:pt x="148" y="321"/>
                    <a:pt x="219" y="322"/>
                  </a:cubicBezTo>
                  <a:cubicBezTo>
                    <a:pt x="293" y="315"/>
                    <a:pt x="413" y="135"/>
                    <a:pt x="427" y="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763640" y="2933640"/>
              <a:ext cx="104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401920" y="3678120"/>
              <a:ext cx="434880" cy="120600"/>
            </a:xfrm>
            <a:custGeom>
              <a:avLst/>
              <a:gdLst/>
              <a:ahLst/>
              <a:rect l="l" t="t" r="r" b="b"/>
              <a:pathLst>
                <a:path w="435" h="81">
                  <a:moveTo>
                    <a:pt x="0" y="0"/>
                  </a:moveTo>
                  <a:cubicBezTo>
                    <a:pt x="90" y="68"/>
                    <a:pt x="167" y="81"/>
                    <a:pt x="239" y="81"/>
                  </a:cubicBezTo>
                  <a:cubicBezTo>
                    <a:pt x="312" y="81"/>
                    <a:pt x="345" y="68"/>
                    <a:pt x="43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827360" y="3665520"/>
              <a:ext cx="433080" cy="119160"/>
            </a:xfrm>
            <a:custGeom>
              <a:avLst/>
              <a:gdLst/>
              <a:ahLst/>
              <a:rect l="l" t="t" r="r" b="b"/>
              <a:pathLst>
                <a:path w="435" h="81">
                  <a:moveTo>
                    <a:pt x="0" y="0"/>
                  </a:moveTo>
                  <a:cubicBezTo>
                    <a:pt x="90" y="68"/>
                    <a:pt x="167" y="81"/>
                    <a:pt x="239" y="81"/>
                  </a:cubicBezTo>
                  <a:cubicBezTo>
                    <a:pt x="312" y="81"/>
                    <a:pt x="345" y="68"/>
                    <a:pt x="43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17640" y="3278160"/>
              <a:ext cx="1030320" cy="492120"/>
            </a:xfrm>
            <a:custGeom>
              <a:avLst/>
              <a:gdLst/>
              <a:ahLst/>
              <a:rect l="l" t="t" r="r" b="b"/>
              <a:pathLst>
                <a:path w="890" h="331">
                  <a:moveTo>
                    <a:pt x="0" y="331"/>
                  </a:moveTo>
                  <a:lnTo>
                    <a:pt x="2" y="0"/>
                  </a:lnTo>
                  <a:lnTo>
                    <a:pt x="890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5400000">
              <a:off x="2905200" y="3519720"/>
              <a:ext cx="570960" cy="41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 rot="5400000">
              <a:off x="2950200" y="3498840"/>
              <a:ext cx="53568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2965320" y="3736800"/>
              <a:ext cx="43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>
              <a:off x="3284640" y="3265200"/>
              <a:ext cx="144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267000" y="3255840"/>
              <a:ext cx="4464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3201480" y="4011480"/>
              <a:ext cx="180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624120" y="3718080"/>
              <a:ext cx="250920" cy="334800"/>
            </a:xfrm>
            <a:custGeom>
              <a:avLst/>
              <a:gdLst/>
              <a:ahLst/>
              <a:rect l="l" t="t" r="r" b="b"/>
              <a:pathLst>
                <a:path w="218" h="225">
                  <a:moveTo>
                    <a:pt x="0" y="0"/>
                  </a:moveTo>
                  <a:lnTo>
                    <a:pt x="120" y="225"/>
                  </a:lnTo>
                  <a:lnTo>
                    <a:pt x="218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11600" y="4054320"/>
              <a:ext cx="82440" cy="106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3751200" y="416700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3755880" y="2838600"/>
              <a:ext cx="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4005000" y="5200560"/>
              <a:ext cx="339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03440" y="3468600"/>
              <a:ext cx="4464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30680" y="3255840"/>
              <a:ext cx="4428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76520" y="2421000"/>
              <a:ext cx="534960" cy="4269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943280" y="328464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19640" y="3249720"/>
              <a:ext cx="4464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700360" y="3249720"/>
              <a:ext cx="442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64000" y="328464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0ACD-DA53-4FDC-A6FF-DB925FA9D9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peratia de inmulti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2050920" y="2492280"/>
            <a:ext cx="6266160" cy="2268720"/>
            <a:chOff x="2050920" y="2492280"/>
            <a:chExt cx="6266160" cy="2268720"/>
          </a:xfrm>
        </p:grpSpPr>
        <p:sp>
          <p:nvSpPr>
            <p:cNvPr id="538" name=""/>
            <p:cNvSpPr/>
            <p:nvPr/>
          </p:nvSpPr>
          <p:spPr>
            <a:xfrm>
              <a:off x="2052720" y="2529000"/>
              <a:ext cx="197964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1100 *  12 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1010     10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0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1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0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1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1111000 = 78H = 1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303640" y="2924280"/>
              <a:ext cx="52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050920" y="3716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559400" y="2492280"/>
              <a:ext cx="3757680" cy="22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Algoritm de înmulţire modificat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00000000           Acumulator (A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0” →     0000000 0        Depl. d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1” →          1100           Adun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      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0001100 0        Produs parţ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        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000110 00      Depl. d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0” →         00011 000    Depl. d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1” →          1100           Adun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            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1111 000    Produs fi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292720" y="407664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148360" y="3321000"/>
              <a:ext cx="106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977080" y="2781360"/>
              <a:ext cx="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449C-6543-4603-81A1-84789EE2A4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mplementarea operatiei de inmulti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681960" y="4303800"/>
            <a:ext cx="1440" cy="387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753160" y="3144960"/>
            <a:ext cx="0" cy="333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53120" y="3079800"/>
            <a:ext cx="1440" cy="333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5460480" y="3490920"/>
            <a:ext cx="21276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462040" y="2166840"/>
            <a:ext cx="2329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1187280" y="1773360"/>
            <a:ext cx="7345440" cy="4176720"/>
            <a:chOff x="1187280" y="1773360"/>
            <a:chExt cx="7345440" cy="4176720"/>
          </a:xfrm>
        </p:grpSpPr>
        <p:sp>
          <p:nvSpPr>
            <p:cNvPr id="552" name=""/>
            <p:cNvSpPr/>
            <p:nvPr/>
          </p:nvSpPr>
          <p:spPr>
            <a:xfrm>
              <a:off x="6681960" y="4303800"/>
              <a:ext cx="1440" cy="387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753160" y="3144960"/>
              <a:ext cx="0" cy="33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53120" y="3079800"/>
              <a:ext cx="1440" cy="33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5460480" y="3490920"/>
              <a:ext cx="21276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462040" y="2166840"/>
              <a:ext cx="2329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7769160" y="4844880"/>
              <a:ext cx="42408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6114600" y="4844880"/>
              <a:ext cx="42228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3751200" y="4844880"/>
              <a:ext cx="42408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900080" y="3014640"/>
              <a:ext cx="2909880" cy="50652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(n+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240080" y="5113440"/>
              <a:ext cx="1532160" cy="83664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9144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Dispozitiv de 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39960" y="4997520"/>
              <a:ext cx="1073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Shift rig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532320" y="1774800"/>
              <a:ext cx="163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42280" y="4002120"/>
              <a:ext cx="584280" cy="307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854760" y="4002120"/>
              <a:ext cx="584280" cy="307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05640" y="4002120"/>
              <a:ext cx="583920" cy="307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 n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75520" y="4002120"/>
              <a:ext cx="583920" cy="307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Verdana"/>
                </a:rPr>
                <a:t>. . 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93720" y="4238640"/>
              <a:ext cx="2629080" cy="1025640"/>
            </a:xfrm>
            <a:custGeom>
              <a:avLst/>
              <a:gdLst/>
              <a:ahLst/>
              <a:rect l="l" t="t" r="r" b="b"/>
              <a:pathLst>
                <a:path w="2081" h="998">
                  <a:moveTo>
                    <a:pt x="225" y="0"/>
                  </a:moveTo>
                  <a:lnTo>
                    <a:pt x="0" y="0"/>
                  </a:lnTo>
                  <a:lnTo>
                    <a:pt x="0" y="993"/>
                  </a:lnTo>
                  <a:lnTo>
                    <a:pt x="2081" y="99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2960" y="4133880"/>
              <a:ext cx="905040" cy="1440"/>
            </a:xfrm>
            <a:custGeom>
              <a:avLst/>
              <a:gdLst/>
              <a:ahLst/>
              <a:rect l="l" t="t" r="r" b="b"/>
              <a:pathLst>
                <a:path w="716" h="1">
                  <a:moveTo>
                    <a:pt x="716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803840" y="2382840"/>
              <a:ext cx="379440" cy="2709720"/>
            </a:xfrm>
            <a:custGeom>
              <a:avLst/>
              <a:gdLst/>
              <a:ahLst/>
              <a:rect l="l" t="t" r="r" b="b"/>
              <a:pathLst>
                <a:path w="300" h="1720">
                  <a:moveTo>
                    <a:pt x="0" y="0"/>
                  </a:moveTo>
                  <a:lnTo>
                    <a:pt x="300" y="0"/>
                  </a:lnTo>
                  <a:lnTo>
                    <a:pt x="300" y="17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1897200" y="2246400"/>
              <a:ext cx="2888640" cy="307800"/>
              <a:chOff x="1897200" y="2246400"/>
              <a:chExt cx="2888640" cy="307800"/>
            </a:xfrm>
          </p:grpSpPr>
          <p:sp>
            <p:nvSpPr>
              <p:cNvPr id="572" name=""/>
              <p:cNvSpPr/>
              <p:nvPr/>
            </p:nvSpPr>
            <p:spPr>
              <a:xfrm>
                <a:off x="4202280" y="2246400"/>
                <a:ext cx="583560" cy="3078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14400" y="2246400"/>
                <a:ext cx="583920" cy="3078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465640" y="2246400"/>
                <a:ext cx="583560" cy="3078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Verdana"/>
                  </a:rPr>
                  <a:t>n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035880" y="2246400"/>
                <a:ext cx="583560" cy="3078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900" spc="-1" strike="noStrike">
                    <a:solidFill>
                      <a:srgbClr val="000000"/>
                    </a:solidFill>
                    <a:latin typeface="Verdana"/>
                  </a:rPr>
                  <a:t>. . 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897200" y="2246400"/>
                <a:ext cx="583560" cy="3078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" name=""/>
            <p:cNvSpPr/>
            <p:nvPr/>
          </p:nvSpPr>
          <p:spPr>
            <a:xfrm>
              <a:off x="3338640" y="1773360"/>
              <a:ext cx="0" cy="46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338640" y="2544840"/>
              <a:ext cx="0" cy="46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1897200" y="3997440"/>
              <a:ext cx="2888640" cy="306360"/>
              <a:chOff x="1897200" y="3997440"/>
              <a:chExt cx="2888640" cy="306360"/>
            </a:xfrm>
          </p:grpSpPr>
          <p:sp>
            <p:nvSpPr>
              <p:cNvPr id="580" name=""/>
              <p:cNvSpPr/>
              <p:nvPr/>
            </p:nvSpPr>
            <p:spPr>
              <a:xfrm>
                <a:off x="4202280" y="3997440"/>
                <a:ext cx="583560" cy="30636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614400" y="3997440"/>
                <a:ext cx="583920" cy="30636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465640" y="3997440"/>
                <a:ext cx="583560" cy="30636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Verdana"/>
                  </a:rPr>
                  <a:t>n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035880" y="3997440"/>
                <a:ext cx="583560" cy="30636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900" spc="-1" strike="noStrike">
                    <a:solidFill>
                      <a:srgbClr val="000000"/>
                    </a:solidFill>
                    <a:latin typeface="Verdana"/>
                  </a:rPr>
                  <a:t>. . 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897200" y="3997440"/>
                <a:ext cx="583560" cy="30636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3338640" y="3524400"/>
              <a:ext cx="0" cy="46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87280" y="2728800"/>
              <a:ext cx="2132280" cy="1951200"/>
            </a:xfrm>
            <a:custGeom>
              <a:avLst/>
              <a:gdLst/>
              <a:ahLst/>
              <a:rect l="l" t="t" r="r" b="b"/>
              <a:pathLst>
                <a:path w="1687" h="1822">
                  <a:moveTo>
                    <a:pt x="1687" y="1462"/>
                  </a:moveTo>
                  <a:lnTo>
                    <a:pt x="1687" y="1822"/>
                  </a:lnTo>
                  <a:lnTo>
                    <a:pt x="7" y="1822"/>
                  </a:lnTo>
                  <a:lnTo>
                    <a:pt x="0" y="0"/>
                  </a:lnTo>
                  <a:lnTo>
                    <a:pt x="1005" y="0"/>
                  </a:lnTo>
                  <a:lnTo>
                    <a:pt x="1005" y="27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705640" y="3697200"/>
              <a:ext cx="583920" cy="3081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 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68960" y="4505400"/>
              <a:ext cx="1652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6864480" y="4309560"/>
              <a:ext cx="0" cy="46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492200" y="4140360"/>
              <a:ext cx="2755800" cy="1412640"/>
            </a:xfrm>
            <a:custGeom>
              <a:avLst/>
              <a:gdLst/>
              <a:ahLst/>
              <a:rect l="l" t="t" r="r" b="b"/>
              <a:pathLst>
                <a:path w="2181" h="1320">
                  <a:moveTo>
                    <a:pt x="301" y="0"/>
                  </a:moveTo>
                  <a:lnTo>
                    <a:pt x="0" y="2"/>
                  </a:lnTo>
                  <a:lnTo>
                    <a:pt x="0" y="1313"/>
                  </a:lnTo>
                  <a:lnTo>
                    <a:pt x="2181" y="13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76600" y="5264280"/>
              <a:ext cx="1073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Cl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378080" y="4043520"/>
              <a:ext cx="2862000" cy="1800000"/>
            </a:xfrm>
            <a:custGeom>
              <a:avLst/>
              <a:gdLst/>
              <a:ahLst/>
              <a:rect l="l" t="t" r="r" b="b"/>
              <a:pathLst>
                <a:path w="2265" h="1681">
                  <a:moveTo>
                    <a:pt x="391" y="0"/>
                  </a:moveTo>
                  <a:lnTo>
                    <a:pt x="0" y="3"/>
                  </a:lnTo>
                  <a:lnTo>
                    <a:pt x="1" y="1680"/>
                  </a:lnTo>
                  <a:lnTo>
                    <a:pt x="2265" y="16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27280" y="5570640"/>
              <a:ext cx="10717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Wr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535640" y="4689360"/>
              <a:ext cx="6951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Wr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76920" y="4064040"/>
              <a:ext cx="2755800" cy="1757160"/>
            </a:xfrm>
            <a:custGeom>
              <a:avLst/>
              <a:gdLst/>
              <a:ahLst/>
              <a:rect l="l" t="t" r="r" b="b"/>
              <a:pathLst>
                <a:path w="2181" h="1641">
                  <a:moveTo>
                    <a:pt x="1790" y="0"/>
                  </a:moveTo>
                  <a:lnTo>
                    <a:pt x="2181" y="3"/>
                  </a:lnTo>
                  <a:lnTo>
                    <a:pt x="2181" y="1641"/>
                  </a:lnTo>
                  <a:lnTo>
                    <a:pt x="0" y="16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776920" y="4203720"/>
              <a:ext cx="2641680" cy="1330200"/>
            </a:xfrm>
            <a:custGeom>
              <a:avLst/>
              <a:gdLst/>
              <a:ahLst/>
              <a:rect l="l" t="t" r="r" b="b"/>
              <a:pathLst>
                <a:path w="2091" h="1243">
                  <a:moveTo>
                    <a:pt x="1790" y="0"/>
                  </a:moveTo>
                  <a:lnTo>
                    <a:pt x="2091" y="2"/>
                  </a:lnTo>
                  <a:lnTo>
                    <a:pt x="2091" y="1243"/>
                  </a:lnTo>
                  <a:lnTo>
                    <a:pt x="0" y="1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764320" y="4309920"/>
              <a:ext cx="1958760" cy="920880"/>
            </a:xfrm>
            <a:custGeom>
              <a:avLst/>
              <a:gdLst/>
              <a:ahLst/>
              <a:rect l="l" t="t" r="r" b="b"/>
              <a:pathLst>
                <a:path w="1550" h="860">
                  <a:moveTo>
                    <a:pt x="0" y="860"/>
                  </a:moveTo>
                  <a:lnTo>
                    <a:pt x="1550" y="860"/>
                  </a:lnTo>
                  <a:lnTo>
                    <a:pt x="155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064200" y="4965840"/>
              <a:ext cx="595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T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039000" y="5254560"/>
              <a:ext cx="10731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Shift righ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911920" y="5553000"/>
              <a:ext cx="10731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Wr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0B50-B7EF-4D36-B541-3F686DFA20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lgoritm de inmulti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Înscriere operanzi în registre B ← X, Q ← Y, şterge acumulatorul A ← 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lementare operanzi dacă semnul este negativ „−„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Test Q</a:t>
            </a:r>
            <a:r>
              <a:rPr b="0" lang="ro-RO" sz="21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 algn="just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Q</a:t>
            </a:r>
            <a:r>
              <a:rPr b="0" lang="ro-RO" sz="19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0</a:t>
            </a:r>
            <a:r>
              <a:rPr b="0" lang="ro-RO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 0, deplasare dreapta A şi Q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 algn="just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Q</a:t>
            </a:r>
            <a:r>
              <a:rPr b="0" lang="ro-RO" sz="19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0</a:t>
            </a:r>
            <a:r>
              <a:rPr b="0" lang="ro-RO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 1, adunare A = B + A şi deplasare dreapta A şi Q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Se repetă pasul 3 până când Y</a:t>
            </a:r>
            <a:r>
              <a:rPr b="0" lang="ro-RO" sz="21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n-1 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junge în Q</a:t>
            </a:r>
            <a:r>
              <a:rPr b="0" lang="ro-RO" sz="21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0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. După ultima eventuală adunare nu se mai face deplasar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ro-RO" sz="21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S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 = B</a:t>
            </a:r>
            <a:r>
              <a:rPr b="0" lang="ro-RO" sz="21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S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 + Q</a:t>
            </a:r>
            <a:r>
              <a:rPr b="0" lang="ro-RO" sz="21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lementare rezultat dacă A</a:t>
            </a:r>
            <a:r>
              <a:rPr b="0" lang="ro-RO" sz="21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S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 = 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993A-2BF3-4FFB-A62A-88D1BE3647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ircuit de imparti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971640" y="1989000"/>
            <a:ext cx="6624720" cy="4464360"/>
            <a:chOff x="971640" y="1989000"/>
            <a:chExt cx="6624720" cy="4464360"/>
          </a:xfrm>
        </p:grpSpPr>
        <p:sp>
          <p:nvSpPr>
            <p:cNvPr id="605" name=""/>
            <p:cNvSpPr/>
            <p:nvPr/>
          </p:nvSpPr>
          <p:spPr>
            <a:xfrm flipH="1">
              <a:off x="6986160" y="3927600"/>
              <a:ext cx="397080" cy="7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5433480" y="3927600"/>
              <a:ext cx="397080" cy="7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3215880" y="3927600"/>
              <a:ext cx="398520" cy="7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461960" y="3860640"/>
              <a:ext cx="2730600" cy="70812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uma, Diferen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454720" y="3919680"/>
              <a:ext cx="1436760" cy="117144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9144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Dispozitiv de 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92320" y="1989000"/>
              <a:ext cx="1540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680160" y="2747880"/>
              <a:ext cx="547560" cy="430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127920" y="2747880"/>
              <a:ext cx="547560" cy="430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051520" y="2747880"/>
              <a:ext cx="547560" cy="430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 n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584680" y="2747880"/>
              <a:ext cx="547920" cy="430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Verdana"/>
                </a:rPr>
                <a:t>. . 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186080" y="2863800"/>
              <a:ext cx="847800" cy="1800"/>
            </a:xfrm>
            <a:custGeom>
              <a:avLst/>
              <a:gdLst/>
              <a:ahLst/>
              <a:rect l="l" t="t" r="r" b="b"/>
              <a:pathLst>
                <a:path w="716" h="1">
                  <a:moveTo>
                    <a:pt x="716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186080" y="4191120"/>
              <a:ext cx="1263960" cy="106200"/>
            </a:xfrm>
            <a:custGeom>
              <a:avLst/>
              <a:gdLst/>
              <a:ahLst/>
              <a:rect l="l" t="t" r="r" b="b"/>
              <a:pathLst>
                <a:path w="300" h="1">
                  <a:moveTo>
                    <a:pt x="0" y="0"/>
                  </a:moveTo>
                  <a:lnTo>
                    <a:pt x="3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1460520" y="5235480"/>
              <a:ext cx="2709720" cy="428760"/>
              <a:chOff x="1460520" y="5235480"/>
              <a:chExt cx="2709720" cy="428760"/>
            </a:xfrm>
          </p:grpSpPr>
          <p:sp>
            <p:nvSpPr>
              <p:cNvPr id="618" name=""/>
              <p:cNvSpPr/>
              <p:nvPr/>
            </p:nvSpPr>
            <p:spPr>
              <a:xfrm>
                <a:off x="3622680" y="5235480"/>
                <a:ext cx="547560" cy="42876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r>
                  <a:rPr b="0" lang="en-US" sz="900" spc="-1" strike="noStrike" baseline="-25000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071160" y="5235480"/>
                <a:ext cx="547560" cy="42876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993680" y="5235480"/>
                <a:ext cx="547560" cy="42876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Verdana"/>
                  </a:rPr>
                  <a:t>n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528280" y="5235480"/>
                <a:ext cx="547560" cy="42876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900" spc="-1" strike="noStrike">
                    <a:solidFill>
                      <a:srgbClr val="000000"/>
                    </a:solidFill>
                    <a:latin typeface="Verdana"/>
                  </a:rPr>
                  <a:t>. . 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460520" y="5235480"/>
                <a:ext cx="547560" cy="42876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>
              <a:off x="2828880" y="4572000"/>
              <a:ext cx="0" cy="65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828880" y="3178080"/>
              <a:ext cx="0" cy="65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1477800" y="2739960"/>
              <a:ext cx="2709720" cy="430200"/>
              <a:chOff x="1477800" y="2739960"/>
              <a:chExt cx="2709720" cy="430200"/>
            </a:xfrm>
          </p:grpSpPr>
          <p:sp>
            <p:nvSpPr>
              <p:cNvPr id="626" name=""/>
              <p:cNvSpPr/>
              <p:nvPr/>
            </p:nvSpPr>
            <p:spPr>
              <a:xfrm>
                <a:off x="3639960" y="2739960"/>
                <a:ext cx="547560" cy="4302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088800" y="2739960"/>
                <a:ext cx="547920" cy="4302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010960" y="2739960"/>
                <a:ext cx="547560" cy="4302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Verdana"/>
                  </a:rPr>
                  <a:t>n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545920" y="2739960"/>
                <a:ext cx="547560" cy="4302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900" spc="-1" strike="noStrike">
                    <a:solidFill>
                      <a:srgbClr val="000000"/>
                    </a:solidFill>
                    <a:latin typeface="Verdana"/>
                  </a:rPr>
                  <a:t>. . 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477800" y="2739960"/>
                <a:ext cx="547560" cy="4302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2828880" y="2077920"/>
              <a:ext cx="0" cy="65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71640" y="2314440"/>
              <a:ext cx="1191960" cy="1898640"/>
            </a:xfrm>
            <a:custGeom>
              <a:avLst/>
              <a:gdLst/>
              <a:ahLst/>
              <a:rect l="l" t="t" r="r" b="b"/>
              <a:pathLst>
                <a:path w="1005" h="1237">
                  <a:moveTo>
                    <a:pt x="412" y="1237"/>
                  </a:moveTo>
                  <a:lnTo>
                    <a:pt x="7" y="1237"/>
                  </a:lnTo>
                  <a:lnTo>
                    <a:pt x="0" y="0"/>
                  </a:lnTo>
                  <a:lnTo>
                    <a:pt x="1005" y="0"/>
                  </a:lnTo>
                  <a:lnTo>
                    <a:pt x="1005" y="27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51520" y="2320920"/>
              <a:ext cx="547560" cy="430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 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005280" y="6146640"/>
              <a:ext cx="15372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2846520" y="5673240"/>
              <a:ext cx="0" cy="65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62200" y="3178080"/>
              <a:ext cx="4659120" cy="720720"/>
            </a:xfrm>
            <a:custGeom>
              <a:avLst/>
              <a:gdLst/>
              <a:ahLst/>
              <a:rect l="l" t="t" r="r" b="b"/>
              <a:pathLst>
                <a:path w="3930" h="480">
                  <a:moveTo>
                    <a:pt x="3930" y="480"/>
                  </a:moveTo>
                  <a:lnTo>
                    <a:pt x="3930" y="165"/>
                  </a:lnTo>
                  <a:lnTo>
                    <a:pt x="0" y="16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68760" y="3840120"/>
              <a:ext cx="689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Ad / 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181400" y="3036960"/>
              <a:ext cx="1724040" cy="861840"/>
            </a:xfrm>
            <a:custGeom>
              <a:avLst/>
              <a:gdLst/>
              <a:ahLst/>
              <a:rect l="l" t="t" r="r" b="b"/>
              <a:pathLst>
                <a:path w="1455" h="530">
                  <a:moveTo>
                    <a:pt x="0" y="0"/>
                  </a:moveTo>
                  <a:lnTo>
                    <a:pt x="391" y="3"/>
                  </a:lnTo>
                  <a:lnTo>
                    <a:pt x="390" y="365"/>
                  </a:lnTo>
                  <a:lnTo>
                    <a:pt x="1455" y="365"/>
                  </a:lnTo>
                  <a:lnTo>
                    <a:pt x="1455" y="5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883560" y="2938320"/>
              <a:ext cx="712800" cy="1525680"/>
            </a:xfrm>
            <a:custGeom>
              <a:avLst/>
              <a:gdLst/>
              <a:ahLst/>
              <a:rect l="l" t="t" r="r" b="b"/>
              <a:pathLst>
                <a:path w="601" h="958">
                  <a:moveTo>
                    <a:pt x="300" y="0"/>
                  </a:moveTo>
                  <a:lnTo>
                    <a:pt x="601" y="2"/>
                  </a:lnTo>
                  <a:lnTo>
                    <a:pt x="601" y="958"/>
                  </a:lnTo>
                  <a:lnTo>
                    <a:pt x="0" y="9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62320" y="5089680"/>
              <a:ext cx="1998720" cy="344160"/>
            </a:xfrm>
            <a:custGeom>
              <a:avLst/>
              <a:gdLst/>
              <a:ahLst/>
              <a:rect l="l" t="t" r="r" b="b"/>
              <a:pathLst>
                <a:path w="1550" h="860">
                  <a:moveTo>
                    <a:pt x="0" y="860"/>
                  </a:moveTo>
                  <a:lnTo>
                    <a:pt x="1550" y="860"/>
                  </a:lnTo>
                  <a:lnTo>
                    <a:pt x="155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7A4D-8640-41E0-B282-6AFF26C48B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cventa de imparti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476360" y="1441800"/>
            <a:ext cx="734364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Încarcă deîmpărţitul în A şi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Încarcă împărţitorul î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morează A</a:t>
            </a:r>
            <a:r>
              <a:rPr b="0" lang="ro-RO" sz="18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B</a:t>
            </a:r>
            <a:r>
              <a:rPr b="0" lang="ro-RO" sz="18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în Q</a:t>
            </a:r>
            <a:r>
              <a:rPr b="0" lang="ro-RO" sz="18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Dac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o-RO" sz="18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 complementează A,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o-RO" sz="1800" spc="-1" strike="noStrike" baseline="-30000">
                <a:solidFill>
                  <a:srgbClr val="000000"/>
                </a:solidFill>
                <a:latin typeface="(Tipo di carattere testo asiati"/>
                <a:ea typeface="Times New Roman"/>
              </a:rPr>
              <a:t>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 complementează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s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≥ B, depăşire de capaci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 = 0, împărţire cu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= 0 şi Q &lt; B, rezultat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plasare A, Q la stânga şi pune 0 în Q</a:t>
            </a:r>
            <a:r>
              <a:rPr b="0" lang="ro-RO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scade B din A şi rezultatul se pune în A. Dac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o-RO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0, deplasare stânga A, Q şi pune 1 în Q</a:t>
            </a:r>
            <a:r>
              <a:rPr b="0" lang="ro-RO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S = 1, adună B la A, deplasare stânga A, Q şi pune 0 în Q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petă pasul 5 de n 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7.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otunjirea rezultatului. Dacă A ≥ B, se adaugă 1 la complementul registrului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8.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acă QS = 1 se complementează registrul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AF95-23C3-4D56-BF5E-2375E387E7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dunarea in virgula flotant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Încărcare operanz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Se compară exponenţii (5  cazuri)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ex = ey, se adună mantisele si se copiază exponentu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ex &gt; ey şi (ex – ey) &lt; numărul poziţiilor binare din mantisă, atunci mantisa my se aliniază prin deplasare la dreapta cu ex-ey poziţii şi se adună mx cu my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ex &gt;&gt; ey şi (ex – ey) ≥ numărul poziţiilor binare din mantisă, atunci se copiază X în rezulta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ex &lt; ey şi (ey – ex) &lt; numărul poziţiilor binare din mantisă, atunci mantisa mx se aliniază prin deplasare la dreapta cu ey-ex poziţii şi se adună mx cu my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ex &lt;&lt; ey şi (ey – ex) ≥ numărul poziţiilor binare din mantisă, atunci se copiază Y în rezulta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Aduna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Realiniere. Test bit de după şi dinainte de virgulă, deplasare stânga sau dreapta, incrementare sau decrementare exponen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687F-7C09-4F7D-A5D4-577D9B012A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ircuit de adunare in Virgula flotant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1042920" y="1628640"/>
            <a:ext cx="7166160" cy="5106960"/>
            <a:chOff x="1042920" y="1628640"/>
            <a:chExt cx="7166160" cy="5106960"/>
          </a:xfrm>
        </p:grpSpPr>
        <p:sp>
          <p:nvSpPr>
            <p:cNvPr id="647" name=""/>
            <p:cNvSpPr/>
            <p:nvPr/>
          </p:nvSpPr>
          <p:spPr>
            <a:xfrm flipH="1">
              <a:off x="7767720" y="3968640"/>
              <a:ext cx="44136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6043680" y="3968640"/>
              <a:ext cx="44136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3583080" y="3968640"/>
              <a:ext cx="44136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879640" y="3914640"/>
              <a:ext cx="1785960" cy="57168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Verdana"/>
                </a:rPr>
                <a:t>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635280" y="1628640"/>
              <a:ext cx="171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743280" y="2889000"/>
              <a:ext cx="14400" cy="98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44600" y="2520720"/>
              <a:ext cx="608040" cy="3477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ex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38600" y="2520720"/>
              <a:ext cx="1811160" cy="3477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manti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52760" y="2520720"/>
              <a:ext cx="607680" cy="3477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564000" y="1665360"/>
              <a:ext cx="0" cy="84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27280" y="6489720"/>
              <a:ext cx="169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3456000" y="5877000"/>
              <a:ext cx="4680" cy="74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93840" y="2538360"/>
              <a:ext cx="223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633920" y="4633920"/>
              <a:ext cx="2216160" cy="1244520"/>
            </a:xfrm>
            <a:custGeom>
              <a:avLst/>
              <a:gdLst/>
              <a:ahLst/>
              <a:rect l="l" t="t" r="r" b="b"/>
              <a:pathLst>
                <a:path w="1550" h="860">
                  <a:moveTo>
                    <a:pt x="0" y="860"/>
                  </a:moveTo>
                  <a:lnTo>
                    <a:pt x="1550" y="860"/>
                  </a:lnTo>
                  <a:lnTo>
                    <a:pt x="155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779640" y="4473360"/>
              <a:ext cx="14040" cy="105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44600" y="5567400"/>
              <a:ext cx="608040" cy="3459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ex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838600" y="5567400"/>
              <a:ext cx="1811160" cy="3459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manti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652760" y="5567400"/>
              <a:ext cx="607680" cy="3459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273320" y="5602320"/>
              <a:ext cx="2127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33920" y="4616280"/>
              <a:ext cx="1901880" cy="1038240"/>
            </a:xfrm>
            <a:custGeom>
              <a:avLst/>
              <a:gdLst/>
              <a:ahLst/>
              <a:rect l="l" t="t" r="r" b="b"/>
              <a:pathLst>
                <a:path w="1550" h="860">
                  <a:moveTo>
                    <a:pt x="0" y="860"/>
                  </a:moveTo>
                  <a:lnTo>
                    <a:pt x="1550" y="860"/>
                  </a:lnTo>
                  <a:lnTo>
                    <a:pt x="155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67280" y="5445000"/>
              <a:ext cx="94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Shi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967280" y="5661000"/>
              <a:ext cx="8827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Lo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4633920" y="2602800"/>
              <a:ext cx="2216160" cy="1112760"/>
            </a:xfrm>
            <a:custGeom>
              <a:avLst/>
              <a:gdLst/>
              <a:ahLst/>
              <a:rect l="l" t="t" r="r" b="b"/>
              <a:pathLst>
                <a:path w="1550" h="860">
                  <a:moveTo>
                    <a:pt x="0" y="860"/>
                  </a:moveTo>
                  <a:lnTo>
                    <a:pt x="1550" y="860"/>
                  </a:lnTo>
                  <a:lnTo>
                    <a:pt x="155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633920" y="2784240"/>
              <a:ext cx="1901880" cy="1113120"/>
            </a:xfrm>
            <a:custGeom>
              <a:avLst/>
              <a:gdLst/>
              <a:ahLst/>
              <a:rect l="l" t="t" r="r" b="b"/>
              <a:pathLst>
                <a:path w="1550" h="860">
                  <a:moveTo>
                    <a:pt x="0" y="860"/>
                  </a:moveTo>
                  <a:lnTo>
                    <a:pt x="1550" y="860"/>
                  </a:lnTo>
                  <a:lnTo>
                    <a:pt x="155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965840" y="2297160"/>
              <a:ext cx="9475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Shi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967280" y="2601720"/>
              <a:ext cx="8827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Lo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066000" y="3690720"/>
              <a:ext cx="1595160" cy="94464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9144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ispozitiv de 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342200" y="3085920"/>
              <a:ext cx="611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Ex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342200" y="4951440"/>
              <a:ext cx="6001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Ex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92360" y="4653000"/>
              <a:ext cx="4645080" cy="1589040"/>
            </a:xfrm>
            <a:custGeom>
              <a:avLst/>
              <a:gdLst/>
              <a:ahLst/>
              <a:rect l="l" t="t" r="r" b="b"/>
              <a:pathLst>
                <a:path w="2926" h="1001">
                  <a:moveTo>
                    <a:pt x="0" y="794"/>
                  </a:moveTo>
                  <a:lnTo>
                    <a:pt x="3" y="1001"/>
                  </a:lnTo>
                  <a:lnTo>
                    <a:pt x="2926" y="998"/>
                  </a:lnTo>
                  <a:lnTo>
                    <a:pt x="292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42920" y="2205000"/>
              <a:ext cx="2016360" cy="1979640"/>
            </a:xfrm>
            <a:custGeom>
              <a:avLst/>
              <a:gdLst/>
              <a:ahLst/>
              <a:rect l="l" t="t" r="r" b="b"/>
              <a:pathLst>
                <a:path w="1270" h="1247">
                  <a:moveTo>
                    <a:pt x="1157" y="1247"/>
                  </a:moveTo>
                  <a:lnTo>
                    <a:pt x="0" y="1247"/>
                  </a:lnTo>
                  <a:lnTo>
                    <a:pt x="0" y="0"/>
                  </a:lnTo>
                  <a:lnTo>
                    <a:pt x="1270" y="0"/>
                  </a:lnTo>
                  <a:lnTo>
                    <a:pt x="1270" y="20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84360" y="1952640"/>
              <a:ext cx="4716720" cy="1728720"/>
            </a:xfrm>
            <a:custGeom>
              <a:avLst/>
              <a:gdLst/>
              <a:ahLst/>
              <a:rect l="l" t="t" r="r" b="b"/>
              <a:pathLst>
                <a:path w="2971" h="1089">
                  <a:moveTo>
                    <a:pt x="0" y="340"/>
                  </a:moveTo>
                  <a:lnTo>
                    <a:pt x="0" y="0"/>
                  </a:lnTo>
                  <a:lnTo>
                    <a:pt x="2971" y="0"/>
                  </a:lnTo>
                  <a:lnTo>
                    <a:pt x="2971" y="108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484360" y="4618080"/>
              <a:ext cx="3816360" cy="934920"/>
            </a:xfrm>
            <a:custGeom>
              <a:avLst/>
              <a:gdLst/>
              <a:ahLst/>
              <a:rect l="l" t="t" r="r" b="b"/>
              <a:pathLst>
                <a:path w="2404" h="589">
                  <a:moveTo>
                    <a:pt x="2404" y="0"/>
                  </a:moveTo>
                  <a:lnTo>
                    <a:pt x="2404" y="453"/>
                  </a:lnTo>
                  <a:lnTo>
                    <a:pt x="0" y="453"/>
                  </a:lnTo>
                  <a:lnTo>
                    <a:pt x="0" y="58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67280" y="5121000"/>
              <a:ext cx="94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Inc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56000" y="2852640"/>
              <a:ext cx="3744720" cy="828720"/>
            </a:xfrm>
            <a:custGeom>
              <a:avLst/>
              <a:gdLst/>
              <a:ahLst/>
              <a:rect l="l" t="t" r="r" b="b"/>
              <a:pathLst>
                <a:path w="2359" h="522">
                  <a:moveTo>
                    <a:pt x="2359" y="522"/>
                  </a:moveTo>
                  <a:lnTo>
                    <a:pt x="2359" y="136"/>
                  </a:lnTo>
                  <a:lnTo>
                    <a:pt x="0" y="13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040360" y="2852640"/>
              <a:ext cx="9475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Inc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BFEF-E640-4880-B7E9-B015F25838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multirea si impartirea in virgula flotanta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71280" y="1520640"/>
            <a:ext cx="7313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Înmulţirea se realizează prin următoarea secvenţă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Adunare exponenţ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Multiplicare mantis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Realiniere mantisă rezultat si decrementare exponen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Verdana"/>
              </a:rPr>
              <a:t>Împărţir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Scădere exponenţ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Împărţire mantis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Realiniere mantis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934920" y="3968640"/>
            <a:ext cx="6394680" cy="2889360"/>
            <a:chOff x="934920" y="3968640"/>
            <a:chExt cx="6394680" cy="2889360"/>
          </a:xfrm>
        </p:grpSpPr>
        <p:sp>
          <p:nvSpPr>
            <p:cNvPr id="686" name=""/>
            <p:cNvSpPr/>
            <p:nvPr/>
          </p:nvSpPr>
          <p:spPr>
            <a:xfrm>
              <a:off x="4184640" y="5175360"/>
              <a:ext cx="1671480" cy="46188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Σ / 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4320" y="4614840"/>
              <a:ext cx="3289320" cy="660600"/>
            </a:xfrm>
            <a:custGeom>
              <a:avLst/>
              <a:gdLst/>
              <a:ahLst/>
              <a:rect l="l" t="t" r="r" b="b"/>
              <a:pathLst>
                <a:path w="2700" h="675">
                  <a:moveTo>
                    <a:pt x="2445" y="0"/>
                  </a:moveTo>
                  <a:lnTo>
                    <a:pt x="2700" y="0"/>
                  </a:lnTo>
                  <a:lnTo>
                    <a:pt x="2700" y="300"/>
                  </a:lnTo>
                  <a:lnTo>
                    <a:pt x="585" y="300"/>
                  </a:lnTo>
                  <a:lnTo>
                    <a:pt x="585" y="675"/>
                  </a:lnTo>
                  <a:lnTo>
                    <a:pt x="0" y="6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040360" y="4737240"/>
              <a:ext cx="0" cy="44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63680" y="4325760"/>
              <a:ext cx="563760" cy="2811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ex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183200" y="4465800"/>
              <a:ext cx="1677960" cy="280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mantissa 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11600" y="4041720"/>
              <a:ext cx="0" cy="42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443560" y="4187880"/>
              <a:ext cx="1873080" cy="1212840"/>
            </a:xfrm>
            <a:custGeom>
              <a:avLst/>
              <a:gdLst/>
              <a:ahLst/>
              <a:rect l="l" t="t" r="r" b="b"/>
              <a:pathLst>
                <a:path w="1537" h="1240">
                  <a:moveTo>
                    <a:pt x="344" y="1240"/>
                  </a:moveTo>
                  <a:lnTo>
                    <a:pt x="1537" y="1240"/>
                  </a:lnTo>
                  <a:lnTo>
                    <a:pt x="1537" y="2"/>
                  </a:lnTo>
                  <a:lnTo>
                    <a:pt x="0" y="0"/>
                  </a:lnTo>
                  <a:lnTo>
                    <a:pt x="0" y="27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963720" y="4346640"/>
              <a:ext cx="2062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40360" y="5626080"/>
              <a:ext cx="0" cy="49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202280" y="6087960"/>
              <a:ext cx="1676160" cy="2793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mantissa 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46400" y="4232160"/>
              <a:ext cx="907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Inc/Dec 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30680" y="4467240"/>
              <a:ext cx="529920" cy="676440"/>
            </a:xfrm>
            <a:custGeom>
              <a:avLst/>
              <a:gdLst/>
              <a:ahLst/>
              <a:rect l="l" t="t" r="r" b="b"/>
              <a:pathLst>
                <a:path w="435" h="692">
                  <a:moveTo>
                    <a:pt x="0" y="0"/>
                  </a:moveTo>
                  <a:lnTo>
                    <a:pt x="435" y="2"/>
                  </a:lnTo>
                  <a:lnTo>
                    <a:pt x="435" y="692"/>
                  </a:lnTo>
                  <a:lnTo>
                    <a:pt x="45" y="6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88040" y="4548240"/>
              <a:ext cx="11206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Shif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Left/right 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538360" y="3968640"/>
              <a:ext cx="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21240" y="6375240"/>
              <a:ext cx="0" cy="42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2884320" y="5568120"/>
              <a:ext cx="3289320" cy="660600"/>
            </a:xfrm>
            <a:custGeom>
              <a:avLst/>
              <a:gdLst/>
              <a:ahLst/>
              <a:rect l="l" t="t" r="r" b="b"/>
              <a:pathLst>
                <a:path w="2700" h="675">
                  <a:moveTo>
                    <a:pt x="2445" y="0"/>
                  </a:moveTo>
                  <a:lnTo>
                    <a:pt x="2700" y="0"/>
                  </a:lnTo>
                  <a:lnTo>
                    <a:pt x="2700" y="300"/>
                  </a:lnTo>
                  <a:lnTo>
                    <a:pt x="585" y="300"/>
                  </a:lnTo>
                  <a:lnTo>
                    <a:pt x="585" y="675"/>
                  </a:lnTo>
                  <a:lnTo>
                    <a:pt x="0" y="6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519280" y="4599000"/>
              <a:ext cx="0" cy="43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752480" y="4600440"/>
              <a:ext cx="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884320" y="5421240"/>
              <a:ext cx="12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697200" y="4994280"/>
              <a:ext cx="4762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Ad/ S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550880" y="4325760"/>
              <a:ext cx="381240" cy="2811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35240" y="6248520"/>
              <a:ext cx="563400" cy="280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ex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934920" y="6269040"/>
              <a:ext cx="1969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036960" y="6448320"/>
              <a:ext cx="8953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Inc/Dec 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2809800" y="5707080"/>
              <a:ext cx="530280" cy="676080"/>
            </a:xfrm>
            <a:custGeom>
              <a:avLst/>
              <a:gdLst/>
              <a:ahLst/>
              <a:rect l="l" t="t" r="r" b="b"/>
              <a:pathLst>
                <a:path w="435" h="692">
                  <a:moveTo>
                    <a:pt x="0" y="0"/>
                  </a:moveTo>
                  <a:lnTo>
                    <a:pt x="435" y="2"/>
                  </a:lnTo>
                  <a:lnTo>
                    <a:pt x="435" y="692"/>
                  </a:lnTo>
                  <a:lnTo>
                    <a:pt x="45" y="6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09920" y="5816520"/>
              <a:ext cx="0" cy="42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92280" y="6519960"/>
              <a:ext cx="0" cy="338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24040" y="5810400"/>
              <a:ext cx="0" cy="42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523880" y="6248520"/>
              <a:ext cx="379440" cy="280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415880" y="5037120"/>
              <a:ext cx="1476720" cy="76536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9144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Comand de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208560" y="5853240"/>
              <a:ext cx="11210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Shif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Verdana"/>
                </a:rPr>
                <a:t>left/right B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752480" y="3984480"/>
              <a:ext cx="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724040" y="652932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9419-10B5-47C8-8227-79371A057B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ponentele unui sistem de calcu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8137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delul clasic de calculator (J. von Neumann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itatea de control (UC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itatea aritmetico-logica (UAL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moria (M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spozitiv(e) de intrare (DI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spozitiv(e) de iesire (D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71640" y="4149720"/>
            <a:ext cx="7345440" cy="2250000"/>
            <a:chOff x="971640" y="4149720"/>
            <a:chExt cx="7345440" cy="2250000"/>
          </a:xfrm>
        </p:grpSpPr>
        <p:sp>
          <p:nvSpPr>
            <p:cNvPr id="95" name=""/>
            <p:cNvSpPr/>
            <p:nvPr/>
          </p:nvSpPr>
          <p:spPr>
            <a:xfrm>
              <a:off x="3708720" y="4149720"/>
              <a:ext cx="107928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08720" y="4868640"/>
              <a:ext cx="1079280" cy="43164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08720" y="5518080"/>
              <a:ext cx="1008000" cy="431280"/>
            </a:xfrm>
            <a:custGeom>
              <a:avLst/>
              <a:gdLst>
                <a:gd name="textAreaLeft" fmla="*/ 221400 w 1008000"/>
                <a:gd name="textAreaRight" fmla="*/ 786600 w 1008000"/>
                <a:gd name="textAreaTop" fmla="*/ 94680 h 431280"/>
                <a:gd name="textAreaBottom" fmla="*/ 336600 h 43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00360" y="4725720"/>
              <a:ext cx="289080" cy="71892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08720" y="4725720"/>
              <a:ext cx="289080" cy="71892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68720" y="501300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88000" y="5013000"/>
              <a:ext cx="720720" cy="144360"/>
            </a:xfrm>
            <a:prstGeom prst="rightArrow">
              <a:avLst>
                <a:gd name="adj1" fmla="val 50000"/>
                <a:gd name="adj2" fmla="val 12481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53080" y="5302080"/>
              <a:ext cx="216000" cy="215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27640" y="5302080"/>
              <a:ext cx="217440" cy="2156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40360" y="4581360"/>
              <a:ext cx="216000" cy="286920"/>
            </a:xfrm>
            <a:prstGeom prst="upDownArrow">
              <a:avLst>
                <a:gd name="adj1" fmla="val 50000"/>
                <a:gd name="adj2" fmla="val 2644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88000" y="5013000"/>
              <a:ext cx="720720" cy="144360"/>
            </a:xfrm>
            <a:prstGeom prst="rightArrow">
              <a:avLst>
                <a:gd name="adj1" fmla="val 50000"/>
                <a:gd name="adj2" fmla="val 12481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96000" y="5013000"/>
              <a:ext cx="505080" cy="144360"/>
            </a:xfrm>
            <a:prstGeom prst="rightArrow">
              <a:avLst>
                <a:gd name="adj1" fmla="val 50000"/>
                <a:gd name="adj2" fmla="val 87469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08720" y="414972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80000" y="486864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27640" y="4797360"/>
              <a:ext cx="3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35640" y="4725720"/>
              <a:ext cx="3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53080" y="5518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40720" y="4581360"/>
              <a:ext cx="431640" cy="360000"/>
            </a:xfrm>
            <a:prstGeom prst="flowChartMultidocumen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79640" y="4652640"/>
              <a:ext cx="432000" cy="287280"/>
            </a:xfrm>
            <a:prstGeom prst="flowChartPunchedCard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71640" y="4725720"/>
              <a:ext cx="1079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ate de intrare + progr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79640" y="4652640"/>
              <a:ext cx="432000" cy="360000"/>
            </a:xfrm>
            <a:prstGeom prst="flowChartMultidocumen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01080" y="4797360"/>
              <a:ext cx="107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ate de ies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35640" y="4725720"/>
              <a:ext cx="1225440" cy="1366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61080" y="5661000"/>
              <a:ext cx="345600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UCP=UC+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Unitatea Centrala de prelucr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073-EF0B-4ECC-B340-217E55FFCB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iectarea unui calculator simpl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Etape de proiectar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1. 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Se stabilesc destinaţia şi domeniul de utilizare al calculatorului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ro-RO" sz="17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Se defineşte setul de instrucţiuni şi formatul instrucţiune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r>
              <a:rPr b="0" lang="ro-RO" sz="17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Se defineşte schema bloc a unităţii centrale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4</a:t>
            </a:r>
            <a:r>
              <a:rPr b="0" lang="ro-RO" sz="17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Se descompune fiecare instrucţiune în faze şi microoperaţii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5</a:t>
            </a:r>
            <a:r>
              <a:rPr b="0" lang="ro-RO" sz="17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Se determină ecuaţiile microcomenzilor generate de unitatea de comanda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6</a:t>
            </a:r>
            <a:r>
              <a:rPr b="0" lang="ro-RO" sz="17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Se construieşte schema logica a modulelor GF şi BCC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7</a:t>
            </a:r>
            <a:r>
              <a:rPr b="0" lang="ro-RO" sz="17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Se construiesc schemele logice pentru alte module: RI, NP, RG, UAL, RS, 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8</a:t>
            </a:r>
            <a:r>
              <a:rPr b="0" lang="ro-RO" sz="17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Proiectarea memoriei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9</a:t>
            </a:r>
            <a:r>
              <a:rPr b="0" lang="ro-RO" sz="17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Proiectarea interfeţelor de intrare/ ieşir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10</a:t>
            </a:r>
            <a:r>
              <a:rPr b="0" lang="ro-RO" sz="17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 Se reiau etapele 2, 3 şi 4 pînă la obţinerea unor rezultate optime conform criteriilor stabilite în etapa 1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6710-8D24-4D39-BDAD-EBBE704F01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alculator simplu: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asi de proiecta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stinatia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lculatoare de uz genera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isteme de calcul cu destinatie speciala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isteme incapsulat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isteme de procesare a semnalel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isteme de contro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isteme de calcul de inalta performanta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isteme parale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tul de instructiuni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ormatul instructiunilor: (lungime si campuri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x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variabi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ipuri de operatii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ritmet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og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 transf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 sal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eratii cu stiva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98D-CFDE-47C9-9E69-57C0DE84B5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84720" y="2852640"/>
            <a:ext cx="827280" cy="538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core i3 3.6 ghz only cpu price negotiable  | ClickBD large image 0"/>
          <p:cNvPicPr/>
          <p:nvPr/>
        </p:nvPicPr>
        <p:blipFill>
          <a:blip r:embed="rId2"/>
          <a:stretch/>
        </p:blipFill>
        <p:spPr>
          <a:xfrm>
            <a:off x="7056360" y="81000"/>
            <a:ext cx="2021040" cy="1855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7280" y="30132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ponentele unui sistem de calcu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31640" y="16286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stem de calcul bazat pe un microproces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3213000"/>
            <a:ext cx="863640" cy="1511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3860640"/>
            <a:ext cx="6192720" cy="144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84360" y="2852640"/>
            <a:ext cx="115272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2852640"/>
            <a:ext cx="1152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328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4365720"/>
            <a:ext cx="1224000" cy="35856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76720" y="4365720"/>
            <a:ext cx="1224000" cy="35856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59640" y="4365720"/>
            <a:ext cx="1224000" cy="35856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3860640"/>
            <a:ext cx="431640" cy="2890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4292640"/>
            <a:ext cx="431640" cy="216000"/>
          </a:xfrm>
          <a:custGeom>
            <a:avLst/>
            <a:gdLst>
              <a:gd name="textAreaLeft" fmla="*/ 94680 w 431640"/>
              <a:gd name="textAreaRight" fmla="*/ 336960 w 43164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7640" y="3573360"/>
            <a:ext cx="216000" cy="287280"/>
          </a:xfrm>
          <a:prstGeom prst="upDownArrow">
            <a:avLst>
              <a:gd name="adj1" fmla="val 50000"/>
              <a:gd name="adj2" fmla="val 2647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00720" y="3573360"/>
            <a:ext cx="215640" cy="287280"/>
          </a:xfrm>
          <a:prstGeom prst="upDownArrow">
            <a:avLst>
              <a:gd name="adj1" fmla="val 50000"/>
              <a:gd name="adj2" fmla="val 2652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95640" y="4005360"/>
            <a:ext cx="216000" cy="360360"/>
          </a:xfrm>
          <a:prstGeom prst="upDownArrow">
            <a:avLst>
              <a:gd name="adj1" fmla="val 50000"/>
              <a:gd name="adj2" fmla="val 3321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80000" y="4005360"/>
            <a:ext cx="216000" cy="360360"/>
          </a:xfrm>
          <a:prstGeom prst="upDownArrow">
            <a:avLst>
              <a:gd name="adj1" fmla="val 50000"/>
              <a:gd name="adj2" fmla="val 3321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93080" y="4005360"/>
            <a:ext cx="215640" cy="360360"/>
          </a:xfrm>
          <a:prstGeom prst="upDownArrow">
            <a:avLst>
              <a:gd name="adj1" fmla="val 50000"/>
              <a:gd name="adj2" fmla="val 332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3280" y="5084640"/>
            <a:ext cx="1008360" cy="527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588000" y="5300640"/>
            <a:ext cx="486000" cy="501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3708360" y="4941720"/>
            <a:ext cx="552600" cy="73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2519280" y="2781360"/>
            <a:ext cx="574920" cy="442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6516720" y="580536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164360" y="4653000"/>
            <a:ext cx="144360" cy="1655640"/>
          </a:xfrm>
          <a:prstGeom prst="upDownArrow">
            <a:avLst>
              <a:gd name="adj1" fmla="val 50000"/>
              <a:gd name="adj2" fmla="val 22831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6000" y="4724280"/>
            <a:ext cx="144360" cy="1729080"/>
          </a:xfrm>
          <a:prstGeom prst="upDownArrow">
            <a:avLst>
              <a:gd name="adj1" fmla="val 50000"/>
              <a:gd name="adj2" fmla="val 23844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95640" y="4724280"/>
            <a:ext cx="144720" cy="217440"/>
          </a:xfrm>
          <a:prstGeom prst="downArrow">
            <a:avLst>
              <a:gd name="adj1" fmla="val 50000"/>
              <a:gd name="adj2" fmla="val 375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7524720" y="5877000"/>
            <a:ext cx="436680" cy="436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7524720" y="5157720"/>
            <a:ext cx="679320" cy="679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5003640" y="5734080"/>
            <a:ext cx="474840" cy="657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877080" y="5589720"/>
            <a:ext cx="35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36000" y="551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537372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35640" y="6093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2360" y="436572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fata I/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436572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fata I/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88000" y="436572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fata I/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84360" y="31417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m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40360" y="3141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m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317E-A745-4E94-98F8-FC61B3C3DF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596360" y="7920"/>
            <a:ext cx="1527120" cy="1584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63640" y="30132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Unitatea Centrala de Prelucrare (UCP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54734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Unitatea de Comanda (UC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sponsabila pentru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itirea instructiunil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odificarea instructiunil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rea de semnale pentru executia instructiunil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ste un circuit secvential (automat de stare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Unitatea Aritmetico-logica (UAL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fectueaza operatii aritmetice si logic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itmetice: +,-,/,*, mod, compar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ce: SI, SAU, NU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plasari/rotatii stanga/dreap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ste (in general) un circuit combinationa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gistr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gistre generale (RG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ntru pastrarea temporara a datel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ntru efectuarea de operatii aritmetice si log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gistre speciale (RS)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adres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st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test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 contro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6156360" y="2205000"/>
            <a:ext cx="2546280" cy="3311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31040" y="2449440"/>
            <a:ext cx="2139840" cy="123516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16720" y="2708280"/>
            <a:ext cx="363600" cy="24768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2693880"/>
            <a:ext cx="371520" cy="24768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54760" y="2693880"/>
            <a:ext cx="714600" cy="247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32560" y="3024360"/>
            <a:ext cx="1120680" cy="24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 + B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754760" y="3024360"/>
            <a:ext cx="714600" cy="247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54760" y="3352680"/>
            <a:ext cx="714600" cy="247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3640" y="4581360"/>
            <a:ext cx="2139840" cy="720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59640" y="4869000"/>
            <a:ext cx="407880" cy="18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28000" y="4869000"/>
            <a:ext cx="407880" cy="20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740720" y="5661000"/>
            <a:ext cx="9396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istr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5445000"/>
            <a:ext cx="315720" cy="712800"/>
          </a:xfrm>
          <a:prstGeom prst="upDownArrow">
            <a:avLst>
              <a:gd name="adj1" fmla="val 50000"/>
              <a:gd name="adj2" fmla="val 4494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64360" y="4869000"/>
            <a:ext cx="407880" cy="182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96360" y="47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16720" y="3789360"/>
            <a:ext cx="1871640" cy="576360"/>
          </a:xfrm>
          <a:custGeom>
            <a:avLst/>
            <a:gdLst>
              <a:gd name="textAreaLeft" fmla="*/ 411480 w 1871640"/>
              <a:gd name="textAreaRight" fmla="*/ 1460160 w 1871640"/>
              <a:gd name="textAreaTop" fmla="*/ 126720 h 576360"/>
              <a:gd name="textAreaBottom" fmla="*/ 4496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3933720"/>
            <a:ext cx="863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1F4B-DE7A-4BBB-9DBC-232FD35475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nitatea de Comanda (UC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5472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ste creierul calculatorulu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 compune din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eneratorul de tact G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eaza senalul de ce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eneratorul de faze GF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eaza fazele de executi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Unitatea de decodificare instructiuni (DI) si blocul de comanda si control (BCC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preteaza instructiunile si genereaza semnalele de comanda necesare pentru executia l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gistrul de instructiuni R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streaza instructiunea curen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umaratorul de program NP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streaza adresa instructiunii urmato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gistrul de stare program R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084720" y="1916280"/>
            <a:ext cx="3240360" cy="3528720"/>
            <a:chOff x="6084720" y="1916280"/>
            <a:chExt cx="3240360" cy="3528720"/>
          </a:xfrm>
        </p:grpSpPr>
        <p:sp>
          <p:nvSpPr>
            <p:cNvPr id="181" name=""/>
            <p:cNvSpPr/>
            <p:nvPr/>
          </p:nvSpPr>
          <p:spPr>
            <a:xfrm>
              <a:off x="6084720" y="1916280"/>
              <a:ext cx="2486160" cy="302544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U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00720" y="2852640"/>
              <a:ext cx="422280" cy="419040"/>
            </a:xfrm>
            <a:prstGeom prst="rect">
              <a:avLst/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00720" y="2133720"/>
              <a:ext cx="432000" cy="419040"/>
            </a:xfrm>
            <a:prstGeom prst="rect">
              <a:avLst/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77080" y="2852640"/>
              <a:ext cx="830160" cy="419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27640" y="3716280"/>
              <a:ext cx="1303560" cy="419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I + BC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51640" y="2133720"/>
              <a:ext cx="830520" cy="419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N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96360" y="4221000"/>
              <a:ext cx="830160" cy="419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16720" y="2565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16720" y="328464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64360" y="328464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44000" y="2349360"/>
              <a:ext cx="7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72360" y="414972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16720" y="414972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59640" y="414972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48360" y="414972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93080" y="414972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84720" y="45813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menz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17080" y="2060640"/>
              <a:ext cx="100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re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40720" y="3068640"/>
              <a:ext cx="115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740720" y="2708280"/>
              <a:ext cx="140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Instructiu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72360" y="494172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16720" y="494172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59640" y="494172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48360" y="494172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93080" y="494172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85B-2F75-4C0B-81FB-8E2D10D6ED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148360" y="4076640"/>
            <a:ext cx="2324160" cy="1085760"/>
          </a:xfrm>
          <a:custGeom>
            <a:avLst/>
            <a:gdLst/>
            <a:ahLst/>
            <a:rect l="l" t="t" r="r" b="b"/>
            <a:pathLst>
              <a:path w="1464" h="684">
                <a:moveTo>
                  <a:pt x="0" y="0"/>
                </a:moveTo>
                <a:lnTo>
                  <a:pt x="466" y="684"/>
                </a:lnTo>
                <a:lnTo>
                  <a:pt x="1101" y="684"/>
                </a:lnTo>
                <a:lnTo>
                  <a:pt x="1464" y="3"/>
                </a:lnTo>
                <a:lnTo>
                  <a:pt x="874" y="3"/>
                </a:lnTo>
                <a:lnTo>
                  <a:pt x="752" y="224"/>
                </a:lnTo>
                <a:lnTo>
                  <a:pt x="602" y="3"/>
                </a:lnTo>
                <a:lnTo>
                  <a:pt x="13" y="3"/>
                </a:lnTo>
              </a:path>
            </a:pathLst>
          </a:custGeom>
          <a:solidFill>
            <a:srgbClr val="00ff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nitatea aritmetico-logic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446544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c – registru acumulat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astreaza un operand si rezultatul operatie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 – registru pentru al doilea oper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S registru de st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2887560"/>
            <a:ext cx="1276560" cy="482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61280" y="2889360"/>
            <a:ext cx="1276200" cy="480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70720" y="3368520"/>
            <a:ext cx="1440" cy="744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81920" y="3368520"/>
            <a:ext cx="1440" cy="722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663880" y="1989000"/>
            <a:ext cx="3240" cy="898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075080" y="2008080"/>
            <a:ext cx="3240" cy="900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40360" y="4508640"/>
            <a:ext cx="866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89720" y="5138640"/>
            <a:ext cx="1440" cy="3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89720" y="5532480"/>
            <a:ext cx="17557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8244000" y="2523600"/>
            <a:ext cx="1440" cy="3009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070400" y="2516040"/>
            <a:ext cx="11746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551200" y="2257560"/>
            <a:ext cx="20628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48440" y="2128680"/>
            <a:ext cx="315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964200" y="2274840"/>
            <a:ext cx="20664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10320" y="2090880"/>
            <a:ext cx="28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130960" y="4765680"/>
            <a:ext cx="20628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12000" y="4645080"/>
            <a:ext cx="320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579640" y="3538440"/>
            <a:ext cx="20628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32240" y="3476520"/>
            <a:ext cx="320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992640" y="3562200"/>
            <a:ext cx="20628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92760" y="3476520"/>
            <a:ext cx="301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42320" y="2489040"/>
            <a:ext cx="68040" cy="65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4581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67280" y="42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e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03640" y="5805360"/>
            <a:ext cx="1276560" cy="482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651280" y="5157720"/>
            <a:ext cx="43308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C7F-1005-4BB7-ADAD-E768859830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nitatea Aritmetico-Logic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mator pe un bi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= 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+ B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+ T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i-1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i = Ai*Bi +Ti-1*(Ai + Bi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2421000"/>
            <a:ext cx="43164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2421000"/>
            <a:ext cx="43164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2852640"/>
            <a:ext cx="43164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087640" y="3573360"/>
            <a:ext cx="4968360" cy="2305080"/>
            <a:chOff x="2087640" y="3573360"/>
            <a:chExt cx="4968360" cy="2305080"/>
          </a:xfrm>
        </p:grpSpPr>
        <p:grpSp>
          <p:nvGrpSpPr>
            <p:cNvPr id="241" name=""/>
            <p:cNvGrpSpPr/>
            <p:nvPr/>
          </p:nvGrpSpPr>
          <p:grpSpPr>
            <a:xfrm>
              <a:off x="3563640" y="5194080"/>
              <a:ext cx="502560" cy="539280"/>
              <a:chOff x="3563640" y="5194080"/>
              <a:chExt cx="502560" cy="539280"/>
            </a:xfrm>
          </p:grpSpPr>
          <p:sp>
            <p:nvSpPr>
              <p:cNvPr id="242" name=""/>
              <p:cNvSpPr/>
              <p:nvPr/>
            </p:nvSpPr>
            <p:spPr>
              <a:xfrm>
                <a:off x="3563640" y="5194080"/>
                <a:ext cx="502560" cy="528480"/>
              </a:xfrm>
              <a:custGeom>
                <a:avLst/>
                <a:gdLst/>
                <a:ahLst/>
                <a:rect l="l" t="t" r="r" b="b"/>
                <a:pathLst>
                  <a:path w="177" h="245">
                    <a:moveTo>
                      <a:pt x="0" y="0"/>
                    </a:moveTo>
                    <a:cubicBezTo>
                      <a:pt x="25" y="8"/>
                      <a:pt x="129" y="19"/>
                      <a:pt x="153" y="51"/>
                    </a:cubicBezTo>
                    <a:cubicBezTo>
                      <a:pt x="177" y="83"/>
                      <a:pt x="171" y="162"/>
                      <a:pt x="146" y="194"/>
                    </a:cubicBezTo>
                    <a:cubicBezTo>
                      <a:pt x="121" y="226"/>
                      <a:pt x="31" y="235"/>
                      <a:pt x="0" y="24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563640" y="5194080"/>
                <a:ext cx="0" cy="53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3563640" y="4329000"/>
              <a:ext cx="539280" cy="575640"/>
              <a:chOff x="3563640" y="4329000"/>
              <a:chExt cx="539280" cy="575640"/>
            </a:xfrm>
          </p:grpSpPr>
          <p:sp>
            <p:nvSpPr>
              <p:cNvPr id="245" name=""/>
              <p:cNvSpPr/>
              <p:nvPr/>
            </p:nvSpPr>
            <p:spPr>
              <a:xfrm>
                <a:off x="3563640" y="4329000"/>
                <a:ext cx="539280" cy="289440"/>
              </a:xfrm>
              <a:custGeom>
                <a:avLst/>
                <a:gdLst/>
                <a:ahLst/>
                <a:rect l="l" t="t" r="r" b="b"/>
                <a:pathLst>
                  <a:path w="204" h="114">
                    <a:moveTo>
                      <a:pt x="0" y="0"/>
                    </a:moveTo>
                    <a:cubicBezTo>
                      <a:pt x="62" y="13"/>
                      <a:pt x="125" y="27"/>
                      <a:pt x="159" y="46"/>
                    </a:cubicBezTo>
                    <a:cubicBezTo>
                      <a:pt x="193" y="65"/>
                      <a:pt x="198" y="89"/>
                      <a:pt x="204" y="11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3563640" y="4615920"/>
                <a:ext cx="539280" cy="288720"/>
              </a:xfrm>
              <a:custGeom>
                <a:avLst/>
                <a:gdLst/>
                <a:ahLst/>
                <a:rect l="l" t="t" r="r" b="b"/>
                <a:pathLst>
                  <a:path w="204" h="114">
                    <a:moveTo>
                      <a:pt x="0" y="0"/>
                    </a:moveTo>
                    <a:cubicBezTo>
                      <a:pt x="62" y="13"/>
                      <a:pt x="125" y="27"/>
                      <a:pt x="159" y="46"/>
                    </a:cubicBezTo>
                    <a:cubicBezTo>
                      <a:pt x="193" y="65"/>
                      <a:pt x="198" y="89"/>
                      <a:pt x="204" y="11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563640" y="4329000"/>
                <a:ext cx="140040" cy="573840"/>
              </a:xfrm>
              <a:custGeom>
                <a:avLst/>
                <a:gdLst/>
                <a:ahLst/>
                <a:rect l="l" t="t" r="r" b="b"/>
                <a:pathLst>
                  <a:path w="53" h="226">
                    <a:moveTo>
                      <a:pt x="0" y="0"/>
                    </a:moveTo>
                    <a:cubicBezTo>
                      <a:pt x="18" y="21"/>
                      <a:pt x="37" y="42"/>
                      <a:pt x="45" y="68"/>
                    </a:cubicBezTo>
                    <a:cubicBezTo>
                      <a:pt x="53" y="94"/>
                      <a:pt x="53" y="132"/>
                      <a:pt x="45" y="158"/>
                    </a:cubicBezTo>
                    <a:cubicBezTo>
                      <a:pt x="37" y="184"/>
                      <a:pt x="9" y="212"/>
                      <a:pt x="0" y="226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4930560" y="3825720"/>
              <a:ext cx="538920" cy="575640"/>
              <a:chOff x="4930560" y="3825720"/>
              <a:chExt cx="538920" cy="575640"/>
            </a:xfrm>
          </p:grpSpPr>
          <p:sp>
            <p:nvSpPr>
              <p:cNvPr id="249" name=""/>
              <p:cNvSpPr/>
              <p:nvPr/>
            </p:nvSpPr>
            <p:spPr>
              <a:xfrm>
                <a:off x="4930560" y="3825720"/>
                <a:ext cx="538920" cy="289440"/>
              </a:xfrm>
              <a:custGeom>
                <a:avLst/>
                <a:gdLst/>
                <a:ahLst/>
                <a:rect l="l" t="t" r="r" b="b"/>
                <a:pathLst>
                  <a:path w="204" h="114">
                    <a:moveTo>
                      <a:pt x="0" y="0"/>
                    </a:moveTo>
                    <a:cubicBezTo>
                      <a:pt x="62" y="13"/>
                      <a:pt x="125" y="27"/>
                      <a:pt x="159" y="46"/>
                    </a:cubicBezTo>
                    <a:cubicBezTo>
                      <a:pt x="193" y="65"/>
                      <a:pt x="198" y="89"/>
                      <a:pt x="204" y="11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4930560" y="4112640"/>
                <a:ext cx="538920" cy="288720"/>
              </a:xfrm>
              <a:custGeom>
                <a:avLst/>
                <a:gdLst/>
                <a:ahLst/>
                <a:rect l="l" t="t" r="r" b="b"/>
                <a:pathLst>
                  <a:path w="204" h="114">
                    <a:moveTo>
                      <a:pt x="0" y="0"/>
                    </a:moveTo>
                    <a:cubicBezTo>
                      <a:pt x="62" y="13"/>
                      <a:pt x="125" y="27"/>
                      <a:pt x="159" y="46"/>
                    </a:cubicBezTo>
                    <a:cubicBezTo>
                      <a:pt x="193" y="65"/>
                      <a:pt x="198" y="89"/>
                      <a:pt x="204" y="11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930560" y="3825720"/>
                <a:ext cx="140040" cy="573840"/>
              </a:xfrm>
              <a:custGeom>
                <a:avLst/>
                <a:gdLst/>
                <a:ahLst/>
                <a:rect l="l" t="t" r="r" b="b"/>
                <a:pathLst>
                  <a:path w="53" h="226">
                    <a:moveTo>
                      <a:pt x="0" y="0"/>
                    </a:moveTo>
                    <a:cubicBezTo>
                      <a:pt x="18" y="21"/>
                      <a:pt x="37" y="42"/>
                      <a:pt x="45" y="68"/>
                    </a:cubicBezTo>
                    <a:cubicBezTo>
                      <a:pt x="53" y="94"/>
                      <a:pt x="53" y="132"/>
                      <a:pt x="45" y="158"/>
                    </a:cubicBezTo>
                    <a:cubicBezTo>
                      <a:pt x="37" y="184"/>
                      <a:pt x="9" y="212"/>
                      <a:pt x="0" y="226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543280" y="4978080"/>
              <a:ext cx="538920" cy="575640"/>
              <a:chOff x="5543280" y="4978080"/>
              <a:chExt cx="538920" cy="575640"/>
            </a:xfrm>
          </p:grpSpPr>
          <p:sp>
            <p:nvSpPr>
              <p:cNvPr id="253" name=""/>
              <p:cNvSpPr/>
              <p:nvPr/>
            </p:nvSpPr>
            <p:spPr>
              <a:xfrm>
                <a:off x="5543280" y="4978080"/>
                <a:ext cx="538920" cy="289440"/>
              </a:xfrm>
              <a:custGeom>
                <a:avLst/>
                <a:gdLst/>
                <a:ahLst/>
                <a:rect l="l" t="t" r="r" b="b"/>
                <a:pathLst>
                  <a:path w="204" h="114">
                    <a:moveTo>
                      <a:pt x="0" y="0"/>
                    </a:moveTo>
                    <a:cubicBezTo>
                      <a:pt x="62" y="13"/>
                      <a:pt x="125" y="27"/>
                      <a:pt x="159" y="46"/>
                    </a:cubicBezTo>
                    <a:cubicBezTo>
                      <a:pt x="193" y="65"/>
                      <a:pt x="198" y="89"/>
                      <a:pt x="204" y="11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5543280" y="5265000"/>
                <a:ext cx="538920" cy="288720"/>
              </a:xfrm>
              <a:custGeom>
                <a:avLst/>
                <a:gdLst/>
                <a:ahLst/>
                <a:rect l="l" t="t" r="r" b="b"/>
                <a:pathLst>
                  <a:path w="204" h="114">
                    <a:moveTo>
                      <a:pt x="0" y="0"/>
                    </a:moveTo>
                    <a:cubicBezTo>
                      <a:pt x="62" y="13"/>
                      <a:pt x="125" y="27"/>
                      <a:pt x="159" y="46"/>
                    </a:cubicBezTo>
                    <a:cubicBezTo>
                      <a:pt x="193" y="65"/>
                      <a:pt x="198" y="89"/>
                      <a:pt x="204" y="11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543280" y="4978080"/>
                <a:ext cx="140040" cy="573840"/>
              </a:xfrm>
              <a:custGeom>
                <a:avLst/>
                <a:gdLst/>
                <a:ahLst/>
                <a:rect l="l" t="t" r="r" b="b"/>
                <a:pathLst>
                  <a:path w="53" h="226">
                    <a:moveTo>
                      <a:pt x="0" y="0"/>
                    </a:moveTo>
                    <a:cubicBezTo>
                      <a:pt x="18" y="21"/>
                      <a:pt x="37" y="42"/>
                      <a:pt x="45" y="68"/>
                    </a:cubicBezTo>
                    <a:cubicBezTo>
                      <a:pt x="53" y="94"/>
                      <a:pt x="53" y="132"/>
                      <a:pt x="45" y="158"/>
                    </a:cubicBezTo>
                    <a:cubicBezTo>
                      <a:pt x="37" y="184"/>
                      <a:pt x="9" y="212"/>
                      <a:pt x="0" y="226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4643280" y="4833720"/>
              <a:ext cx="502560" cy="539280"/>
              <a:chOff x="4643280" y="4833720"/>
              <a:chExt cx="502560" cy="539280"/>
            </a:xfrm>
          </p:grpSpPr>
          <p:sp>
            <p:nvSpPr>
              <p:cNvPr id="257" name=""/>
              <p:cNvSpPr/>
              <p:nvPr/>
            </p:nvSpPr>
            <p:spPr>
              <a:xfrm>
                <a:off x="4643280" y="4833720"/>
                <a:ext cx="502560" cy="528480"/>
              </a:xfrm>
              <a:custGeom>
                <a:avLst/>
                <a:gdLst/>
                <a:ahLst/>
                <a:rect l="l" t="t" r="r" b="b"/>
                <a:pathLst>
                  <a:path w="177" h="245">
                    <a:moveTo>
                      <a:pt x="0" y="0"/>
                    </a:moveTo>
                    <a:cubicBezTo>
                      <a:pt x="25" y="8"/>
                      <a:pt x="129" y="19"/>
                      <a:pt x="153" y="51"/>
                    </a:cubicBezTo>
                    <a:cubicBezTo>
                      <a:pt x="177" y="83"/>
                      <a:pt x="171" y="162"/>
                      <a:pt x="146" y="194"/>
                    </a:cubicBezTo>
                    <a:cubicBezTo>
                      <a:pt x="121" y="226"/>
                      <a:pt x="31" y="235"/>
                      <a:pt x="0" y="24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643280" y="4833720"/>
                <a:ext cx="0" cy="53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4103640" y="4257360"/>
              <a:ext cx="934560" cy="360360"/>
            </a:xfrm>
            <a:custGeom>
              <a:avLst/>
              <a:gdLst/>
              <a:ahLst/>
              <a:rect l="l" t="t" r="r" b="b"/>
              <a:pathLst>
                <a:path w="589" h="227">
                  <a:moveTo>
                    <a:pt x="0" y="227"/>
                  </a:moveTo>
                  <a:lnTo>
                    <a:pt x="159" y="227"/>
                  </a:lnTo>
                  <a:lnTo>
                    <a:pt x="159" y="0"/>
                  </a:lnTo>
                  <a:lnTo>
                    <a:pt x="58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03280" y="3970080"/>
              <a:ext cx="273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30200" y="4437000"/>
              <a:ext cx="14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30200" y="4797360"/>
              <a:ext cx="14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22560" y="4437000"/>
              <a:ext cx="540720" cy="865080"/>
            </a:xfrm>
            <a:custGeom>
              <a:avLst/>
              <a:gdLst/>
              <a:ahLst/>
              <a:rect l="l" t="t" r="r" b="b"/>
              <a:pathLst>
                <a:path w="341" h="545">
                  <a:moveTo>
                    <a:pt x="0" y="0"/>
                  </a:moveTo>
                  <a:lnTo>
                    <a:pt x="0" y="545"/>
                  </a:lnTo>
                  <a:lnTo>
                    <a:pt x="341" y="54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38200" y="4797360"/>
              <a:ext cx="325080" cy="828720"/>
            </a:xfrm>
            <a:custGeom>
              <a:avLst/>
              <a:gdLst/>
              <a:ahLst/>
              <a:rect l="l" t="t" r="r" b="b"/>
              <a:pathLst>
                <a:path w="205" h="522">
                  <a:moveTo>
                    <a:pt x="0" y="0"/>
                  </a:moveTo>
                  <a:lnTo>
                    <a:pt x="0" y="522"/>
                  </a:lnTo>
                  <a:lnTo>
                    <a:pt x="205" y="52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64000" y="3970080"/>
              <a:ext cx="178920" cy="1008000"/>
            </a:xfrm>
            <a:custGeom>
              <a:avLst/>
              <a:gdLst/>
              <a:ahLst/>
              <a:rect l="l" t="t" r="r" b="b"/>
              <a:pathLst>
                <a:path w="113" h="635">
                  <a:moveTo>
                    <a:pt x="0" y="0"/>
                  </a:moveTo>
                  <a:lnTo>
                    <a:pt x="0" y="635"/>
                  </a:lnTo>
                  <a:lnTo>
                    <a:pt x="113" y="63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30560" y="544500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1640" y="5086080"/>
              <a:ext cx="50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82920" y="5265720"/>
              <a:ext cx="6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72000" y="4078080"/>
              <a:ext cx="129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56000" y="4617720"/>
              <a:ext cx="286920" cy="648000"/>
            </a:xfrm>
            <a:custGeom>
              <a:avLst/>
              <a:gdLst/>
              <a:ahLst/>
              <a:rect l="l" t="t" r="r" b="b"/>
              <a:pathLst>
                <a:path w="181" h="408">
                  <a:moveTo>
                    <a:pt x="0" y="0"/>
                  </a:moveTo>
                  <a:lnTo>
                    <a:pt x="0" y="408"/>
                  </a:lnTo>
                  <a:lnTo>
                    <a:pt x="181" y="4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87280" y="440208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03280" y="476064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19280" y="458136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27280" y="3933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87640" y="3644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i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43280" y="3752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72000" y="494172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95280" y="411300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58920" y="4510080"/>
              <a:ext cx="61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743280" y="4510080"/>
              <a:ext cx="215280" cy="215640"/>
              <a:chOff x="3743280" y="4510080"/>
              <a:chExt cx="215280" cy="215640"/>
            </a:xfrm>
          </p:grpSpPr>
          <p:sp>
            <p:nvSpPr>
              <p:cNvPr id="281" name=""/>
              <p:cNvSpPr/>
              <p:nvPr/>
            </p:nvSpPr>
            <p:spPr>
              <a:xfrm>
                <a:off x="3850560" y="451008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743280" y="4617720"/>
                <a:ext cx="21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743280" y="4510080"/>
                <a:ext cx="215280" cy="21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5111640" y="4005000"/>
              <a:ext cx="215280" cy="215640"/>
              <a:chOff x="5111640" y="4005000"/>
              <a:chExt cx="215280" cy="215640"/>
            </a:xfrm>
          </p:grpSpPr>
          <p:sp>
            <p:nvSpPr>
              <p:cNvPr id="285" name=""/>
              <p:cNvSpPr/>
              <p:nvPr/>
            </p:nvSpPr>
            <p:spPr>
              <a:xfrm>
                <a:off x="5218920" y="400500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111640" y="4112640"/>
                <a:ext cx="21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111640" y="4005000"/>
                <a:ext cx="215280" cy="21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2879640" y="3573360"/>
              <a:ext cx="3384000" cy="23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08AA-056F-4220-A27E-CEB055FF8D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umator paralel pe n bit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934920" y="2349360"/>
            <a:ext cx="7175520" cy="3386160"/>
            <a:chOff x="934920" y="2349360"/>
            <a:chExt cx="7175520" cy="3386160"/>
          </a:xfrm>
        </p:grpSpPr>
        <p:sp>
          <p:nvSpPr>
            <p:cNvPr id="291" name=""/>
            <p:cNvSpPr/>
            <p:nvPr/>
          </p:nvSpPr>
          <p:spPr>
            <a:xfrm>
              <a:off x="1530000" y="3300480"/>
              <a:ext cx="822240" cy="1373040"/>
            </a:xfrm>
            <a:prstGeom prst="rect">
              <a:avLst/>
            </a:prstGeom>
            <a:solidFill>
              <a:srgbClr val="00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24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74720" y="2646360"/>
              <a:ext cx="1440" cy="63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90600" y="2625840"/>
              <a:ext cx="1440" cy="655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47600" y="4672080"/>
              <a:ext cx="1440" cy="61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997920" y="3933720"/>
              <a:ext cx="531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350800" y="3935520"/>
              <a:ext cx="403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82560" y="5229000"/>
              <a:ext cx="70488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n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38120" y="2349360"/>
              <a:ext cx="51912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n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14200" y="2349360"/>
              <a:ext cx="52092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n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34920" y="3608280"/>
              <a:ext cx="520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n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454120" y="3651120"/>
              <a:ext cx="5968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n-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060520" y="3300480"/>
              <a:ext cx="824040" cy="1373040"/>
            </a:xfrm>
            <a:prstGeom prst="rect">
              <a:avLst/>
            </a:prstGeom>
            <a:solidFill>
              <a:srgbClr val="00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24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03440" y="2646360"/>
              <a:ext cx="0" cy="63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5719320" y="2625840"/>
              <a:ext cx="14040" cy="655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78120" y="4672080"/>
              <a:ext cx="0" cy="61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4527000" y="3933720"/>
              <a:ext cx="533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13080" y="5229000"/>
              <a:ext cx="70344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65400" y="2349360"/>
              <a:ext cx="52056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43280" y="2349360"/>
              <a:ext cx="51912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93880" y="3672000"/>
              <a:ext cx="522360" cy="5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97240" y="3692520"/>
              <a:ext cx="505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5879880" y="3933720"/>
              <a:ext cx="9525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30640" y="3300480"/>
              <a:ext cx="822600" cy="1373040"/>
            </a:xfrm>
            <a:prstGeom prst="rect">
              <a:avLst/>
            </a:prstGeom>
            <a:solidFill>
              <a:srgbClr val="00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24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975360" y="2646360"/>
              <a:ext cx="1440" cy="63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91240" y="2625840"/>
              <a:ext cx="1440" cy="655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49680" y="4672080"/>
              <a:ext cx="1800" cy="61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653240" y="3935520"/>
              <a:ext cx="403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84640" y="5229000"/>
              <a:ext cx="70488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38760" y="2349360"/>
              <a:ext cx="52056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16640" y="2349360"/>
              <a:ext cx="51912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67280" y="3716280"/>
              <a:ext cx="44316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08240" y="3933720"/>
              <a:ext cx="1114200" cy="18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416-CFDD-4639-A8F7-B88DEEDBA0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68360" y="367920"/>
            <a:ext cx="731376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Operatie de adunare cu operanzi in 2 registre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008000" y="1521000"/>
          <a:ext cx="7524720" cy="2035080"/>
        </p:xfrm>
        <a:graphic>
          <a:graphicData uri="http://schemas.openxmlformats.org/drawingml/2006/table">
            <a:tbl>
              <a:tblPr/>
              <a:tblGrid>
                <a:gridCol w="576360"/>
                <a:gridCol w="3924360"/>
                <a:gridCol w="3024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ţ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en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Şterge registrul 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nscrie registrul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→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operan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 = 0, CLKA = П (impul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KB = П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fer B → 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 ,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→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operan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2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 = 1, CLKA = П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CLKB = П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← A + B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 = 1, CLKA = П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25" name=""/>
          <p:cNvGrpSpPr/>
          <p:nvPr/>
        </p:nvGrpSpPr>
        <p:grpSpPr>
          <a:xfrm>
            <a:off x="1079640" y="3681360"/>
            <a:ext cx="7405560" cy="2944800"/>
            <a:chOff x="1079640" y="3681360"/>
            <a:chExt cx="7405560" cy="2944800"/>
          </a:xfrm>
        </p:grpSpPr>
        <p:sp>
          <p:nvSpPr>
            <p:cNvPr id="326" name=""/>
            <p:cNvSpPr/>
            <p:nvPr/>
          </p:nvSpPr>
          <p:spPr>
            <a:xfrm flipV="1">
              <a:off x="6599160" y="5327640"/>
              <a:ext cx="0" cy="27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6541200" y="5329440"/>
              <a:ext cx="360720" cy="54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 rot="5400000">
              <a:off x="6588720" y="5291280"/>
              <a:ext cx="339120" cy="63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437160" y="5605560"/>
              <a:ext cx="55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 flipV="1">
              <a:off x="6843240" y="5486400"/>
              <a:ext cx="1800" cy="10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5005440" y="5027760"/>
              <a:ext cx="1149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51680" y="4770360"/>
              <a:ext cx="838080" cy="557280"/>
            </a:xfrm>
            <a:prstGeom prst="rect">
              <a:avLst/>
            </a:prstGeom>
            <a:solidFill>
              <a:srgbClr val="00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9144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24520" y="4495680"/>
              <a:ext cx="180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92960" y="3681360"/>
              <a:ext cx="5443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872320" y="4587840"/>
              <a:ext cx="663480" cy="1797120"/>
            </a:xfrm>
            <a:custGeom>
              <a:avLst/>
              <a:gdLst/>
              <a:ahLst/>
              <a:rect l="l" t="t" r="r" b="b"/>
              <a:pathLst>
                <a:path w="440" h="1900">
                  <a:moveTo>
                    <a:pt x="440" y="1750"/>
                  </a:moveTo>
                  <a:lnTo>
                    <a:pt x="440" y="1900"/>
                  </a:lnTo>
                  <a:lnTo>
                    <a:pt x="0" y="1900"/>
                  </a:lnTo>
                  <a:lnTo>
                    <a:pt x="10" y="0"/>
                  </a:lnTo>
                  <a:lnTo>
                    <a:pt x="340" y="0"/>
                  </a:lnTo>
                  <a:lnTo>
                    <a:pt x="350" y="19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626000" y="5327640"/>
              <a:ext cx="0" cy="27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62080" y="5788080"/>
              <a:ext cx="1800" cy="18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4567320" y="5329080"/>
              <a:ext cx="360720" cy="5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 rot="5400000">
              <a:off x="4613760" y="5291280"/>
              <a:ext cx="339120" cy="63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4462560" y="5605560"/>
              <a:ext cx="55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4870440" y="5486400"/>
              <a:ext cx="1440" cy="10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408120" y="5027760"/>
              <a:ext cx="772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78160" y="4770360"/>
              <a:ext cx="838440" cy="557280"/>
            </a:xfrm>
            <a:prstGeom prst="rect">
              <a:avLst/>
            </a:prstGeom>
            <a:solidFill>
              <a:srgbClr val="00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9144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49920" y="4495680"/>
              <a:ext cx="144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18000" y="3681360"/>
              <a:ext cx="5446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14680" y="5975280"/>
              <a:ext cx="695520" cy="2714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97360" y="4587840"/>
              <a:ext cx="663480" cy="1797120"/>
            </a:xfrm>
            <a:custGeom>
              <a:avLst/>
              <a:gdLst/>
              <a:ahLst/>
              <a:rect l="l" t="t" r="r" b="b"/>
              <a:pathLst>
                <a:path w="440" h="1900">
                  <a:moveTo>
                    <a:pt x="440" y="1750"/>
                  </a:moveTo>
                  <a:lnTo>
                    <a:pt x="440" y="1900"/>
                  </a:lnTo>
                  <a:lnTo>
                    <a:pt x="0" y="1900"/>
                  </a:lnTo>
                  <a:lnTo>
                    <a:pt x="10" y="0"/>
                  </a:lnTo>
                  <a:lnTo>
                    <a:pt x="340" y="0"/>
                  </a:lnTo>
                  <a:lnTo>
                    <a:pt x="350" y="19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10040" y="6246720"/>
              <a:ext cx="1800" cy="37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808280" y="5327640"/>
              <a:ext cx="0" cy="27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1944720" y="5788080"/>
              <a:ext cx="1440" cy="18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1748520" y="5329440"/>
              <a:ext cx="360720" cy="54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5400000">
              <a:off x="1796040" y="5291280"/>
              <a:ext cx="339120" cy="63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644480" y="5605560"/>
              <a:ext cx="55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2050560" y="5486400"/>
              <a:ext cx="1800" cy="10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360440" y="4770360"/>
              <a:ext cx="836640" cy="557280"/>
            </a:xfrm>
            <a:prstGeom prst="rect">
              <a:avLst/>
            </a:prstGeom>
            <a:solidFill>
              <a:srgbClr val="00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9144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n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31840" y="4495680"/>
              <a:ext cx="180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00280" y="3681360"/>
              <a:ext cx="6793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n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96960" y="5975280"/>
              <a:ext cx="695520" cy="2714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 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n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79640" y="4587840"/>
              <a:ext cx="663480" cy="1797120"/>
            </a:xfrm>
            <a:custGeom>
              <a:avLst/>
              <a:gdLst/>
              <a:ahLst/>
              <a:rect l="l" t="t" r="r" b="b"/>
              <a:pathLst>
                <a:path w="440" h="1900">
                  <a:moveTo>
                    <a:pt x="440" y="1750"/>
                  </a:moveTo>
                  <a:lnTo>
                    <a:pt x="440" y="1900"/>
                  </a:lnTo>
                  <a:lnTo>
                    <a:pt x="0" y="1900"/>
                  </a:lnTo>
                  <a:lnTo>
                    <a:pt x="10" y="0"/>
                  </a:lnTo>
                  <a:lnTo>
                    <a:pt x="340" y="0"/>
                  </a:lnTo>
                  <a:lnTo>
                    <a:pt x="350" y="19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92320" y="6246720"/>
              <a:ext cx="1440" cy="37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187360" y="5027760"/>
              <a:ext cx="455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714400" y="5027760"/>
              <a:ext cx="561960" cy="1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44800" y="5479920"/>
              <a:ext cx="5681520" cy="1800"/>
            </a:xfrm>
            <a:custGeom>
              <a:avLst/>
              <a:gdLst/>
              <a:ahLst/>
              <a:rect l="l" t="t" r="r" b="b"/>
              <a:pathLst>
                <a:path w="3770" h="1">
                  <a:moveTo>
                    <a:pt x="0" y="0"/>
                  </a:moveTo>
                  <a:lnTo>
                    <a:pt x="377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46680" y="5460840"/>
              <a:ext cx="58680" cy="367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21640" y="5470560"/>
              <a:ext cx="58680" cy="36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0720" y="5451480"/>
              <a:ext cx="106200" cy="66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6737400" y="5780160"/>
              <a:ext cx="1440" cy="18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88200" y="5967360"/>
              <a:ext cx="696960" cy="2714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85000" y="6238800"/>
              <a:ext cx="1440" cy="37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48320" y="4216320"/>
              <a:ext cx="696960" cy="2714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75160" y="4216320"/>
              <a:ext cx="695160" cy="2714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57440" y="4216320"/>
              <a:ext cx="695160" cy="2714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n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03400" y="39337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4828680" y="3936960"/>
              <a:ext cx="180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04000" y="3913200"/>
              <a:ext cx="0" cy="29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44680" y="4098960"/>
              <a:ext cx="5365800" cy="258840"/>
            </a:xfrm>
            <a:custGeom>
              <a:avLst/>
              <a:gdLst/>
              <a:ahLst/>
              <a:rect l="l" t="t" r="r" b="b"/>
              <a:pathLst>
                <a:path w="3560" h="273">
                  <a:moveTo>
                    <a:pt x="0" y="270"/>
                  </a:moveTo>
                  <a:lnTo>
                    <a:pt x="178" y="273"/>
                  </a:lnTo>
                  <a:lnTo>
                    <a:pt x="185" y="3"/>
                  </a:lnTo>
                  <a:lnTo>
                    <a:pt x="35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710480" y="4070520"/>
              <a:ext cx="106200" cy="68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68880" y="4102200"/>
              <a:ext cx="258840" cy="247680"/>
            </a:xfrm>
            <a:custGeom>
              <a:avLst/>
              <a:gdLst/>
              <a:ahLst/>
              <a:rect l="l" t="t" r="r" b="b"/>
              <a:pathLst>
                <a:path w="172" h="262">
                  <a:moveTo>
                    <a:pt x="172" y="0"/>
                  </a:moveTo>
                  <a:lnTo>
                    <a:pt x="172" y="262"/>
                  </a:lnTo>
                  <a:lnTo>
                    <a:pt x="0" y="2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05400" y="4089240"/>
              <a:ext cx="58680" cy="381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42040" y="4102200"/>
              <a:ext cx="258840" cy="247680"/>
            </a:xfrm>
            <a:custGeom>
              <a:avLst/>
              <a:gdLst/>
              <a:ahLst/>
              <a:rect l="l" t="t" r="r" b="b"/>
              <a:pathLst>
                <a:path w="172" h="262">
                  <a:moveTo>
                    <a:pt x="172" y="0"/>
                  </a:moveTo>
                  <a:lnTo>
                    <a:pt x="172" y="262"/>
                  </a:lnTo>
                  <a:lnTo>
                    <a:pt x="0" y="2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78560" y="4089240"/>
              <a:ext cx="59040" cy="381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4560" y="5848200"/>
              <a:ext cx="5456160" cy="258840"/>
            </a:xfrm>
            <a:custGeom>
              <a:avLst/>
              <a:gdLst/>
              <a:ahLst/>
              <a:rect l="l" t="t" r="r" b="b"/>
              <a:pathLst>
                <a:path w="3620" h="273">
                  <a:moveTo>
                    <a:pt x="0" y="270"/>
                  </a:moveTo>
                  <a:lnTo>
                    <a:pt x="178" y="273"/>
                  </a:lnTo>
                  <a:lnTo>
                    <a:pt x="185" y="3"/>
                  </a:lnTo>
                  <a:lnTo>
                    <a:pt x="36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740720" y="5819760"/>
              <a:ext cx="106200" cy="68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08400" y="5851440"/>
              <a:ext cx="258840" cy="247680"/>
            </a:xfrm>
            <a:custGeom>
              <a:avLst/>
              <a:gdLst/>
              <a:ahLst/>
              <a:rect l="l" t="t" r="r" b="b"/>
              <a:pathLst>
                <a:path w="172" h="262">
                  <a:moveTo>
                    <a:pt x="172" y="0"/>
                  </a:moveTo>
                  <a:lnTo>
                    <a:pt x="172" y="262"/>
                  </a:lnTo>
                  <a:lnTo>
                    <a:pt x="0" y="2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345280" y="5838840"/>
              <a:ext cx="58680" cy="381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81920" y="5851440"/>
              <a:ext cx="258840" cy="247680"/>
            </a:xfrm>
            <a:custGeom>
              <a:avLst/>
              <a:gdLst/>
              <a:ahLst/>
              <a:rect l="l" t="t" r="r" b="b"/>
              <a:pathLst>
                <a:path w="172" h="262">
                  <a:moveTo>
                    <a:pt x="172" y="0"/>
                  </a:moveTo>
                  <a:lnTo>
                    <a:pt x="172" y="262"/>
                  </a:lnTo>
                  <a:lnTo>
                    <a:pt x="0" y="2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318440" y="5838840"/>
              <a:ext cx="58680" cy="381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621560" y="3798720"/>
              <a:ext cx="84600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CLK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790040" y="5170320"/>
              <a:ext cx="33156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639200" y="5946840"/>
              <a:ext cx="84600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Verdana"/>
                </a:rPr>
                <a:t>CLK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6909-DDCC-487E-A544-A29EBF574D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8:25:44Z</dcterms:created>
  <dc:creator>gheorghe.sebestyen</dc:creator>
  <dc:description/>
  <dc:language>en-US</dc:language>
  <cp:lastModifiedBy>SPG</cp:lastModifiedBy>
  <dcterms:modified xsi:type="dcterms:W3CDTF">2014-03-04T11:14:04Z</dcterms:modified>
  <cp:revision>36</cp:revision>
  <dc:subject/>
  <dc:title>Sisteme cu microprocesoare Cursul 2</dc:title>
</cp:coreProperties>
</file>