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A7EE-53EC-4FF8-84D1-4D7BE0CC3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ACFB-50A7-4BFD-B989-9BBAEF1E3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EE50-2CBA-4373-B958-D6235EA5B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260D-25DF-4958-BFA9-A687DC587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EB9E-FD75-4E35-8098-8B9E93A8F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9FDC-44F0-45D6-AF51-AE69A9164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41F9-5C94-477C-B2E2-E54BCF53C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2D32-9151-40E2-9434-4AFD0492B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BF26-D12D-466E-9130-A1E645FD4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0A3C-65FA-432E-B05A-C822AD497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F5CF-C3BE-418B-AC97-DE02C7A82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5962-9F65-416C-871A-40D768F4A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280F-1D4F-40DC-ADB1-684A1B5D3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0869-BC5E-4874-98CB-5487CDA45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CA85-C47C-4E04-85B1-866404637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6AAE-BDAC-4E09-8B51-26966F55E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57C9-42BE-4CCB-9223-3BB302005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442E-7C78-4E80-9C3A-6E72D0559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0BC5-401E-4202-BBA2-2BF1303B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02A4-BB3F-41ED-A864-3503FA219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2CEA-E2BD-44BD-845D-D2AC51C57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F21E-9F81-4B11-B7D1-0D8DC31E4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4B3E-8F60-48CA-A147-71C9ADA6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F587-2050-48FA-865C-44BC7647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9767-8B3E-4197-B350-FE11CAC8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AA75-6AC4-4015-AAB3-9374AC48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4738-FF4A-4F5B-8BCF-424C801F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C9A0-A16E-4BF2-852F-BCBC89F6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0D16-2D72-4E5A-A7F1-9D6BCEAE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3E53-44DF-4F82-BD07-1AE28049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D321-56F4-435E-B6D4-606B2C1D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EEA9-AA5E-4F69-91B4-0826C445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3228-745D-4B78-9C9F-B55BC9864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9419-12F8-4FE2-A9DF-832C04D97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ED41-FC76-4C1A-A2FC-61D558DB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0917-EE1E-4948-B373-24BF8FC3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F5F8-8A37-425C-A7E4-95AFEB77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C58B-5A2F-439B-9018-EAE540AE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E553-532E-4109-91C1-D49ABB22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3F49-F991-4531-BE67-CA58E57E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18F1-3E74-4E0B-B30F-A425F3D5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F2EE-CB8A-41A9-812F-9FC617784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E2E4-D725-4F01-B8AF-DAF6FE249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23E3-4E47-4F70-8D36-3BAE0EA4C84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Sisteme cu microprocesoar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ursul 10 Sisteme distribuit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EBD8-874E-41A4-B92B-F1B80D9B00C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  <a:ea typeface="굴림"/>
              </a:rPr>
              <a:t>Probleme specifice privind controlul prin calculator al proceselor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Achiziţia semnalelor de proc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mnale digital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his/deschis, pornit/oprit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 frecventa controlota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n de impulsur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ulsuri de latime controla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mnale analogic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 tensiune, de curent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mnale complexe – suma de semnale sinusoida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 stabileste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ecventa de esantionare (citir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umarul de biti alocati pentru un semnal – plaja de variatie a semnalulu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gimul de achizitie: continu, sau la cere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D197-C9BC-48CF-A670-6120430FC30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anale analogice de intrare si de iesir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24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al analogic de intrare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al analogic de iesire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Object 4"/>
          <p:cNvGraphicFramePr/>
          <p:nvPr/>
        </p:nvGraphicFramePr>
        <p:xfrm>
          <a:off x="1763640" y="2465280"/>
          <a:ext cx="5416560" cy="177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465280"/>
                    <a:ext cx="5416560" cy="17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Line 5"/>
          <p:cNvSpPr/>
          <p:nvPr/>
        </p:nvSpPr>
        <p:spPr>
          <a:xfrm>
            <a:off x="1219320" y="4952880"/>
            <a:ext cx="0" cy="129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676520" y="5410080"/>
            <a:ext cx="8380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752480" y="5410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AutoShape 8"/>
          <p:cNvSpPr/>
          <p:nvPr/>
        </p:nvSpPr>
        <p:spPr>
          <a:xfrm rot="5400000">
            <a:off x="3200400" y="54100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Line 9"/>
          <p:cNvSpPr/>
          <p:nvPr/>
        </p:nvSpPr>
        <p:spPr>
          <a:xfrm>
            <a:off x="1219320" y="56386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2514600" y="563868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1066680" y="5029200"/>
            <a:ext cx="2895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Line 12"/>
          <p:cNvSpPr/>
          <p:nvPr/>
        </p:nvSpPr>
        <p:spPr>
          <a:xfrm>
            <a:off x="3733920" y="56386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5334120" y="5410080"/>
            <a:ext cx="53316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5410080" y="5410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Oval 15"/>
          <p:cNvSpPr/>
          <p:nvPr/>
        </p:nvSpPr>
        <p:spPr>
          <a:xfrm>
            <a:off x="6172200" y="4952880"/>
            <a:ext cx="228600" cy="129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5867280" y="56386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A687-15B3-451D-9F74-2554BE48DBF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menzi “analogice” prin semnale digitale – semnale PWM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7" name="Object 3"/>
          <p:cNvGraphicFramePr/>
          <p:nvPr/>
        </p:nvGraphicFramePr>
        <p:xfrm>
          <a:off x="2090880" y="2039760"/>
          <a:ext cx="593712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0880" y="2039760"/>
                    <a:ext cx="59371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2D9B-10A2-453C-9685-D62C8BA3642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cesarea datelo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ff-lin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rocesarea nu se face in timpul achizitiei de semnal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u sunt conditii de timp; procesarea poate fi oricat de complex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n-lin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rocesarea are loc in timpul achizitiei semnalelo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estrictii de timp (perioada de esantionare=perioada de procesare a unui set de dat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oduri de implementare a aplicatiei de control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cla de contro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 driven- activarea unor taskuri de achizitie si procesare la anumite intervale de timp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vent-driven – activarea unor taskuri ca reactie la aparitia unor evenimen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ctivarea taskurilor cu ajutorul unui planificator de timp-re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lanificare statica – inainte de lansarea aplicatiei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lanificare dinamica – in timpul executiei aplicatiei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7716-E1FB-45F9-B452-FCD5885CB08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erinte impuse sistemelor de control in medii industria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iabilitate si toleranta la defec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in replicare spatiala si temporala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munitate mai mare la zgomote electro-magneti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ucru in conditii de mediu seve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ariatii mari de temperatur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miditate ridicat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ersonal de deservire mai putin califica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strictii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imensionale si de form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 cos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 consum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A419-A8AB-454A-B2D1-B1BB235F6D3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oluti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steme dedicate si incapsulat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tele industriale de comunicati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cesoare specializate pentru aplicatii de control (microcontroloare) si de procesare a semnalelor (procesoare de semnal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morii nevolatile semiconductoare (ex: flash in locul discurilor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rcase robuste, protejate la praf si la umezeal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9D84-1453-4E31-BCDB-77298BAAE63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ivele de contro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0" name="Object 3"/>
          <p:cNvGraphicFramePr/>
          <p:nvPr/>
        </p:nvGraphicFramePr>
        <p:xfrm>
          <a:off x="990720" y="1447920"/>
          <a:ext cx="739116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447920"/>
                    <a:ext cx="7391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8CF9-0BC7-45F7-BBE6-D5CBD371032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isteme distribuite v.s. sisteme centralizat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827360"/>
            <a:ext cx="7927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vantajele distribuirii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osibilitatea adaptării structurii sistemului informatic la distribuţia geografică intrinsecă a aplicaţiei (ex: sisteme bancare cu filiale distrbuite, sisteme de urmărire şi control cu puncte multiple de intrare/ieşire, baze de date distribuite, etc.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reşterea fiabilităţii şi a toleranţei la defecte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îmbunătăţirea raportului performanţă/preţ, prin utilizarea unor sisteme ieftine realizate pe scară mar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reşterea interactivităţii sistemului prin alocarea unor terminale inteligente unor utilizatori multipli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dăugarea unor facilităţi noi: transferul electronic al informaţiilor, controlul de la distanţă al proceselor, poşta electronică, publicaţii electronice, teleconferinţe, etc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acilitează lucrul în grup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utilizarea în comun a unor resurse (baze de date, periferice scumpe, etc.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robleme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gîndirea umană este în mare parte secvenţială, ceea ce face dificilă transpunerea unor aplicaţii în algoritmi paraleli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 există instrumente adecvate pentru descrierea şi controlul concurenţei, a execuţiei paralele şi a sincronizării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ţeaua induce întîrzieri  şi erori în transmiterea datel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atorită vitezei limitate de transmisie a informaţiilor în reţea, nu se cunoaşte exact starea globală a sistemului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BA22-34E7-40D0-B9BD-A272781C79C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orme de distribui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steme multiprocesor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isteme paralel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duri strans conectate fizic si logi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impul de comunicatie intre noduri este neglijab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isteme distribui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duri slab conectate fizic dar strans conectate logic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cooperare de la distant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impul de transmisie a mesajelor este comparabil cu timpul de executie a taskuril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durile indeplinesc impreuna o anumita functionalitate (ex: serviciu bancar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lculatoare in retea de tip interne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duri slab conectate fizic si logic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durile coopereaza in mica masura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e se distribuie?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istributia echipamentelo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istributia datelo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istributia controlului (a programului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356F-9C73-4716-8417-EDBD4621050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orme de distribui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99640" y="1557000"/>
            <a:ext cx="77835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ţie de distribuţia resurselor fizice se pot identifica următoarele clase de sistem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sisteme uniproces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sisteme multiprocesor bazate pe o magistrală comun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sisteme de calcul parale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sisteme de calcul bazate pe o reţea de comunicaţi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ţie de gradul de descentralizare a datelor se pot distinge următoarele categorii de sistem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sistem cu bază de date unică centralizat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sistem cu fişiere distribuite dar cu un director centraliza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sistem cu baze de date duplicate sau replic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sistem cu baza de date partiţionată şi complect descentralizat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 baza modului de realizare a controlului se disting urmatoarele sistem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sistem cu punct de control uni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sistem ierarhic de control cu relaţie de tip master/slav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sistem cu puncte multiple de control care execută în mod concurent firele unui tas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sistem cu puncte de control multiple şi autonome care execută individual sau în comun serviciile unei aplicaţi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66CE-0591-4133-ADFC-C953B8E2B8F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riterii considerate definitorii pentru un sistem distribuit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ă dispună de resurse fizice şi logice multip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sursele să fie distribuite fizic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ă existe o viziune globală asupra sistemulu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ă existe independenţă şi în acelaşi timp cooperare între componentele sistemulu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istribuţia să fie transparentă pentru interfaţa de utilizare a sistemulu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AD97-A229-414F-A354-B029487E950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ervicii necesare intr-un sistem distribui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Serviciul de num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copul: de a oferi o modalitate unitară de adresare a resurselor distribuite ale sistemului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e ocupă mai ales de regăsirea datelor păstrate în bazele de date sau fişierele distribuite ale sistemului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xemplu: serviciul DNS (Domain Name Server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Serviciul de timp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incronizarea ceasurilor local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emplu: NTP (Network Time Protocol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Serviciul de replicar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edondanta pentru: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cces mai eficient la resur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leranta la defec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roblema: pastrarea consistentei datelo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Gestiunea tranzactiilor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cop: rezolvarea accesului concurent la resurse partajat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481B-9992-4417-8F55-498767DAE5F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ervicii necesare intr-un sistem distribui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cesul transparent la resur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unicatia de gru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E969-1C9C-4AC9-915F-D2C1E77B16E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isteme de contro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Utilizarea tehnicii de calcul in controlul proceselor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vantaj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ecizie  mai mare în măsurarea şi procesarea informaţiilor cules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 mai mare imunitate la perturbaţii de diferite tipuri (ex: zgomote, variaţii ale condiţiilor de mediu sau ale surselor de alimentare, modificarea în timp a valorii componentelor, etc.); pot fi implementate scheme de autocalibrare şi autotestare, prin care se măreşte încrederea în sistemul de contro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osibilitatea implementării prin program a unor scheme/metode complexe de reglaj, ca de exemplu: algoritmi neliniari de control, algoritmi adaptivi, scheme de reglaj cu mai mulţi poli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osibilitatea stocării datelor cules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osibilitatea vizualizării procesului pe mai multe nivele de detalier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onentele unui sistem complex pot fi corelate prin comunicare digitală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 pot construi scheme ierarhizate de control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ezavantaje ale controlului prin calculator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mnalele de proces sunt discretizate în timp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Valorile semnalelolsunt cuantizate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entru schemele simple de reglaj, utilizarea unui calculator nu se justifică din punct de vedere economic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chemele de reglaj implementate prin program sunt mai puţin vizibile pentru utilizatorul banal,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panarea sau ajustarea dispozitivului de control necesită un personal de specialitate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15B7-EE37-4573-BC23-2000E7AEC5C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hema unui sistem de control bazata pe un calculato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1633680" y="1909800"/>
          <a:ext cx="6721200" cy="40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3680" y="1909800"/>
                    <a:ext cx="672120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3T12:55:17Z</dcterms:created>
  <dc:creator>gheorghe.sebestyen</dc:creator>
  <dc:description/>
  <dc:language>en-US</dc:language>
  <cp:lastModifiedBy>sebi</cp:lastModifiedBy>
  <dcterms:modified xsi:type="dcterms:W3CDTF">2019-04-23T06:48:55Z</dcterms:modified>
  <cp:revision>8</cp:revision>
  <dc:subject/>
  <dc:title>Sisteme cu microprocesoa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