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13E8-7B47-4E05-8BCE-EC3251A73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05D9-54E0-41A0-AA7F-CA57C1BB1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1863-F4ED-4C04-AAEF-605282F8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8819-6095-440B-A9AB-CCEEC218A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DB88-A6E9-4667-9A03-418BBB3C6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DE88-8FA1-408A-80FD-139627A6B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C6E5-E47B-484C-B2A2-58896B8E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95D1-B4C4-495A-BAA8-8FEAB6B65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5BF2-ABB7-4AFE-9925-B060CFD1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0097-8186-4A64-8E91-E87E340C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E736-87A3-474D-997A-EF4C6954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6AF7-7C5E-4568-968F-3E881252D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FC4-831D-4CBD-AEEC-8129A40E3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845D-B86A-4C49-B8B7-265A256F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9918-4CDB-476A-B126-C19477EB4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059-C3D6-4F28-920A-94E3B8C0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88D4-BC82-440D-B03B-5AC746FFC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A7DF-035E-4008-9185-531091BEA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FDD0-A489-43DC-9713-33CF6F0C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99F6-8B11-46D8-8707-0ABA114D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0480-7914-458C-939A-FF113922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93FB-8247-4F26-9410-934E22E9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78B9-8FCB-4A2C-A7C9-28077B7B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604-A861-4B26-AA6C-59E4C507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5432-1C77-41D6-893A-C771A66F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040F-05D1-4281-BF5F-368A2F25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9ABF-6C3C-4600-BE5C-723F8E67F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FF3-DA6E-4CC6-A6B3-2FC17421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C8D-77CB-4FCA-9123-574A9D09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8F9-1A02-435F-B52E-08ABE6D1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A5D-BFB9-42C4-85B3-CFF5E68D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CD35-0FEC-48D4-B865-4A0FE470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3D05-D4CA-4109-8B14-4A97E192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852F-2A9D-4CC4-94E6-03E181F6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A9C3-CE5E-4254-A9AD-02753A09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5C9F-EBF4-4776-B3EF-5B48EA8A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D4F8-140E-42EF-A991-EBA6068E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ED58-1FD5-4384-819F-FCD9D34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D79-E1F6-4D26-A84F-7650CBFA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4B82-C298-46E5-8A37-1078DF74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5395-B7AE-4762-BF91-7C170CA9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544D-446D-408A-8042-63A41A6B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A2EB-2C95-48E9-AB89-8AA2579F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0E5C-B4ED-479B-8BB1-0D14CA9E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87D-DE92-4F03-95A3-754A34A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EE4-4DE4-4D35-89BF-C157D23C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C52-9894-43BD-8718-09FE409B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5B8-8A28-40B9-B6B5-A72738E5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F1F-FAF9-49D7-A258-CEF0BF09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329-F32E-4CCC-8B5A-D2D7F3E7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EE8-DEA1-4D13-9735-BF182DB9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7A1D-15FA-4714-BA9B-7F8B6C987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2471-C241-4036-8541-EA48F5D8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5 Ierarhii de memori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cache asociativă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74680" y="1359000"/>
          <a:ext cx="8319960" cy="527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359000"/>
                    <a:ext cx="831996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cache asociativ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ncipiu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linie este plasata in orice zona libera (cadru de linie gol) din memoriei cach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 locatie se regaseste in cache prin compararea campului propriu de descriptor cu descriptorii liniilor pastrate in cach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ratie hardware – necesita foarte multe circuite de comparatie (un circuit/lini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ratie secventiala – necesita mult timp pentru comparatii repet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tilizare eficienta a spatiului cach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ar limitat de linii cache si implicit capacitate redusa a memoriei cache – datorita operatiei de compar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cache set asociativa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457200" y="1692360"/>
          <a:ext cx="8321760" cy="48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92360"/>
                    <a:ext cx="832176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cache set asociati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cipiu: combinarea celor 2 metode anterioare, asociatica si cu mapare direc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i multe linii organizate in blocu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locurile identificate prin mapare direc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niile (in cadrul blocului) identificate prin metoda asociativ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bina avantajele metodelor anterioa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mar mare de linii, fara limitari de capaci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rea eficienta a capacitatii memoriei ca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zavantaj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mplementare mai complex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oria cache organizată pe secto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365040" y="1600200"/>
          <a:ext cx="8504280" cy="49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1600200"/>
                    <a:ext cx="850428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oria cache organizată pe secto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ncipiu: similar cu metoda set asociativa, dar ordinea este schimbat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torul (blocul) este identificat prin metoda asociativa, iar linia in cadrul sectorului prin metoda maparii direc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ntaje si dezavantaje:similare cu metoda anterioa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rierea in memoria ca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lema cu operatia de scriere: apare o inconsistenta intre memoria interna si copia din memoria cache daca scrierea se face numai in cach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 metode posibi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Write bac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scriere numai in memoria chache si actualizare in memoria interna numai la descarcarea liniei cach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vantaj: eficienta maxim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zavantaj: inconsistenta temporara intre cache si memoria interna, critica in cazul sistemelor multi-master (multi-procesor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Write through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scriere atat in memoria cache cat si in memoria inter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vantaj: nu exista inconsisten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zavantaj: operatiile de scriere se fac la viteza (mai mica) a memoriei intern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r operatiile de scriere sunt mai rare decat cele de citire (in raport de 1 la 10)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ficienta memoriei ca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9720" y="1508040"/>
            <a:ext cx="77724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 = tc + (1-Rr)*t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de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 – timpul de acces medi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p – timpul de acces al memorie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ncip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c – timpul de acces al memoriei ca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r – rata de suc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-Rr) – rata de eşec ( miss ra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914400" y="3978360"/>
          <a:ext cx="7407360" cy="28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978360"/>
                    <a:ext cx="7407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a virtual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iectiv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tinderea memorie interne peste memoria exter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ejarea zonelor de memorie impotriva unor accese neautoriz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hnici de implement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ginare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gmentare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gmentarea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507680"/>
            <a:ext cx="786132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partirea memoriei in blocuri (segment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resarea unei locatii pri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 de segment+Adresa de offset = Adresa fiz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asarea de atribute de acces la fiecare seg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accesul unui program sau task este limitat numai la locaţiile conţinute în segmentele care i-au fost aloc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se pot separa zonele de memorie funcţie de destinaţia acestora: cod, date, stiv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specificarea adresei relative în cadrul segmentului necesită un număr mai mic de biţi, ceea ce duce implicit la reducerea lungimii instrucţiunilo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segmentele unui program pot fi amplasate în diferite locuri ale spaţiului de adresare sau pot fi relocatate, cu modificări minore în codul programulu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rametrii de performanta ai unei memori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1905120"/>
          <a:ext cx="7616880" cy="4190760"/>
        </p:xfrm>
        <a:graphic>
          <a:graphicData uri="http://schemas.openxmlformats.org/drawingml/2006/table">
            <a:tbl>
              <a:tblPr/>
              <a:tblGrid>
                <a:gridCol w="2133720"/>
                <a:gridCol w="1674720"/>
                <a:gridCol w="1905120"/>
                <a:gridCol w="190332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RA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A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D, C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ita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64k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6-2G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160G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p de ac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0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u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-70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0m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u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gmentarea la procesoarele Int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1189080" y="1508040"/>
          <a:ext cx="6948360" cy="210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9080" y="1508040"/>
                    <a:ext cx="69483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006560" y="3521160"/>
          <a:ext cx="6583320" cy="300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6560" y="3521160"/>
                    <a:ext cx="658332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8"/>
          <p:cNvSpPr/>
          <p:nvPr/>
        </p:nvSpPr>
        <p:spPr>
          <a:xfrm>
            <a:off x="3017880" y="3154320"/>
            <a:ext cx="384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ul adresei in modul re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468520" y="5989680"/>
            <a:ext cx="466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ul adresei in modul protej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gmentarea la procesoarele Int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alii de implementare a segmentarii in Modul proteja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ector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tin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ndex – pozitia descriptorului de segment intr-o tabela de descriptor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I – table identification bit: GDT sau LD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PL – requested privilege level – nivelul de privilegiu pe care trebuie sa-l detina un task pentru a accesa segmentul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ptor de segme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troleaza accesul la segment prin elementele sale component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resa segmentulu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lungimea segmentulu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repturile de acces (privilegii)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abele de descriptori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neral Descriptor Table (GDT) – pastreaza descriptori pentru segmente comun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ocal Descriptor Tables (LDT) – unul pentru fiecare task; contine descriptori pentru segmente alocate unui singur ta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puri de descriptori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escriptori pentru segmente de Cod si de Dat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escriptori de siste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escriptori pentru porti de acces – controleaza accesul la functii ale sistemului de opera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canisme de protectie oferite prin segmentare (in cazul procesoarelor Intel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es la memorie numai prin descriptori pastrati in GDT si LD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GD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treaza descriptorii segmentelor accesibile mai multor tasku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LD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treaza descriptorii segmentelor alocate unui singur task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gmente protej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ratiile de citire si scriere sunt permise in functie de tipul segmentului (Cod sau date) si starea anumitor indicatori (pastrati in descripto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tru segmente de cod: citire instructiuni (in vederea executiei) si eventual citire d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tru segmente de date: citire si eventual scri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ivele de privilegiu</a:t>
            </a:r>
            <a:r>
              <a:rPr b="0" lang="ro-RO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ivele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, 0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l mai privilegiat</a:t>
            </a:r>
            <a:r>
              <a:rPr b="0" lang="ro-RO" sz="1400" spc="-1" strike="noStrike">
                <a:solidFill>
                  <a:srgbClr val="000000"/>
                </a:solidFill>
                <a:latin typeface="Verdana"/>
              </a:rPr>
              <a:t>, 3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l mai putin privilegi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ivelele 0,1 si 2 alocate pentru sistemul de operare, iar nivelul 3 pentru programele utiliz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task mai putin privilegiat nu poate accesa un segment cu nivel de privilegiu mai mare (ex: un program utilizator nu poate accesa segmente alocate sistemului de opera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ginare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mpartirea memoriei interne si externe in blocuri (pagini) de lungime fix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arcarea in memoria interna a paginilor care au probabilitatea cea mai mare de a fi utilizate in viitorul apro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mplementare similara cu memoria cach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bleme de proiectar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mensionarea optimă a pagini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mplasarea în memorie a unei noi pagin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ăsirea paginilor în mem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lectarea paginilor care se descarcă din mem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mplementarea operaţiilor de scrier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ginarea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– implementare prin tehnica asociativ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1006560" y="1325520"/>
          <a:ext cx="7588080" cy="52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325520"/>
                    <a:ext cx="758808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ginarea la procesoarele Int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731880" y="1692360"/>
          <a:ext cx="8047080" cy="46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880" y="1692360"/>
                    <a:ext cx="804708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ginarea – operatia de scrie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blema: la scriere apare o inconsistenta intre memoria interna si cea virtual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te mai critica in cazul sistemelor multi-master (multi-proc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lutia: Write bac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hnica “write through” nu este fezabila deoarece timpul de acces la memoria externa este foarte mare, ceea ce ar afecta timpul mediu de acces la memor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erarhie de memor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676520" y="2666880"/>
            <a:ext cx="1523880" cy="2971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666880" y="3962520"/>
            <a:ext cx="4572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886200" y="3200400"/>
            <a:ext cx="1371600" cy="2133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6172200" y="1905120"/>
            <a:ext cx="2286000" cy="350496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124080" y="434340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5105520" y="4419720"/>
            <a:ext cx="1066680" cy="228600"/>
          </a:xfrm>
          <a:prstGeom prst="leftRightArrow">
            <a:avLst>
              <a:gd name="adj1" fmla="val 50000"/>
              <a:gd name="adj2" fmla="val 9289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752480" y="2743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28600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73392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orie interna (operativ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553080" y="3200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orie virtu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438280" y="5715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RAM             DRAM                     HD, CD, DV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incipii in favoarea ierarhizarii memorie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ocalitate temporal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probabilitatea este  mare ca o locatie accesata sa fie solicitata si in viitorul apro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ocalitate spatial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probabilitatea este mare ca si vecinii locatiei accesate sa fie solicitate in viitorul apro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90/1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90% din timp se executa 10% din prog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deea de baz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de a aduce mai aproape de procesor acele zone de memorie care au o probabilitate mai mare de a fi utilizate in viitorul apropi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a ca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orie foarte rapida, de capacitate m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oria cea mai apropiata de proces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re: linii de memorie cach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streaza copii ale unor zone (linii) din memoria inter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moria cache nu este vizibila programatorulu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erul intre memoria cache si memoria interna se face automat sub controlul Unitatii de mamagement a memoriei (MMU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rametrii tipici ai unei memorii cach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3049560"/>
                <a:gridCol w="4263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oa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mensiune memo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kocteţi-2Moctet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mensiune linie ca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-256 octeţ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p de ac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-10 n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teza de transfer (lăţime de band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-5000Mocteţi/sec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 circu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M-ul intern al procesorului sau RAM static exter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iectarea memoriilor ca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bleme de proiect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.Care este dimensiunea optimă a unei linii cache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.Unde se amplasează o nouă linie cache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.Cum se regăseşte informaţia conţinută în memoria cache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4.Care linie se înlocuieşte în cazul în care memoria este plină şi se solicită transferul unei noi linii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.Cum se rezolvă operaţiile de scriere 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rhitecturi de memorii cach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morii cache cu mapare direct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morii cache asociati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morii cache set asociati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morii cache organizate pe secto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orii cache cu mapare directă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2" name="Group 25"/>
          <p:cNvGrpSpPr/>
          <p:nvPr/>
        </p:nvGrpSpPr>
        <p:grpSpPr>
          <a:xfrm>
            <a:off x="762120" y="1752480"/>
            <a:ext cx="7848360" cy="4496040"/>
            <a:chOff x="762120" y="1752480"/>
            <a:chExt cx="7848360" cy="4496040"/>
          </a:xfrm>
        </p:grpSpPr>
        <p:graphicFrame>
          <p:nvGraphicFramePr>
            <p:cNvPr id="123" name="Object 4"/>
            <p:cNvGraphicFramePr/>
            <p:nvPr/>
          </p:nvGraphicFramePr>
          <p:xfrm>
            <a:off x="762120" y="1752480"/>
            <a:ext cx="7848360" cy="4496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752480"/>
                      <a:ext cx="7848360" cy="44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Rectangle 6"/>
            <p:cNvSpPr/>
            <p:nvPr/>
          </p:nvSpPr>
          <p:spPr>
            <a:xfrm>
              <a:off x="7848720" y="2438280"/>
              <a:ext cx="6858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7864560" y="2789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7864560" y="315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7864560" y="3703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7864560" y="4068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7864560" y="4435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7864560" y="4800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1554120" y="3154320"/>
              <a:ext cx="6675480" cy="2286000"/>
            </a:xfrm>
            <a:custGeom>
              <a:avLst/>
              <a:gdLst/>
              <a:ahLst/>
              <a:rect l="l" t="t" r="r" b="b"/>
              <a:pathLst>
                <a:path w="4205" h="1440">
                  <a:moveTo>
                    <a:pt x="0" y="0"/>
                  </a:moveTo>
                  <a:lnTo>
                    <a:pt x="0" y="1440"/>
                  </a:lnTo>
                  <a:lnTo>
                    <a:pt x="4205" y="1440"/>
                  </a:lnTo>
                  <a:lnTo>
                    <a:pt x="4205" y="5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AutoShape 15"/>
            <p:cNvSpPr/>
            <p:nvPr/>
          </p:nvSpPr>
          <p:spPr>
            <a:xfrm rot="16200000">
              <a:off x="1462680" y="2513160"/>
              <a:ext cx="274680" cy="1006560"/>
            </a:xfrm>
            <a:custGeom>
              <a:avLst/>
              <a:gdLst>
                <a:gd name="textAreaLeft" fmla="*/ 175680 w 274680"/>
                <a:gd name="textAreaRight" fmla="*/ 275040 w 274680"/>
                <a:gd name="textAreaTop" fmla="*/ 25920 h 1006560"/>
                <a:gd name="textAreaBottom" fmla="*/ 98064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16"/>
            <p:cNvSpPr/>
            <p:nvPr/>
          </p:nvSpPr>
          <p:spPr>
            <a:xfrm>
              <a:off x="3108240" y="507528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4114800" y="3429000"/>
              <a:ext cx="3108240" cy="457200"/>
            </a:xfrm>
            <a:custGeom>
              <a:avLst/>
              <a:gdLst/>
              <a:ahLst/>
              <a:rect l="l" t="t" r="r" b="b"/>
              <a:pathLst>
                <a:path w="1958" h="288">
                  <a:moveTo>
                    <a:pt x="0" y="0"/>
                  </a:moveTo>
                  <a:lnTo>
                    <a:pt x="1958" y="0"/>
                  </a:lnTo>
                  <a:lnTo>
                    <a:pt x="1958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658332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76584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695016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713268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731520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23"/>
            <p:cNvSpPr/>
            <p:nvPr/>
          </p:nvSpPr>
          <p:spPr>
            <a:xfrm>
              <a:off x="749772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>
              <a:off x="7680240" y="37036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morii cache cu mapare direct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cipiu: adresa unei linii in memoria cache este determinata direct (un camp) din adresa fizica a liniei – “direct mapp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ag-ul este folosit pentru a face diferenta intre linii care in principiu ocupa aceeasi pozitie in memoria cach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vanta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or de implement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or de a plasa, de a regasi si de a inlocui o lin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zavantaj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anumite cazuri doua linii se inlocuiesc repetat, chiar daca memoria cache nu este pli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tilizare ineficienta a spatiului de memorie cach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42:07Z</dcterms:created>
  <dc:creator>xxx</dc:creator>
  <dc:description/>
  <dc:language>en-US</dc:language>
  <cp:lastModifiedBy>sebi</cp:lastModifiedBy>
  <dcterms:modified xsi:type="dcterms:W3CDTF">2019-03-19T05:40:05Z</dcterms:modified>
  <cp:revision>27</cp:revision>
  <dc:subject/>
  <dc:title>Sisteme cu microprocesoare</dc:title>
</cp:coreProperties>
</file>