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5426-2E93-44FC-979D-1E398090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CE3-2B1F-4E30-BE4B-E3724621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CA2-651D-4663-8259-F799D2B3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591E-A557-4B19-8055-65DB192F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B0E-0F7E-437A-B4F9-C7597F999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2ED-E5A7-4DFD-B05C-A9F51A5A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0469-4394-464A-B2C3-4FE70E9E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E82-D76F-4E5B-BA52-C31D8845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B87-CA1D-4BE0-ACFC-8EBBFD78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22A-D1ED-480A-A5EA-3D920AAF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4E6-18F8-4918-B257-9B398A8F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63A9-74DC-4A7B-A70B-C9E30D9D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170-4BAD-49AE-A4E8-0D403808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4D1-82BB-4B36-A280-4DF50A98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F091-6A4E-46B7-8CA4-286BB59A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5CC-FF85-414A-99B6-7053197C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B17-58D5-4614-94C1-75F565F58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8EA-A68D-48A9-85F2-A6BD3D24A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C446-C98D-456A-B207-6EEDCFF3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FD51-BB1E-4333-BE5C-992AD175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877-3700-44BA-8FAC-172183EE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3982-925F-4BC3-AB08-CA68E94E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7FCB-EC1E-45BA-B7B6-64BC3230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B8F-F707-45CF-903B-C0F200D3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E427-07CC-427B-9287-BF1AD88A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57B-F6FB-4CB7-B765-53E0BF14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9AA-913F-4EBE-96AF-047FC6D4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EF0-E009-4749-8441-CE769CB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B92-07CF-4BE9-BB13-19E43040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1201-1943-4ACF-ABD8-7EBC30CA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294D-4C8C-4477-84E0-304D9A94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22C5-726A-4030-B3D6-F5CA3832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838-75DA-4075-B1B6-22421A8E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68D8-12B7-4D57-B8DE-7D7F4AB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395-D618-419A-A217-F996E52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93D8-E81C-495B-AFF6-ECF78A1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702-AFC3-427C-9662-C6370DC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33E-0A52-49F9-B000-C0970AA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7D09-5036-45E9-A1AF-D6D19A5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0230-AC9E-417F-A501-A0881203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792-DF35-44EE-9989-C3AF9919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EAC-D9A5-468C-9DB7-A7D64631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981-DD22-47E5-83B9-2339B04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C29-D899-4A26-8D6F-61549EC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61A-30A5-4C79-B401-18AB37C1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298-0152-48AC-AE75-3B4B7EB2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E3D-809B-4AF5-BE43-9E655FE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FD9-B663-49B0-B09D-F5D53C14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1B4-6462-4FCA-8317-F7849CC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3DB-503A-4138-AD01-4CAA1501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9F9A-7DC1-486D-9D66-DC9C0F71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B03-5EEB-464C-886F-519C6CEDC4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6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interfetelor de intrare/iesi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E690-2EE2-4961-A0B3-56070856A9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ransferul prin program, avantaje si dezavanta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mp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or de implemen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eft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orul este blocat pe toata durata transfer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efici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4B8-AE4C-40C5-B719-7FF004ABDD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fer prin întreruper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isticile transferulu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lutioneaza problema sincronizarii in faza de transfer propriu-z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ul poate efectua alte operatii in paralel cu transferu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orul se ocupa pe mai departe de initializare, transfer de date si finaliz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ntrerupere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oprirea temporară a execuţiei unui program, la comanda unui semnal extern sau a unui eveniment inter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ervirea unei intreruperi: prin executia unei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rutine de intrerup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abela de intreruperi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tine adresele rutinelor de tratare a intreruperil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B3F3-CF53-422E-A8FF-A0CBDD7C5B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tarea intreruperilor multi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39640" y="2178000"/>
          <a:ext cx="799308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78000"/>
                    <a:ext cx="7993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F966-9980-4A75-94D8-3680510A11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stemul de întreruperi al familiei de procesoare Intel x8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7119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56 de nivele de intrerup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eruper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n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zare cu 0, intreruperi software (INT n), intrerupere de trasare, depasire de capacitate, break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rn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mascabile: N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cabile INT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area/invalidarea intreruperilo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I: set interrupt – IF=1 - valid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: clear interrupt – IF=0 – invalidare (masca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BD3-C36A-45F6-978A-1C31E58517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ervirea unei cereri de intrerupere de catre microproces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lvează pe stivă adresa instrucţiunii următoare şi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ţinutul registrului de stare program PS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nerează două cicluri INTA (INTerrupt Acknowlidge) pentru confirmarea acceptării întreruperii şi pentru identificarea sursei de întrerupere; în al doilea ciclu citeşte vectorul întreruperii  de pe magistrala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cută salt la rutina de tratare a întreruperii; adresa rutinei este citită din tabela de întreruperi, folosind ca index vectorul de întrerupere citit anteri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 terminarea execuţiei rutinei de întrerupere extrage de pe stivă starea programului întrerupt şi adresa de reveni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 continuă execuţia programului întrerup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BD61-C41C-4FFC-923B-83A7BDCF9E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puri de intreruper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rdware: generate de un semnal exter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 de intrerupere: INTR, NM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 de identificare a intreruperii: INTA/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rse de intrerup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erfete de intrare/iesire: mouse, tastatura, HDD, rete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tectoare de defect: eroare de paritate la d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ftware: generate prin instructiu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muleaza intreruperile hardw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losite pentru apelul unor functii ale sistemului de operare: apeluri sistem (INT 21H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puri de instructiuni de intrerupe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 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T 3 (breakpoin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164B-1818-43C2-AE5A-06708FB031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rolorul de întreruperi I8259A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94692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sabil pentru gestionarea a 8 intreruperi exter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900000" y="2852640"/>
          <a:ext cx="7848720" cy="35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52640"/>
                    <a:ext cx="7848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31B-52C8-4CB6-878C-902FDD734E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ructura interna a controlorului de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Object 6"/>
          <p:cNvGraphicFramePr/>
          <p:nvPr/>
        </p:nvGraphicFramePr>
        <p:xfrm>
          <a:off x="934920" y="1989000"/>
          <a:ext cx="752472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989000"/>
                    <a:ext cx="752472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A1A9-18EC-4C4D-AAF1-6ABC1F4319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gramarea controlorului de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vinte de initializare (folosite o singură dată la pornirea sistemului) - ICW0-4 (Initialization Command Wor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vinte de operare (folosite pentru modificarea dinamică a modului de lucru ) - OCW0-3 (Operation Command Wor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 programare se definesc următorii parametri de funcţion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lucru 8080 sau 808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detecţie a întreruperilor: pe front (la tranziţia din 0 în 1) sau pe ni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dul de imbricare a întreruperilor: normală sau specială (imbricare=deservirea unei alte întreruperi în timpul execuţiei unei rutine de întreruper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ul de prioritate: fixă sau rotativ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ziţia întreruperilor deservite în tabela de întreruperi (adresa de bază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0CC8-E821-40B1-8F80-FA5DEC6F26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cventa de deservire a unei intrerup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terfat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genereaza o intrerupere prin activarea unui semnal IRQi cat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verifica daca intreruperea este permisa si nu este alta mai prioritara in curs de deservi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ca intreruperea este permisa se genereaza o intrerupere cat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rin activarea semnalului INT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upa terminarea instructiunii curente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genereaza doua cicluri INTA pt. identificarea sursei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 al doilea ciclu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trol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une pe liniile de date ale magistralei vectorul intreruperii cur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foloseste vectorul ca index in Tabela de intreruperi pentru a citi adresa Rutinei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alveaza pe stiva adresa de revenire si starea dupa care face un salt la Rutina de intrerup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a sfarsitul rutinei de intrerupere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 o comanda catre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control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entru incheierea intreruperii curente (EO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a executia instructiuni IRET (revenire din rutina de intrerupere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cesoru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ia de pe stiva adresa de revenire si face salt la aceasta adresa, continuind programul intrerup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D20-F9E1-470E-ADF7-D3F60F3A39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ete de intrare/ies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lul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aptarea particularităţile unui/unor dispozitiv(e) periferice de intrare/ieşire la cerinţele unui anumit sistem de calcul (adaptarea la o magistrala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e se adapteaz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mna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cventa de transmisie si receptie a date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itmul/viteza/frecventa de transfer – interfata este un buffer tempora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ructura: 2 part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r de magistral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r pentru un anumit dispozitiv perifer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5508720" y="1773360"/>
            <a:ext cx="3313080" cy="3887640"/>
            <a:chOff x="5508720" y="1773360"/>
            <a:chExt cx="3313080" cy="3887640"/>
          </a:xfrm>
        </p:grpSpPr>
        <p:grpSp>
          <p:nvGrpSpPr>
            <p:cNvPr id="104" name="Group 16"/>
            <p:cNvGrpSpPr/>
            <p:nvPr/>
          </p:nvGrpSpPr>
          <p:grpSpPr>
            <a:xfrm>
              <a:off x="6012000" y="2133720"/>
              <a:ext cx="2701800" cy="3527280"/>
              <a:chOff x="6012000" y="2133720"/>
              <a:chExt cx="2701800" cy="352728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6012000" y="2133720"/>
                <a:ext cx="2701800" cy="1429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6083280" y="2710080"/>
                <a:ext cx="2376000" cy="1439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6154560" y="2781360"/>
                <a:ext cx="2231640" cy="574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6154560" y="3429000"/>
                <a:ext cx="2231640" cy="64764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6443640" y="4581720"/>
                <a:ext cx="1728360" cy="1079280"/>
              </a:xfrm>
              <a:prstGeom prst="rect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Text Box 10"/>
              <p:cNvSpPr/>
              <p:nvPr/>
            </p:nvSpPr>
            <p:spPr>
              <a:xfrm>
                <a:off x="6443640" y="4726080"/>
                <a:ext cx="165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ispozitiv periferic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AutoShape 11"/>
              <p:cNvSpPr/>
              <p:nvPr/>
            </p:nvSpPr>
            <p:spPr>
              <a:xfrm>
                <a:off x="6946920" y="2276640"/>
                <a:ext cx="360000" cy="433440"/>
              </a:xfrm>
              <a:prstGeom prst="upDownArrow">
                <a:avLst>
                  <a:gd name="adj1" fmla="val 50000"/>
                  <a:gd name="adj2" fmla="val 2396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Text Box 12"/>
              <p:cNvSpPr/>
              <p:nvPr/>
            </p:nvSpPr>
            <p:spPr>
              <a:xfrm>
                <a:off x="6227640" y="2781360"/>
                <a:ext cx="187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terfata cu magistral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3"/>
              <p:cNvSpPr/>
              <p:nvPr/>
            </p:nvSpPr>
            <p:spPr>
              <a:xfrm>
                <a:off x="6298920" y="3429000"/>
                <a:ext cx="194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nterfata cu disp. periferic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6946920" y="4076640"/>
                <a:ext cx="360000" cy="505080"/>
              </a:xfrm>
              <a:prstGeom prst="upDownArrow">
                <a:avLst>
                  <a:gd name="adj1" fmla="val 50000"/>
                  <a:gd name="adj2" fmla="val 27930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" name="Text Box 15"/>
            <p:cNvSpPr/>
            <p:nvPr/>
          </p:nvSpPr>
          <p:spPr>
            <a:xfrm>
              <a:off x="5508720" y="177336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gistrala siste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adrese, date comenzi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1C1-901A-4473-96D2-0A0E658D3C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stemul de întreruperi al calculatoarelor personale compatibile IBM PC 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controloare de intrerup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eruperi hardw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r de ce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astatu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nale seri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imprima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FDD/H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rete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reruperi softw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eruperi BIOS: tastatura, interfata video, canal serial, interfata de imprimanta, interfata flopp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eluri sistem (INT 21h): citire canal standard de intrare, scriere canal de iesire, citire/scriere disc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5B1C-8E0F-4BB6-8E61-592F84FE30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redirectare a unei intreruperi softw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744560"/>
            <a:ext cx="7927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W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 DUP(?)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aici se salvează vechiul vector d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initializa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3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35h-funcţie sistem pentru citirea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vectorului de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 n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n – nivelul de întrerupere redirec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apelul funcţiei sistem; funcţia returnează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în ES:BX adresa rutinei de la nivelul 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, B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alvare adresă offse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BX, 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VECT+2, B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alvare adresă segmen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X, SEG RUT_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DS &lt;- adresa de segment a noii rutine d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tratare a întreruperii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X, OFFSET RUT_INT   ; DX &lt;- adresa de offset a noii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rutine de întrerupere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25h - funcţia de scriere vector; î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DS:DX se pune adresa rutinei de întrer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n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n – nivel de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apelul funcţiei siste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progra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…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 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sfîrşit progra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X, VECT+2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refacerea adresei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X, VECT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funcţia de scriere vecto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L,n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n – nivel întrerupe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 înscrierea vechiului vector î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;tabela de intreruperi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9ABE-68DB-42D7-A2F2-D4E7BCACBD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in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rutina de tratare a întrerupe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UT_INT    PRO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A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noua rutina de tratare a intrerupe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USH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salvarea registrelor utilizate în cadru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rutinei (r = AX, BX, ….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validare întrerupe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corpul rutin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sfîrşitul rutine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; refacere registre salvat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R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UT_IN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D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5C1E-3FDA-429C-8007-8852123496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l 2 – programarea unei intreruperi hardw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A00 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dresa portului 0 din controlorul d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A01 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dresa portului 1 din controlorul d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O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manda de incheiere i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CA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1011111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scă pentru validarea intrării nr.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CA1  EQU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00100000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scă pentru invalidarea intrării nr.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itializar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validarea întreruperilor mascabi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X, SEG RUT_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S, A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OFFSET RUT_I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H, 25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25h - funcţia de scriere vec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5+8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5+8= nivel de întrerupere progra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adresa de bază a primului controlor de întreruperi este 8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apel de funcţie si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D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itire registru de masc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MASC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şterge bit mască pt. întreruperea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intrare d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întreruperi mascab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pr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DED-83BB-4758-84EB-FE02972BAE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inu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fîrşit pr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D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itire registru de masc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 MASCA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etează bitul mască pt. întreruperea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invalidarea intrării de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rutina de tratare a întreruper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T_INT  PROC   FAR       ; noua rutina de tratare a intreruper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SH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salvarea registrelor utilizate in cadr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validare întreruper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rp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…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sfîrşitul rutine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INTA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,EO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X, 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comandă de sfîrşit întrerup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refacere registre salv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T_I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A6B-8CB8-47C7-AA1D-2645D0A700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de principiu a unei interfete de intrare/ies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55640" y="1700280"/>
          <a:ext cx="8209080" cy="49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820908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A83-FC53-4943-948E-B248400F59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ponent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magistral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date (de intrare şi/sau ieşir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comenz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 de st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 de selecţie a registrelor (decodificato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spozitiv de comand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fata de dispozitiv periferic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oare/convertoare de semn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e tampon (RA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e de program (driv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e dispozitiv (floppy, HDD, video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trolor DM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DBC1-D0A1-406E-B06A-592EA26946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uri de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ctia principala a unei interfete: Transferul de d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ipuri de transfer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progra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intrerupe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acces direct la memorie (DM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ransfer prin procesor de intrare/iesi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ferite grade de implicare a procesorului princip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egerea modului de transfer optim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teza de transf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lexitatea transfer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trictii de timp si de co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281-0E18-4775-9043-D1EFC230E1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zele unui transf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itializarea transfer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ia de transfer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r. de date transferate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esa zonei de memorie unde/de unde se transfe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ferul propriu-z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ferul de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cronizarea transferului cu disp. Perife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lizarea transferul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rcin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rea corectitudinii transferulu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BD1F-9EC1-43CE-81B7-E2C15A97B8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ansferul prin prog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el mai simplu mod de transf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rdware simpl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gram simplu de transf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orul se ocupa de toate fazele transferului, pe baza unui program (rutina, driver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itializ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lizar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0B57-8C68-4726-A0EE-71272FB7A9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program – fara semnal de control (de reacti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f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100 DUP(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$-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lungimea buffer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rpor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QU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00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transf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si, offset 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poantor memori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dx, adrpor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adresă 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cx, lbuf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iniţializare co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transfer de d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t1: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citire port de int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v [si], al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memorare dat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 s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vans poant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ll delay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apel rutină de întîrzie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op et1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 buclare (testare încheiere transf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6DF-B701-4779-8E18-BBD9EC4707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mplu de program – cu semnal de control (de reacti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856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f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00 DUP(?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$-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lungimea bufferulu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drpor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00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drstare EQU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01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registru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sca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QU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01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mască pentru bitul D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out  EQU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00h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limită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transf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si, offset 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poantor memori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dx, adrpor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adresă po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cx, lbuf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iniţializare con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ransfer de dat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1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bx, timeou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iniţializare limită de timp pt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aştep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c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registru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2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itire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nd al, masca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are bit de st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t3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are bit de stare set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c b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decrementare contor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mp bx,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test depăşire limită de timp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t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mp sfîrşit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salt la sfîrşit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t3: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ec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dresă port de intr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 al, dx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itire por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v [si], 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memorare dată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c si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avans poanto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oop et1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; buclare (testare încheiere transfer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verificarea corectitudinii transferulu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fîrşit: cmp cx,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; se verifică dacă transferul s-a închei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nz eroar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; corect (contor=0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……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7:39:45Z</dcterms:created>
  <dc:creator>gheorghe.sebestyen</dc:creator>
  <dc:description/>
  <dc:language>en-US</dc:language>
  <cp:lastModifiedBy>sebi</cp:lastModifiedBy>
  <dcterms:modified xsi:type="dcterms:W3CDTF">2019-04-02T06:26:48Z</dcterms:modified>
  <cp:revision>17</cp:revision>
  <dc:subject/>
  <dc:title>Sisteme cu microproceso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