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A6DE-A0BF-4826-BEC1-D7ACF857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332-6EFA-4B92-9CCB-09D765DF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E780-531A-431B-834D-AE3AD9221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BEE4-138A-4B3D-9F8D-A37D1183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D75-DFE8-4B68-9F55-9DB25DCC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C856-9963-4E10-98CF-9B54FB93E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8685-71AB-4945-90E2-2889EC6D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F67-9027-4450-BD45-7B215AFB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E8C-2D4C-4D1E-B270-8CC128FA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86C-6359-48FB-9D36-CC7832B0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ACA-7598-4AF9-A7A0-7BD98905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8A8B-D7F1-4C04-91B4-20BEE9286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FBA-AB33-4D05-A057-9562E4A5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60B8-DEBF-4231-9410-5DFF16A8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B24E-C1E7-44B5-8B51-68AF4FBC3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F18-654B-4951-B37C-622B51866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3361-A665-4603-9C6D-134E8724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082D-6BA2-4ED1-9F65-E972DA5F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8FF-84BB-469B-B0FE-25A032D40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FD3-3CA0-46E6-9BE6-36D9D8775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6E2D-E102-40A2-A491-9D9432524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D9CF-CCD7-4CCB-9DD7-57AD42D1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E48-671F-495F-AA21-BE56BA5FD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48EB-0991-4FE3-B127-E5E3C7449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4C86-BBD9-4DFA-B355-F5B0B1B3F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BAC-4A99-4B2F-A6EB-962548CE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226-9A7B-4589-957A-44CDDED4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6CF-05A5-4EAA-96B8-C6852964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141-859E-4AFB-A7FB-23C16F0B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34D-804C-4789-8694-6EF2A76B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DD16-BCBA-414B-A8FE-01831562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B43-EA07-46FA-8271-78B3F58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E1D-87CD-4932-A3A7-8E8A5711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8BBB-ADA8-4981-8ABC-4E8D187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A1A4-5C66-4397-B559-69FABB77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75A-157F-4772-B633-E44D7D50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2EFC-0B42-4580-8A48-7DDCED3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A20-8943-499B-B89B-D5A945B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3995-A033-41D1-ADAD-5B88A5D6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EFBE-678B-4D43-A60E-CE02C5D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3048-6D32-41B7-A3C7-F11FA82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65EA-C0E7-4C87-8064-78E27CE9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823-B5AC-4012-A6E0-7C1FBAEF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217-F6DF-4276-93AD-C14D6AEF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579-3713-4D8A-895D-C8EE2065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876-92D5-490F-8701-084FB98F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C55-3533-4DE2-BA8B-EDF60F8E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37B-C8BD-4F2C-9731-A1946E0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4C2-6DD6-4722-92F3-A2D6442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17D-BFDE-4CA1-BCC9-EE82BE7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B35-5655-4CD3-8D0C-8AB129D0FD9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8FF4-73FC-48A4-84E4-DF9AFCA8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FF35-4430-4E2B-85E9-09F44665295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384C-631D-43E5-8A85-9F7BF369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569600"/>
            <a:ext cx="82612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Sisteme cu microprocesoar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C314-9210-435C-BF63-8830067D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tia a 4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Picture 3" descr="1971_intel4004"/>
          <p:cNvPicPr/>
          <p:nvPr/>
        </p:nvPicPr>
        <p:blipFill>
          <a:blip r:embed="rId1"/>
          <a:stretch/>
        </p:blipFill>
        <p:spPr>
          <a:xfrm>
            <a:off x="1143000" y="1219320"/>
            <a:ext cx="2819520" cy="2481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1752480" y="3352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 4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1979_vlsi"/>
          <p:cNvPicPr/>
          <p:nvPr/>
        </p:nvPicPr>
        <p:blipFill>
          <a:blip r:embed="rId2"/>
          <a:stretch/>
        </p:blipFill>
        <p:spPr>
          <a:xfrm>
            <a:off x="5791320" y="380880"/>
            <a:ext cx="2765160" cy="358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1984_ibmpcjr"/>
          <p:cNvPicPr/>
          <p:nvPr/>
        </p:nvPicPr>
        <p:blipFill>
          <a:blip r:embed="rId3"/>
          <a:stretch/>
        </p:blipFill>
        <p:spPr>
          <a:xfrm>
            <a:off x="5257800" y="38862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5562720" y="6477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8" descr="1977_apple"/>
          <p:cNvPicPr/>
          <p:nvPr/>
        </p:nvPicPr>
        <p:blipFill>
          <a:blip r:embed="rId4"/>
          <a:stretch/>
        </p:blipFill>
        <p:spPr>
          <a:xfrm>
            <a:off x="1066680" y="4022640"/>
            <a:ext cx="2163960" cy="2683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2767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357-A283-4828-BC01-11EE1DC10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tia a 4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7" name="Picture 3" descr="1973_tvtype"/>
          <p:cNvPicPr/>
          <p:nvPr/>
        </p:nvPicPr>
        <p:blipFill>
          <a:blip r:embed="rId1"/>
          <a:stretch/>
        </p:blipFill>
        <p:spPr>
          <a:xfrm>
            <a:off x="1219320" y="121932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1981_osborne"/>
          <p:cNvPicPr/>
          <p:nvPr/>
        </p:nvPicPr>
        <p:blipFill>
          <a:blip r:embed="rId2"/>
          <a:stretch/>
        </p:blipFill>
        <p:spPr>
          <a:xfrm>
            <a:off x="4648320" y="1143000"/>
            <a:ext cx="2286000" cy="1886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495680" y="2971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 portabil (Osbo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0666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. cu display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1987_ibmps2"/>
          <p:cNvPicPr/>
          <p:nvPr/>
        </p:nvPicPr>
        <p:blipFill>
          <a:blip r:embed="rId3"/>
          <a:stretch/>
        </p:blipFill>
        <p:spPr>
          <a:xfrm>
            <a:off x="1295280" y="373392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1752480" y="6095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P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1989_m68040"/>
          <p:cNvPicPr/>
          <p:nvPr/>
        </p:nvPicPr>
        <p:blipFill>
          <a:blip r:embed="rId4"/>
          <a:stretch/>
        </p:blipFill>
        <p:spPr>
          <a:xfrm>
            <a:off x="4876920" y="3581280"/>
            <a:ext cx="3276360" cy="26179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5334120" y="6172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 68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7EE-12CA-4488-9185-BE3A601A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tia a 4-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Picture 3" descr="bill_gates"/>
          <p:cNvPicPr/>
          <p:nvPr/>
        </p:nvPicPr>
        <p:blipFill>
          <a:blip r:embed="rId1"/>
          <a:stretch/>
        </p:blipFill>
        <p:spPr>
          <a:xfrm>
            <a:off x="914400" y="1295280"/>
            <a:ext cx="2638440" cy="32004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295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steve_jobs_and_steve_wozniak"/>
          <p:cNvPicPr/>
          <p:nvPr/>
        </p:nvPicPr>
        <p:blipFill>
          <a:blip r:embed="rId2"/>
          <a:stretch/>
        </p:blipFill>
        <p:spPr>
          <a:xfrm>
            <a:off x="3809880" y="1295280"/>
            <a:ext cx="4876920" cy="32194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4191120" y="4572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Jobs si Steve Woz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558B-422C-4EE7-8C63-CBCCAA07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a microprocesoare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08000" y="512640"/>
          <a:ext cx="7740720" cy="3017880"/>
        </p:xfrm>
        <a:graphic>
          <a:graphicData uri="http://schemas.openxmlformats.org/drawingml/2006/table">
            <a:tbl>
              <a:tblPr/>
              <a:tblGrid>
                <a:gridCol w="978120"/>
                <a:gridCol w="1217520"/>
                <a:gridCol w="961920"/>
                <a:gridCol w="1049400"/>
                <a:gridCol w="35337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8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pe 8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 de suc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6, 80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 pe 16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-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ul uP pe 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incorpo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P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P6 super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008000" y="3537000"/>
          <a:ext cx="7705800" cy="2835360"/>
        </p:xfrm>
        <a:graphic>
          <a:graphicData uri="http://schemas.openxmlformats.org/drawingml/2006/table">
            <a:tbl>
              <a:tblPr/>
              <a:tblGrid>
                <a:gridCol w="936720"/>
                <a:gridCol w="1224000"/>
                <a:gridCol w="936720"/>
                <a:gridCol w="1079280"/>
                <a:gridCol w="352908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NetBur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Hiper-th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. multicore (2 core-uri/ci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rocesoare/c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5, I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bi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To, 8Mo L3 ca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hitectura Nehalem, multicore si hyperthreading 4core-uri/8 multithread  cache 8Mo (L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4919-A54A-4F30-A6B5-1FCB6D6FE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79640" y="1089000"/>
          <a:ext cx="7705440" cy="4067280"/>
        </p:xfrm>
        <a:graphic>
          <a:graphicData uri="http://schemas.openxmlformats.org/drawingml/2006/table">
            <a:tbl>
              <a:tblPr/>
              <a:tblGrid>
                <a:gridCol w="936360"/>
                <a:gridCol w="1584360"/>
                <a:gridCol w="3167280"/>
                <a:gridCol w="1800000"/>
                <a:gridCol w="217440"/>
              </a:tblGrid>
              <a:tr h="33516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 pip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venta c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y bri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m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 (16-19 with fetch/ret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 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k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16 with fetch/ret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16 with fetch/ret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m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unified with branch prediction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tom microarchite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y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16 with fetch/ret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non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22320" bIns="223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a microprocesoare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6A59-5DAA-4386-96B2-469BE295C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olutia microprocesoarel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 familii de microprocesa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ola: 6800 (8 biti), 68000 (16 biti), 68020, 68030 (32 biti), 68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log: Z80, Z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as Instruments: -procesoare de semnal: TMS320c10/20/30/5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hip: microcontrolare: PIC12/16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PS, AR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1A0-E2FE-4D1E-94B1-2027F265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79640" y="944640"/>
            <a:ext cx="76327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arul de tranzistoare se dubleaza la fiecare 24/18 l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672000" y="4941720"/>
            <a:ext cx="1079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232000" y="5661000"/>
            <a:ext cx="863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7272360" y="2637000"/>
            <a:ext cx="15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ium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472000" y="3824280"/>
            <a:ext cx="115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824360" y="4257720"/>
            <a:ext cx="9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248000" y="4508640"/>
            <a:ext cx="75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6119640" y="3537000"/>
            <a:ext cx="17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3024360" y="5373720"/>
            <a:ext cx="90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492360" y="225360"/>
            <a:ext cx="33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ea lui M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6" descr="[&amp;ZeroWidthSpace;IMG]"/>
          <p:cNvPicPr/>
          <p:nvPr/>
        </p:nvPicPr>
        <p:blipFill>
          <a:blip r:embed="rId1"/>
          <a:stretch/>
        </p:blipFill>
        <p:spPr>
          <a:xfrm>
            <a:off x="74520" y="1452600"/>
            <a:ext cx="88822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3366"/>
                </a:solidFill>
                <a:latin typeface="Times New Roman"/>
              </a:rPr>
              <a:t>Limitele legii lui Mo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Picture 2" descr="Képtalálat a következ&amp;odblac;re: „moor's law”"/>
          <p:cNvPicPr/>
          <p:nvPr/>
        </p:nvPicPr>
        <p:blipFill>
          <a:blip r:embed="rId1"/>
          <a:stretch/>
        </p:blipFill>
        <p:spPr>
          <a:xfrm>
            <a:off x="216000" y="1484280"/>
            <a:ext cx="8928000" cy="48974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5587920" y="2133720"/>
            <a:ext cx="3313080" cy="3780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Limitarea frecventei de lucru (3-4 GH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Limitarea performantei pe un c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Limitarea  numarului de core-uri (4-8 pt. 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Limitarea pasului de integrare (10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Limitarea puterii consumate/disip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547640" y="1736640"/>
            <a:ext cx="63010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3366"/>
                </a:solidFill>
                <a:latin typeface="Times New Roman"/>
              </a:rPr>
              <a:t>Pasul de integr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Picture 2" descr="http://www.spinograph.org/sites/default/files/figure4.png"/>
          <p:cNvPicPr/>
          <p:nvPr/>
        </p:nvPicPr>
        <p:blipFill>
          <a:blip r:embed="rId1"/>
          <a:stretch/>
        </p:blipFill>
        <p:spPr>
          <a:xfrm>
            <a:off x="1187280" y="1521000"/>
            <a:ext cx="7056720" cy="3833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611280" y="551664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mensiunea unui atom= 0,1-0,5nm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35640" y="1665360"/>
            <a:ext cx="345744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BD0D-C144-4B65-BBAA-0ECD19EF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ndinte si perspective de evolutie a sistemelor bazate pe microproceso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66500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sterea gradului de integ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une mai mica a elementului de comutare (tranzistor): 35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terea numarului de tranzistoare/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oare - peste 1 miliard de tranzisto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ii – peste 64-512 miliar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rea puterii consu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e inteligenta a consu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ul dinamic al consumului: energie mai mare daca este nevoie si unde este nevo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ea frecventei de luc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hitecturi multicore si multi-th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2 core-uri/chip la 128 core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cturi simetrice si asimetrice (ex: Intel v.s. Pover 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-on-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ocuirea magistralelor paralele cu magistrale seriale – retele in interiorul proceso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3213-963F-46E8-BC72-84510A80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urt istor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a 0 – calculatoare mecanice – (??-19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 - 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. 17 – Pascal –masina de calcul pt. adunare si scad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. 17-18 – Leibnitz – masina pentru 4 operatii aritme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19 - Ch. Babbage (Cambridge)– masina diferentiala si masina analitica (Ada Byron-prima programato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 componente: memorie, unitate de calcul, cititor de cartele si perforator de car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putul sec.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rad Zus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Athanasoff - sistemul binar de nume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 Aiken – Mark I, 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bb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da_augusta_king"/>
          <p:cNvPicPr/>
          <p:nvPr/>
        </p:nvPicPr>
        <p:blipFill>
          <a:blip r:embed="rId1"/>
          <a:stretch/>
        </p:blipFill>
        <p:spPr>
          <a:xfrm>
            <a:off x="7086600" y="3962520"/>
            <a:ext cx="16462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30E0-62FF-42D1-9A8B-DFCB4CDB4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ndinte si perspective de evolutie a sistemelor bazate pe microproceso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7280" y="1736640"/>
            <a:ext cx="77551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rarhizarea memor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 multe nivele de memorie cache (in interiorul procesorul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ie virtu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rea cererilor de ac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i externe pe sili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ocuirea discurilor magnetice si optice cu memorii flash (pe silici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hitecturi multiproc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cturi paral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cturi distrib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ele de calcul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ul – resursa indispensabila pentru un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e fara f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oare mobile si porta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uri, tablete gra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A,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ane 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5C31-871F-4ECE-9032-C3F2AA83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arametri de performanta ai unui calculat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cventa de lucru,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arul de cicluri pe instructiune - 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arul mediu de instructiuni executate in unitatea de timp – MIPS, F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pul de executie al unu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pul de executie al unui set de tranzact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tea si viteza memor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tele dispozitivelor de I/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tea de comunicare (latime de banda, vite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BD6-A734-45EB-BC60-C2B22EFB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4920" y="456840"/>
            <a:ext cx="801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ura fizica a unui sistem cu microproces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79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simplific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3"/>
          <p:cNvGrpSpPr/>
          <p:nvPr/>
        </p:nvGrpSpPr>
        <p:grpSpPr>
          <a:xfrm>
            <a:off x="1187280" y="2313000"/>
            <a:ext cx="7524720" cy="4068720"/>
            <a:chOff x="1187280" y="2313000"/>
            <a:chExt cx="7524720" cy="4068720"/>
          </a:xfrm>
        </p:grpSpPr>
        <p:sp>
          <p:nvSpPr>
            <p:cNvPr id="254" name="Rectangle 4"/>
            <p:cNvSpPr/>
            <p:nvPr/>
          </p:nvSpPr>
          <p:spPr>
            <a:xfrm>
              <a:off x="1187280" y="2386080"/>
              <a:ext cx="900000" cy="237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1258560" y="299736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2087280" y="3502080"/>
              <a:ext cx="6624720" cy="179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087280" y="3933720"/>
              <a:ext cx="6624720" cy="17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2087280" y="4365720"/>
              <a:ext cx="6624720" cy="179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2842920" y="2313000"/>
              <a:ext cx="1044720" cy="826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4390920" y="2313000"/>
              <a:ext cx="1044360" cy="826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11"/>
            <p:cNvSpPr/>
            <p:nvPr/>
          </p:nvSpPr>
          <p:spPr>
            <a:xfrm>
              <a:off x="2987640" y="3141720"/>
              <a:ext cx="179280" cy="396720"/>
            </a:xfrm>
            <a:prstGeom prst="upDownArrow">
              <a:avLst>
                <a:gd name="adj1" fmla="val 50000"/>
                <a:gd name="adj2" fmla="val 440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12"/>
            <p:cNvSpPr/>
            <p:nvPr/>
          </p:nvSpPr>
          <p:spPr>
            <a:xfrm>
              <a:off x="3311280" y="3105000"/>
              <a:ext cx="144360" cy="828720"/>
            </a:xfrm>
            <a:prstGeom prst="upDownArrow">
              <a:avLst>
                <a:gd name="adj1" fmla="val 50000"/>
                <a:gd name="adj2" fmla="val 11428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13"/>
            <p:cNvSpPr/>
            <p:nvPr/>
          </p:nvSpPr>
          <p:spPr>
            <a:xfrm>
              <a:off x="5111640" y="3141720"/>
              <a:ext cx="142920" cy="1260360"/>
            </a:xfrm>
            <a:prstGeom prst="upDownArrow">
              <a:avLst>
                <a:gd name="adj1" fmla="val 50000"/>
                <a:gd name="adj2" fmla="val 175556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17"/>
            <p:cNvSpPr/>
            <p:nvPr/>
          </p:nvSpPr>
          <p:spPr>
            <a:xfrm>
              <a:off x="4498920" y="3141720"/>
              <a:ext cx="179280" cy="396720"/>
            </a:xfrm>
            <a:prstGeom prst="upDownArrow">
              <a:avLst>
                <a:gd name="adj1" fmla="val 50000"/>
                <a:gd name="adj2" fmla="val 440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18"/>
            <p:cNvSpPr/>
            <p:nvPr/>
          </p:nvSpPr>
          <p:spPr>
            <a:xfrm>
              <a:off x="4787640" y="3141720"/>
              <a:ext cx="144360" cy="828720"/>
            </a:xfrm>
            <a:prstGeom prst="upDownArrow">
              <a:avLst>
                <a:gd name="adj1" fmla="val 50000"/>
                <a:gd name="adj2" fmla="val 11428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9"/>
            <p:cNvSpPr/>
            <p:nvPr/>
          </p:nvSpPr>
          <p:spPr>
            <a:xfrm>
              <a:off x="3671640" y="3105000"/>
              <a:ext cx="142920" cy="1260720"/>
            </a:xfrm>
            <a:prstGeom prst="upDownArrow">
              <a:avLst>
                <a:gd name="adj1" fmla="val 50000"/>
                <a:gd name="adj2" fmla="val 175606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0"/>
            <p:cNvSpPr/>
            <p:nvPr/>
          </p:nvSpPr>
          <p:spPr>
            <a:xfrm>
              <a:off x="2842920" y="2386080"/>
              <a:ext cx="11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4319280" y="2386080"/>
              <a:ext cx="11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5435280" y="4834080"/>
              <a:ext cx="1295640" cy="36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23"/>
            <p:cNvSpPr/>
            <p:nvPr/>
          </p:nvSpPr>
          <p:spPr>
            <a:xfrm>
              <a:off x="5614920" y="4510080"/>
              <a:ext cx="180720" cy="324000"/>
            </a:xfrm>
            <a:prstGeom prst="upDownArrow">
              <a:avLst>
                <a:gd name="adj1" fmla="val 50000"/>
                <a:gd name="adj2" fmla="val 3569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24"/>
            <p:cNvSpPr/>
            <p:nvPr/>
          </p:nvSpPr>
          <p:spPr>
            <a:xfrm>
              <a:off x="5975280" y="4078440"/>
              <a:ext cx="180720" cy="792000"/>
            </a:xfrm>
            <a:prstGeom prst="upDownArrow">
              <a:avLst>
                <a:gd name="adj1" fmla="val 50000"/>
                <a:gd name="adj2" fmla="val 8724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25"/>
            <p:cNvSpPr/>
            <p:nvPr/>
          </p:nvSpPr>
          <p:spPr>
            <a:xfrm>
              <a:off x="6335640" y="3681360"/>
              <a:ext cx="179280" cy="1152720"/>
            </a:xfrm>
            <a:prstGeom prst="upDownArrow">
              <a:avLst>
                <a:gd name="adj1" fmla="val 50000"/>
                <a:gd name="adj2" fmla="val 12799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7091280" y="4870440"/>
              <a:ext cx="1295280" cy="36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27"/>
            <p:cNvSpPr/>
            <p:nvPr/>
          </p:nvSpPr>
          <p:spPr>
            <a:xfrm>
              <a:off x="7270560" y="4546440"/>
              <a:ext cx="181080" cy="324000"/>
            </a:xfrm>
            <a:prstGeom prst="upDownArrow">
              <a:avLst>
                <a:gd name="adj1" fmla="val 50000"/>
                <a:gd name="adj2" fmla="val 3562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28"/>
            <p:cNvSpPr/>
            <p:nvPr/>
          </p:nvSpPr>
          <p:spPr>
            <a:xfrm>
              <a:off x="7630920" y="4114800"/>
              <a:ext cx="181080" cy="792000"/>
            </a:xfrm>
            <a:prstGeom prst="upDownArrow">
              <a:avLst>
                <a:gd name="adj1" fmla="val 50000"/>
                <a:gd name="adj2" fmla="val 8707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29"/>
            <p:cNvSpPr/>
            <p:nvPr/>
          </p:nvSpPr>
          <p:spPr>
            <a:xfrm>
              <a:off x="7991280" y="3718080"/>
              <a:ext cx="179280" cy="1152360"/>
            </a:xfrm>
            <a:prstGeom prst="upDownArrow">
              <a:avLst>
                <a:gd name="adj1" fmla="val 50000"/>
                <a:gd name="adj2" fmla="val 127959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5398920" y="479736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ta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1"/>
            <p:cNvSpPr/>
            <p:nvPr/>
          </p:nvSpPr>
          <p:spPr>
            <a:xfrm>
              <a:off x="7019640" y="483408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ta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506920" y="5626080"/>
              <a:ext cx="115236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7235640" y="5626080"/>
              <a:ext cx="115236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7414920" y="5805360"/>
              <a:ext cx="115272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35"/>
            <p:cNvSpPr/>
            <p:nvPr/>
          </p:nvSpPr>
          <p:spPr>
            <a:xfrm>
              <a:off x="5686200" y="5805360"/>
              <a:ext cx="1152720" cy="57636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6011640" y="5194440"/>
              <a:ext cx="324000" cy="468360"/>
            </a:xfrm>
            <a:prstGeom prst="upDownArrow">
              <a:avLst>
                <a:gd name="adj1" fmla="val 50000"/>
                <a:gd name="adj2" fmla="val 2877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7667280" y="5194440"/>
              <a:ext cx="324000" cy="539640"/>
            </a:xfrm>
            <a:prstGeom prst="upDownArrow">
              <a:avLst>
                <a:gd name="adj1" fmla="val 50000"/>
                <a:gd name="adj2" fmla="val 3315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5722560" y="584208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.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7380000" y="587844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. I/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6000" y="314172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41"/>
            <p:cNvSpPr/>
            <p:nvPr/>
          </p:nvSpPr>
          <p:spPr>
            <a:xfrm>
              <a:off x="6803640" y="3610080"/>
              <a:ext cx="10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42"/>
            <p:cNvSpPr/>
            <p:nvPr/>
          </p:nvSpPr>
          <p:spPr>
            <a:xfrm>
              <a:off x="6443280" y="404172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enz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C7E7-41CF-4901-B6E3-BB433E14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uctura unui calculator perso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2303640" y="1484280"/>
            <a:ext cx="6445080" cy="4719960"/>
            <a:chOff x="2303640" y="1484280"/>
            <a:chExt cx="6445080" cy="4719960"/>
          </a:xfrm>
        </p:grpSpPr>
        <p:sp>
          <p:nvSpPr>
            <p:cNvPr id="293" name="Rectangle 4"/>
            <p:cNvSpPr/>
            <p:nvPr/>
          </p:nvSpPr>
          <p:spPr>
            <a:xfrm>
              <a:off x="4067280" y="1484280"/>
              <a:ext cx="1117440" cy="1081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5"/>
            <p:cNvSpPr/>
            <p:nvPr/>
          </p:nvSpPr>
          <p:spPr>
            <a:xfrm>
              <a:off x="4103640" y="162864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4067280" y="3068640"/>
              <a:ext cx="1117440" cy="900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067280" y="4581360"/>
              <a:ext cx="1117440" cy="90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9"/>
            <p:cNvSpPr/>
            <p:nvPr/>
          </p:nvSpPr>
          <p:spPr>
            <a:xfrm>
              <a:off x="2519280" y="3249720"/>
              <a:ext cx="1548000" cy="108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10"/>
            <p:cNvSpPr/>
            <p:nvPr/>
          </p:nvSpPr>
          <p:spPr>
            <a:xfrm>
              <a:off x="5184720" y="3249720"/>
              <a:ext cx="3167280" cy="108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2376360" y="2492280"/>
              <a:ext cx="971640" cy="541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2"/>
            <p:cNvSpPr/>
            <p:nvPr/>
          </p:nvSpPr>
          <p:spPr>
            <a:xfrm>
              <a:off x="4535640" y="2565360"/>
              <a:ext cx="144360" cy="539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4140360" y="3176640"/>
              <a:ext cx="97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p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4"/>
            <p:cNvSpPr/>
            <p:nvPr/>
          </p:nvSpPr>
          <p:spPr>
            <a:xfrm>
              <a:off x="2519280" y="5121360"/>
              <a:ext cx="1548000" cy="108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140360" y="4616280"/>
              <a:ext cx="97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p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5184720" y="5192640"/>
              <a:ext cx="3203640" cy="108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184720" y="4724280"/>
              <a:ext cx="3203640" cy="108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AutoShape 18"/>
            <p:cNvSpPr/>
            <p:nvPr/>
          </p:nvSpPr>
          <p:spPr>
            <a:xfrm>
              <a:off x="5832360" y="4221000"/>
              <a:ext cx="647640" cy="360360"/>
            </a:xfrm>
            <a:prstGeom prst="can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0"/>
            <p:cNvSpPr/>
            <p:nvPr/>
          </p:nvSpPr>
          <p:spPr>
            <a:xfrm>
              <a:off x="6084720" y="4581360"/>
              <a:ext cx="142920" cy="142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7093080" y="4581360"/>
              <a:ext cx="108000" cy="142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22"/>
            <p:cNvSpPr/>
            <p:nvPr/>
          </p:nvSpPr>
          <p:spPr>
            <a:xfrm>
              <a:off x="2303640" y="245736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V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23"/>
            <p:cNvSpPr/>
            <p:nvPr/>
          </p:nvSpPr>
          <p:spPr>
            <a:xfrm>
              <a:off x="2771640" y="3033720"/>
              <a:ext cx="108000" cy="25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4"/>
            <p:cNvSpPr/>
            <p:nvPr/>
          </p:nvSpPr>
          <p:spPr>
            <a:xfrm>
              <a:off x="3240000" y="28893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G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5"/>
            <p:cNvSpPr/>
            <p:nvPr/>
          </p:nvSpPr>
          <p:spPr>
            <a:xfrm>
              <a:off x="5904000" y="2529000"/>
              <a:ext cx="755640" cy="576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6877080" y="2529000"/>
              <a:ext cx="755640" cy="576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7"/>
            <p:cNvSpPr/>
            <p:nvPr/>
          </p:nvSpPr>
          <p:spPr>
            <a:xfrm>
              <a:off x="4535640" y="3968640"/>
              <a:ext cx="144360" cy="612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8"/>
            <p:cNvSpPr/>
            <p:nvPr/>
          </p:nvSpPr>
          <p:spPr>
            <a:xfrm>
              <a:off x="7632720" y="432900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29"/>
            <p:cNvSpPr/>
            <p:nvPr/>
          </p:nvSpPr>
          <p:spPr>
            <a:xfrm>
              <a:off x="6264360" y="3105000"/>
              <a:ext cx="71280" cy="216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30"/>
            <p:cNvSpPr/>
            <p:nvPr/>
          </p:nvSpPr>
          <p:spPr>
            <a:xfrm>
              <a:off x="7164360" y="3068640"/>
              <a:ext cx="71640" cy="216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31"/>
            <p:cNvSpPr/>
            <p:nvPr/>
          </p:nvSpPr>
          <p:spPr>
            <a:xfrm>
              <a:off x="5904000" y="24922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2"/>
            <p:cNvSpPr/>
            <p:nvPr/>
          </p:nvSpPr>
          <p:spPr>
            <a:xfrm>
              <a:off x="6840360" y="2565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33"/>
            <p:cNvSpPr/>
            <p:nvPr/>
          </p:nvSpPr>
          <p:spPr>
            <a:xfrm>
              <a:off x="6804000" y="4257720"/>
              <a:ext cx="828720" cy="323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4"/>
            <p:cNvSpPr/>
            <p:nvPr/>
          </p:nvSpPr>
          <p:spPr>
            <a:xfrm>
              <a:off x="6804000" y="4184640"/>
              <a:ext cx="8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35"/>
            <p:cNvSpPr/>
            <p:nvPr/>
          </p:nvSpPr>
          <p:spPr>
            <a:xfrm>
              <a:off x="5616720" y="5553000"/>
              <a:ext cx="863280" cy="216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>
              <a:off x="5940360" y="5265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37"/>
            <p:cNvSpPr/>
            <p:nvPr/>
          </p:nvSpPr>
          <p:spPr>
            <a:xfrm>
              <a:off x="5472000" y="573408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sta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38"/>
            <p:cNvSpPr/>
            <p:nvPr/>
          </p:nvSpPr>
          <p:spPr>
            <a:xfrm>
              <a:off x="7056360" y="5516640"/>
              <a:ext cx="252360" cy="3967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>
              <a:off x="7164360" y="5265720"/>
              <a:ext cx="0" cy="3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0"/>
            <p:cNvSpPr/>
            <p:nvPr/>
          </p:nvSpPr>
          <p:spPr>
            <a:xfrm>
              <a:off x="6732720" y="5805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F56-0FA1-4D7A-A53B-6CAA822F5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ructura stratificata a unui calculato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 multe nivele de abstractiz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 multe forme de acces la resursele unui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ina virtua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limbaj de progra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et de facili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masina Java, masina Basic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tea stratificar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re mai simpla, mai efic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tori de diferite categ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derea complexitatii prin descompunere functio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567F-ACB4-4D08-81EA-B737A3552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ructura stratificata a unui calculato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447920" y="1219320"/>
            <a:ext cx="3047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523880" y="1981080"/>
            <a:ext cx="304812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baje de nivel in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3880" y="2743200"/>
            <a:ext cx="304812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bajul de asamb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523880" y="3505320"/>
            <a:ext cx="304812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ul de ope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1523880" y="4267080"/>
            <a:ext cx="3048120" cy="459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ina convention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1523880" y="5029200"/>
            <a:ext cx="3048120" cy="4597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1523880" y="5791320"/>
            <a:ext cx="3048120" cy="45972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e digi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2"/>
          <p:cNvSpPr/>
          <p:nvPr/>
        </p:nvSpPr>
        <p:spPr>
          <a:xfrm>
            <a:off x="2666880" y="1676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2666880" y="39625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4"/>
          <p:cNvSpPr/>
          <p:nvPr/>
        </p:nvSpPr>
        <p:spPr>
          <a:xfrm>
            <a:off x="2666880" y="24382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2666880" y="3200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2666880" y="47242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7"/>
          <p:cNvSpPr/>
          <p:nvPr/>
        </p:nvSpPr>
        <p:spPr>
          <a:xfrm>
            <a:off x="2743200" y="5486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1447920" y="41911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64771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5530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2"/>
          <p:cNvSpPr/>
          <p:nvPr/>
        </p:nvSpPr>
        <p:spPr>
          <a:xfrm>
            <a:off x="5715000" y="6095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3"/>
          <p:cNvSpPr/>
          <p:nvPr/>
        </p:nvSpPr>
        <p:spPr>
          <a:xfrm flipV="1">
            <a:off x="6095880" y="5943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4"/>
          <p:cNvSpPr/>
          <p:nvPr/>
        </p:nvSpPr>
        <p:spPr>
          <a:xfrm>
            <a:off x="6095880" y="6248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4648320" y="4648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e (secvente microp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re (apeluri si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47242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if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4648320" y="304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 (asambl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4724280" y="2286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 (compil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0"/>
          <p:cNvSpPr/>
          <p:nvPr/>
        </p:nvSpPr>
        <p:spPr>
          <a:xfrm>
            <a:off x="4724280" y="1523880"/>
            <a:ext cx="4038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are si interpret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gregare, compi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5"/>
          <p:cNvSpPr/>
          <p:nvPr/>
        </p:nvSpPr>
        <p:spPr>
          <a:xfrm>
            <a:off x="76212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B8F-0132-4749-AB49-470F9A0F1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430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 generatie – 1945-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e: tuburi electro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3-46 – P. Eckert &amp; J. Mauchley – ENIAC – primul calc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00 tuburi, 1500 relee, 30 t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von Neumann – 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ul care a scris despre calcul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ul clasic de calculator: 5 compon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ie, UC, UAL, DI,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onn – teoria informat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te unitatea de inform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a = inversul entrop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n Turring – Colossus – modelul T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 variante: EDVAC, ILLIAC, MANIAC, Wirlwind, UNI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701,704,709 – primele calculatoare comer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ICC, CIFA, MECIPT – variante roman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4F3F-C960-4415-B834-2DD0997DF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 generatie de calculato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eckert_and_mauchly"/>
          <p:cNvPicPr/>
          <p:nvPr/>
        </p:nvPicPr>
        <p:blipFill>
          <a:blip r:embed="rId1"/>
          <a:stretch/>
        </p:blipFill>
        <p:spPr>
          <a:xfrm>
            <a:off x="1371600" y="1447920"/>
            <a:ext cx="1714680" cy="2000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2193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kart&amp;Mauch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Neuman_calc"/>
          <p:cNvPicPr/>
          <p:nvPr/>
        </p:nvPicPr>
        <p:blipFill>
          <a:blip r:embed="rId2"/>
          <a:stretch/>
        </p:blipFill>
        <p:spPr>
          <a:xfrm>
            <a:off x="4114800" y="1371600"/>
            <a:ext cx="3978360" cy="2746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4495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von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3" descr="1951_univac"/>
          <p:cNvPicPr/>
          <p:nvPr/>
        </p:nvPicPr>
        <p:blipFill>
          <a:blip r:embed="rId3"/>
          <a:stretch/>
        </p:blipFill>
        <p:spPr>
          <a:xfrm>
            <a:off x="4267080" y="4495680"/>
            <a:ext cx="3657600" cy="2125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6553080" y="6095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5" descr="1948_shannon"/>
          <p:cNvPicPr/>
          <p:nvPr/>
        </p:nvPicPr>
        <p:blipFill>
          <a:blip r:embed="rId4"/>
          <a:stretch/>
        </p:blipFill>
        <p:spPr>
          <a:xfrm>
            <a:off x="1371600" y="4038480"/>
            <a:ext cx="1693800" cy="2210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152388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o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340-82E8-444A-B125-66A86286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 generatie de calculato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niac"/>
          <p:cNvPicPr/>
          <p:nvPr/>
        </p:nvPicPr>
        <p:blipFill>
          <a:blip r:embed="rId1"/>
          <a:stretch/>
        </p:blipFill>
        <p:spPr>
          <a:xfrm>
            <a:off x="1295280" y="1447920"/>
            <a:ext cx="3276720" cy="2643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37160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ADVAC"/>
          <p:cNvPicPr/>
          <p:nvPr/>
        </p:nvPicPr>
        <p:blipFill>
          <a:blip r:embed="rId2"/>
          <a:stretch/>
        </p:blipFill>
        <p:spPr>
          <a:xfrm>
            <a:off x="4800600" y="1447920"/>
            <a:ext cx="3657600" cy="3365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7150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1953_IBM701"/>
          <p:cNvPicPr/>
          <p:nvPr/>
        </p:nvPicPr>
        <p:blipFill>
          <a:blip r:embed="rId3"/>
          <a:stretch/>
        </p:blipFill>
        <p:spPr>
          <a:xfrm>
            <a:off x="1295280" y="4952880"/>
            <a:ext cx="4114800" cy="170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54864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CE3-BCF7-4242-B94E-085F7BE7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324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ratia a doua – 1955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a: tranzisto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&amp;Brattain – primul tranzistor (Bell l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ul calculator tranzistorizat: TX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7090 – varianta tranzistorizata, IBM 14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lwind –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P-1, PDP-8, firma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C 6600 – primul calculator para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A – calc. romane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954_point"/>
          <p:cNvPicPr/>
          <p:nvPr/>
        </p:nvPicPr>
        <p:blipFill>
          <a:blip r:embed="rId1"/>
          <a:stretch/>
        </p:blipFill>
        <p:spPr>
          <a:xfrm>
            <a:off x="762120" y="4419720"/>
            <a:ext cx="1785960" cy="190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1956_tx0"/>
          <p:cNvPicPr/>
          <p:nvPr/>
        </p:nvPicPr>
        <p:blipFill>
          <a:blip r:embed="rId2"/>
          <a:stretch/>
        </p:blipFill>
        <p:spPr>
          <a:xfrm>
            <a:off x="2971800" y="441972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3733920" y="6400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-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1960_pdp_1"/>
          <p:cNvPicPr/>
          <p:nvPr/>
        </p:nvPicPr>
        <p:blipFill>
          <a:blip r:embed="rId3"/>
          <a:stretch/>
        </p:blipFill>
        <p:spPr>
          <a:xfrm>
            <a:off x="6248520" y="4267080"/>
            <a:ext cx="2666880" cy="2090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708660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P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858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ul tranz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C352-DF61-4AFE-9F70-94A6552D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tia a treia – 1965-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a: circuite inte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i de calculato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frame: IBM 360, IBM 3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: PDP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oare roman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ix c-256, c-512, c-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, Coral – copiaza PDP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unatati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uni m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i de capacitate mai mare (256k-512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ferice 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a de tip display (PD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460-E015-41EE-88D4-646F72BE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eneratia a trei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4" name="Picture 3" descr="1958_integratedcircuit"/>
          <p:cNvPicPr/>
          <p:nvPr/>
        </p:nvPicPr>
        <p:blipFill>
          <a:blip r:embed="rId1"/>
          <a:stretch/>
        </p:blipFill>
        <p:spPr>
          <a:xfrm>
            <a:off x="1295280" y="14479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21932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ul circuit integ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1968_apollo"/>
          <p:cNvPicPr/>
          <p:nvPr/>
        </p:nvPicPr>
        <p:blipFill>
          <a:blip r:embed="rId2"/>
          <a:stretch/>
        </p:blipFill>
        <p:spPr>
          <a:xfrm>
            <a:off x="4876920" y="609480"/>
            <a:ext cx="2286000" cy="2629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5105520" y="3276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7" descr="1966_hp2115"/>
          <p:cNvPicPr/>
          <p:nvPr/>
        </p:nvPicPr>
        <p:blipFill>
          <a:blip r:embed="rId3"/>
          <a:stretch/>
        </p:blipFill>
        <p:spPr>
          <a:xfrm>
            <a:off x="1371600" y="3886200"/>
            <a:ext cx="2286000" cy="2560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295280" y="6324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or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0" descr="1972_hp35"/>
          <p:cNvPicPr/>
          <p:nvPr/>
        </p:nvPicPr>
        <p:blipFill>
          <a:blip r:embed="rId4"/>
          <a:stretch/>
        </p:blipFill>
        <p:spPr>
          <a:xfrm>
            <a:off x="7086600" y="3429000"/>
            <a:ext cx="1676520" cy="2849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70102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 (197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2" descr="1967_seymour"/>
          <p:cNvPicPr/>
          <p:nvPr/>
        </p:nvPicPr>
        <p:blipFill>
          <a:blip r:embed="rId5"/>
          <a:stretch/>
        </p:blipFill>
        <p:spPr>
          <a:xfrm>
            <a:off x="4267080" y="38862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4038480" y="5867280"/>
            <a:ext cx="26672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mour –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394-EB65-443E-A8E9-14F40A149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tia a 4-a 1975-90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hnologia: VL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aje: viteza, grad ridicat de integrare, fiabilitate mare, cost redus, dimensiuni 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itia primului microprocesor - Intel 4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e de memorie ROM, RAM, DRAM de capacitate mare (1-16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itia microcalculatoarelor – care au la baza un microproc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itia calculatoarelor person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-computer: ZX81,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: IBM-PC, XT, AT, Apple, Machinto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oare romane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 M18, PRAE, aMIC, Felix PC, Telerom-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5:46:58Z</dcterms:created>
  <dc:creator>gyuszi</dc:creator>
  <dc:description/>
  <dc:language>en-US</dc:language>
  <cp:lastModifiedBy>Sebastian Petru Sabou</cp:lastModifiedBy>
  <dcterms:modified xsi:type="dcterms:W3CDTF">2022-02-25T12:55:42Z</dcterms:modified>
  <cp:revision>62</cp:revision>
  <dc:subject/>
  <dc:title>Arhitectura calculatoarelor</dc:title>
</cp:coreProperties>
</file>