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4D0D-844B-4886-82A3-90A292BE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B2F5-BD63-4A7E-8A9E-2FC8984F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9841-FDD1-403D-9FDC-E72B266C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BF84-2F0E-4072-B6AB-88970167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74A5-4C70-4D3A-9114-B2A9953C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A284-D08F-4195-9135-707FA7A7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7CB5-F222-412F-AD93-720ADCD0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A560-8AFE-434F-B203-2C428A5F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5169-E4F2-4783-913D-B284F50C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2B71-D231-4C1A-B8A5-AD2EDA3A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770D-96DB-4099-BF12-01893840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6DF4-3F04-427C-AD3D-7A73C10B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CF90-9F6A-48B1-B69F-BDB236E6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F4C6-79E9-442C-9E0A-C6442B37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C242-1CAF-4DF6-A0A8-A0384905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594D-AFC8-443D-B37D-0873E0CF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813D-1C01-49D0-AC54-A7FE3E4F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C537-7DF8-4D82-B6D4-37255DC7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BD56-CDAD-47E1-AB2D-D7F3F378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DDCF-8A42-4BC3-BD92-DA5678C5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FEEF-7C26-4198-9629-4577A54E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4CF6-4B4E-47D0-B3D7-C34A6DB5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AD02-E4D0-45B2-9F4E-97EA9DE5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B482-A6D6-4F58-AE38-DB0D2502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BAC3-B69C-4DF8-8071-77368ED7CC5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3DBD-A41D-433D-9447-81A8126E24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isteme cu microprocesoare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ursul 3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uctura unui calculat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6C3C-4633-4A2B-B4BD-30274CE830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xemplu de arhitectura pipel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882720" y="1916280"/>
            <a:ext cx="7576560" cy="4947840"/>
            <a:chOff x="882720" y="1916280"/>
            <a:chExt cx="7576560" cy="4947840"/>
          </a:xfrm>
        </p:grpSpPr>
        <p:sp>
          <p:nvSpPr>
            <p:cNvPr id="627" name=""/>
            <p:cNvSpPr/>
            <p:nvPr/>
          </p:nvSpPr>
          <p:spPr>
            <a:xfrm>
              <a:off x="1407600" y="2304720"/>
              <a:ext cx="655920" cy="12189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412360" y="2274480"/>
              <a:ext cx="36432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286800" y="2202840"/>
              <a:ext cx="582480" cy="12189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16200000">
              <a:off x="4389840" y="2701440"/>
              <a:ext cx="1290960" cy="437040"/>
            </a:xfrm>
            <a:custGeom>
              <a:avLst/>
              <a:gdLst/>
              <a:ahLst/>
              <a:rect l="l" t="t" r="r" b="b"/>
              <a:pathLst>
                <a:path w="1026" h="456">
                  <a:moveTo>
                    <a:pt x="114" y="0"/>
                  </a:moveTo>
                  <a:lnTo>
                    <a:pt x="399" y="0"/>
                  </a:lnTo>
                  <a:lnTo>
                    <a:pt x="513" y="171"/>
                  </a:lnTo>
                  <a:lnTo>
                    <a:pt x="627" y="0"/>
                  </a:lnTo>
                  <a:lnTo>
                    <a:pt x="1026" y="0"/>
                  </a:lnTo>
                  <a:lnTo>
                    <a:pt x="684" y="456"/>
                  </a:lnTo>
                  <a:lnTo>
                    <a:pt x="399" y="456"/>
                  </a:lnTo>
                  <a:lnTo>
                    <a:pt x="0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201000" y="2274480"/>
              <a:ext cx="655560" cy="12189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6200000">
              <a:off x="1184400" y="4638600"/>
              <a:ext cx="1290600" cy="582840"/>
            </a:xfrm>
            <a:custGeom>
              <a:avLst/>
              <a:gdLst/>
              <a:ahLst/>
              <a:rect l="l" t="t" r="r" b="b"/>
              <a:pathLst>
                <a:path w="1026" h="456">
                  <a:moveTo>
                    <a:pt x="114" y="0"/>
                  </a:moveTo>
                  <a:lnTo>
                    <a:pt x="399" y="0"/>
                  </a:lnTo>
                  <a:lnTo>
                    <a:pt x="513" y="171"/>
                  </a:lnTo>
                  <a:lnTo>
                    <a:pt x="627" y="0"/>
                  </a:lnTo>
                  <a:lnTo>
                    <a:pt x="1026" y="0"/>
                  </a:lnTo>
                  <a:lnTo>
                    <a:pt x="684" y="456"/>
                  </a:lnTo>
                  <a:lnTo>
                    <a:pt x="399" y="456"/>
                  </a:lnTo>
                  <a:lnTo>
                    <a:pt x="0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412360" y="4282560"/>
              <a:ext cx="36432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048400" y="2919960"/>
              <a:ext cx="36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776680" y="2919960"/>
              <a:ext cx="51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452480" y="2489760"/>
              <a:ext cx="379440" cy="2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452480" y="3278520"/>
              <a:ext cx="36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836680" y="2848320"/>
              <a:ext cx="36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31000" y="2274480"/>
              <a:ext cx="582840" cy="12189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856560" y="2848320"/>
              <a:ext cx="36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2121120" y="4856040"/>
              <a:ext cx="2912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028160" y="5217480"/>
              <a:ext cx="50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73960" y="4715280"/>
              <a:ext cx="36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339640" y="2489760"/>
              <a:ext cx="582840" cy="107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339640" y="4354560"/>
              <a:ext cx="801360" cy="13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262160" y="2233080"/>
              <a:ext cx="94680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M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inst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055200" y="2202840"/>
              <a:ext cx="947160" cy="93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M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47040" y="2704680"/>
              <a:ext cx="123840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dr in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213720" y="2202840"/>
              <a:ext cx="8744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loc reg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82720" y="4643640"/>
              <a:ext cx="80136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+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585200" y="2274480"/>
              <a:ext cx="87408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loc reg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4671000" y="1987560"/>
              <a:ext cx="15120" cy="3985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5982480" y="1916280"/>
              <a:ext cx="15120" cy="40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7584840" y="1987560"/>
              <a:ext cx="14760" cy="3985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882720" y="2059200"/>
              <a:ext cx="15120" cy="398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8386560" y="1987560"/>
              <a:ext cx="15120" cy="3985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055200" y="2633040"/>
              <a:ext cx="101988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dr 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055200" y="2991600"/>
              <a:ext cx="94716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D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392480" y="5645160"/>
              <a:ext cx="706680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I                            DI                  Ex              Mem            Sc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339640" y="6290640"/>
              <a:ext cx="458964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Figur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6.8 UCP în structură pipe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160880" y="2059200"/>
              <a:ext cx="291240" cy="71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160880" y="2848320"/>
              <a:ext cx="291240" cy="71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160880" y="3708720"/>
              <a:ext cx="29124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3067920" y="1987560"/>
              <a:ext cx="14760" cy="3985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545440" y="2489760"/>
              <a:ext cx="291240" cy="71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253840" y="2848320"/>
              <a:ext cx="29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69280" y="2489760"/>
              <a:ext cx="29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69280" y="3278520"/>
              <a:ext cx="29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776680" y="3063240"/>
              <a:ext cx="1384200" cy="788760"/>
            </a:xfrm>
            <a:custGeom>
              <a:avLst/>
              <a:gdLst/>
              <a:ahLst/>
              <a:rect l="l" t="t" r="r" b="b"/>
              <a:pathLst>
                <a:path w="1083" h="627">
                  <a:moveTo>
                    <a:pt x="0" y="0"/>
                  </a:moveTo>
                  <a:lnTo>
                    <a:pt x="307" y="2"/>
                  </a:lnTo>
                  <a:lnTo>
                    <a:pt x="318" y="624"/>
                  </a:lnTo>
                  <a:lnTo>
                    <a:pt x="1083" y="62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028160" y="2919960"/>
              <a:ext cx="1893960" cy="2724840"/>
            </a:xfrm>
            <a:custGeom>
              <a:avLst/>
              <a:gdLst/>
              <a:ahLst/>
              <a:rect l="l" t="t" r="r" b="b"/>
              <a:pathLst>
                <a:path w="1482" h="2166">
                  <a:moveTo>
                    <a:pt x="1368" y="1539"/>
                  </a:moveTo>
                  <a:lnTo>
                    <a:pt x="1482" y="1539"/>
                  </a:lnTo>
                  <a:lnTo>
                    <a:pt x="1482" y="2166"/>
                  </a:lnTo>
                  <a:lnTo>
                    <a:pt x="0" y="2166"/>
                  </a:lnTo>
                  <a:lnTo>
                    <a:pt x="0" y="0"/>
                  </a:lnTo>
                  <a:lnTo>
                    <a:pt x="28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247040" y="3852360"/>
              <a:ext cx="3351240" cy="645120"/>
            </a:xfrm>
            <a:custGeom>
              <a:avLst/>
              <a:gdLst/>
              <a:ahLst/>
              <a:rect l="l" t="t" r="r" b="b"/>
              <a:pathLst>
                <a:path w="2622" h="513">
                  <a:moveTo>
                    <a:pt x="2508" y="0"/>
                  </a:moveTo>
                  <a:lnTo>
                    <a:pt x="2622" y="0"/>
                  </a:lnTo>
                  <a:lnTo>
                    <a:pt x="2622" y="228"/>
                  </a:lnTo>
                  <a:lnTo>
                    <a:pt x="0" y="228"/>
                  </a:lnTo>
                  <a:lnTo>
                    <a:pt x="0" y="513"/>
                  </a:lnTo>
                  <a:lnTo>
                    <a:pt x="228" y="51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598280" y="3493800"/>
              <a:ext cx="218520" cy="358560"/>
            </a:xfrm>
            <a:custGeom>
              <a:avLst/>
              <a:gdLst/>
              <a:ahLst/>
              <a:rect l="l" t="t" r="r" b="b"/>
              <a:pathLst>
                <a:path w="171" h="285">
                  <a:moveTo>
                    <a:pt x="0" y="285"/>
                  </a:moveTo>
                  <a:lnTo>
                    <a:pt x="0" y="0"/>
                  </a:lnTo>
                  <a:lnTo>
                    <a:pt x="17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220880" y="2418120"/>
              <a:ext cx="291240" cy="71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512120" y="2848320"/>
              <a:ext cx="21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909400" y="2131200"/>
              <a:ext cx="1311480" cy="716760"/>
            </a:xfrm>
            <a:custGeom>
              <a:avLst/>
              <a:gdLst/>
              <a:ahLst/>
              <a:rect l="l" t="t" r="r" b="b"/>
              <a:pathLst>
                <a:path w="1026" h="570">
                  <a:moveTo>
                    <a:pt x="0" y="570"/>
                  </a:moveTo>
                  <a:lnTo>
                    <a:pt x="0" y="0"/>
                  </a:lnTo>
                  <a:lnTo>
                    <a:pt x="855" y="0"/>
                  </a:lnTo>
                  <a:lnTo>
                    <a:pt x="855" y="342"/>
                  </a:lnTo>
                  <a:lnTo>
                    <a:pt x="1026" y="34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15080" y="2131200"/>
              <a:ext cx="58284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15080" y="2919960"/>
              <a:ext cx="58284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99640" y="2561400"/>
              <a:ext cx="58284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088160" y="3637080"/>
              <a:ext cx="58248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075080" y="2418120"/>
              <a:ext cx="582840" cy="7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545440" y="3278520"/>
              <a:ext cx="291240" cy="71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99640" y="3278520"/>
              <a:ext cx="582840" cy="6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942360" y="3278520"/>
              <a:ext cx="1602720" cy="358560"/>
            </a:xfrm>
            <a:custGeom>
              <a:avLst/>
              <a:gdLst/>
              <a:ahLst/>
              <a:rect l="l" t="t" r="r" b="b"/>
              <a:pathLst>
                <a:path w="1254" h="285">
                  <a:moveTo>
                    <a:pt x="0" y="0"/>
                  </a:moveTo>
                  <a:lnTo>
                    <a:pt x="0" y="285"/>
                  </a:lnTo>
                  <a:lnTo>
                    <a:pt x="1254" y="2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160880" y="4354560"/>
              <a:ext cx="364320" cy="93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86800" y="4426200"/>
              <a:ext cx="437040" cy="8604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213720" y="4354560"/>
              <a:ext cx="8013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76680" y="3350520"/>
              <a:ext cx="728640" cy="1075320"/>
            </a:xfrm>
            <a:custGeom>
              <a:avLst/>
              <a:gdLst/>
              <a:ahLst/>
              <a:rect l="l" t="t" r="r" b="b"/>
              <a:pathLst>
                <a:path w="570" h="855">
                  <a:moveTo>
                    <a:pt x="0" y="0"/>
                  </a:moveTo>
                  <a:lnTo>
                    <a:pt x="171" y="0"/>
                  </a:lnTo>
                  <a:lnTo>
                    <a:pt x="171" y="513"/>
                  </a:lnTo>
                  <a:lnTo>
                    <a:pt x="570" y="513"/>
                  </a:lnTo>
                  <a:lnTo>
                    <a:pt x="570" y="85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723840" y="4856400"/>
              <a:ext cx="43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015080" y="4282560"/>
              <a:ext cx="728640" cy="12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e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sc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525560" y="4210920"/>
              <a:ext cx="655560" cy="286560"/>
            </a:xfrm>
            <a:custGeom>
              <a:avLst/>
              <a:gdLst/>
              <a:ahLst/>
              <a:rect l="l" t="t" r="r" b="b"/>
              <a:pathLst>
                <a:path w="513" h="228">
                  <a:moveTo>
                    <a:pt x="0" y="228"/>
                  </a:moveTo>
                  <a:lnTo>
                    <a:pt x="513" y="228"/>
                  </a:lnTo>
                  <a:lnTo>
                    <a:pt x="5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472360" y="4712760"/>
              <a:ext cx="364320" cy="57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326920" y="4569480"/>
              <a:ext cx="874080" cy="7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sc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25560" y="4999680"/>
              <a:ext cx="94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836680" y="4497480"/>
              <a:ext cx="655560" cy="286920"/>
            </a:xfrm>
            <a:custGeom>
              <a:avLst/>
              <a:gdLst/>
              <a:ahLst/>
              <a:rect l="l" t="t" r="r" b="b"/>
              <a:pathLst>
                <a:path w="513" h="228">
                  <a:moveTo>
                    <a:pt x="0" y="228"/>
                  </a:moveTo>
                  <a:lnTo>
                    <a:pt x="513" y="228"/>
                  </a:lnTo>
                  <a:lnTo>
                    <a:pt x="5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002360" y="4999680"/>
              <a:ext cx="363960" cy="28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836680" y="5143320"/>
              <a:ext cx="116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366680" y="4856400"/>
              <a:ext cx="655920" cy="286920"/>
            </a:xfrm>
            <a:custGeom>
              <a:avLst/>
              <a:gdLst/>
              <a:ahLst/>
              <a:rect l="l" t="t" r="r" b="b"/>
              <a:pathLst>
                <a:path w="513" h="228">
                  <a:moveTo>
                    <a:pt x="0" y="228"/>
                  </a:moveTo>
                  <a:lnTo>
                    <a:pt x="513" y="228"/>
                  </a:lnTo>
                  <a:lnTo>
                    <a:pt x="5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856560" y="4856400"/>
              <a:ext cx="72864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sc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836680" y="3206880"/>
              <a:ext cx="364320" cy="430200"/>
            </a:xfrm>
            <a:custGeom>
              <a:avLst/>
              <a:gdLst/>
              <a:ahLst/>
              <a:rect l="l" t="t" r="r" b="b"/>
              <a:pathLst>
                <a:path w="285" h="342">
                  <a:moveTo>
                    <a:pt x="0" y="342"/>
                  </a:moveTo>
                  <a:lnTo>
                    <a:pt x="171" y="342"/>
                  </a:lnTo>
                  <a:lnTo>
                    <a:pt x="171" y="0"/>
                  </a:lnTo>
                  <a:lnTo>
                    <a:pt x="28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015080" y="5175720"/>
              <a:ext cx="80136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326920" y="5175720"/>
              <a:ext cx="80100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856560" y="5175720"/>
              <a:ext cx="80136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8214-4DBA-4654-99B9-D4F93E3FAD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ituatii de hazard in arhitecturile paralel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azardul de d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pendenta de date intre instructiuni consecu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lutionare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i de asteptare, multiplicarea registrelor, reordonarea instructiuni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684360" y="4437000"/>
            <a:ext cx="8283600" cy="1584360"/>
            <a:chOff x="684360" y="4437000"/>
            <a:chExt cx="8283600" cy="1584360"/>
          </a:xfrm>
        </p:grpSpPr>
        <p:sp>
          <p:nvSpPr>
            <p:cNvPr id="706" name=""/>
            <p:cNvSpPr/>
            <p:nvPr/>
          </p:nvSpPr>
          <p:spPr>
            <a:xfrm>
              <a:off x="684360" y="4508280"/>
              <a:ext cx="44280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127160" y="4508280"/>
              <a:ext cx="44136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568520" y="4508280"/>
              <a:ext cx="44316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11680" y="4508280"/>
              <a:ext cx="44136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453040" y="4508280"/>
              <a:ext cx="44280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84360" y="4437000"/>
              <a:ext cx="81043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I     DI     Ex    Mem   Scr                                      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MOV      AX, 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127160" y="4933800"/>
              <a:ext cx="44136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68520" y="4933800"/>
              <a:ext cx="443160" cy="236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11680" y="4933800"/>
              <a:ext cx="441360" cy="236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453040" y="4933800"/>
              <a:ext cx="442800" cy="236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895840" y="4933800"/>
              <a:ext cx="44136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337200" y="4933800"/>
              <a:ext cx="44280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780000" y="4933800"/>
              <a:ext cx="44136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44720" y="4868640"/>
              <a:ext cx="79232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I                              DI     Ex    Scr                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DD       BX, A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705400" y="4744800"/>
              <a:ext cx="25236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568520" y="5359320"/>
              <a:ext cx="443160" cy="236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011680" y="5359320"/>
              <a:ext cx="441360" cy="236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53040" y="5359320"/>
              <a:ext cx="442800" cy="236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95840" y="5359320"/>
              <a:ext cx="44136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37200" y="5359320"/>
              <a:ext cx="44280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780000" y="5359320"/>
              <a:ext cx="44136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21360" y="5359320"/>
              <a:ext cx="44280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476720" y="5300280"/>
              <a:ext cx="731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                       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I     DI     Ex      Scr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UB     CX,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011680" y="5784480"/>
              <a:ext cx="441360" cy="236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453040" y="5784480"/>
              <a:ext cx="442800" cy="236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895840" y="5784480"/>
              <a:ext cx="441360" cy="236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337200" y="5784480"/>
              <a:ext cx="442800" cy="23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780000" y="5784480"/>
              <a:ext cx="441360" cy="236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221360" y="5784480"/>
              <a:ext cx="442800" cy="236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664160" y="5784480"/>
              <a:ext cx="441360" cy="23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105520" y="5784480"/>
              <a:ext cx="442800" cy="23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548320" y="5784480"/>
              <a:ext cx="441360" cy="23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947960" y="5736960"/>
              <a:ext cx="65484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                        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I                      DI     Ex   Mem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     DX, C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473720" y="5595840"/>
              <a:ext cx="25416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E9B5-88F4-4391-BD75-43C3852F7A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ituatii de hazard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azardul de contro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atorat instructiunilor de sal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lutionare: predictia salturilor, memorarea salturilor anterio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755640" y="3429000"/>
            <a:ext cx="7848720" cy="2952720"/>
            <a:chOff x="755640" y="3429000"/>
            <a:chExt cx="7848720" cy="2952720"/>
          </a:xfrm>
        </p:grpSpPr>
        <p:sp>
          <p:nvSpPr>
            <p:cNvPr id="743" name=""/>
            <p:cNvSpPr/>
            <p:nvPr/>
          </p:nvSpPr>
          <p:spPr>
            <a:xfrm>
              <a:off x="3425760" y="3602160"/>
              <a:ext cx="565920" cy="43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992040" y="3602160"/>
              <a:ext cx="566280" cy="43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558320" y="3602160"/>
              <a:ext cx="565920" cy="43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92040" y="4123440"/>
              <a:ext cx="566280" cy="43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8320" y="4123440"/>
              <a:ext cx="565920" cy="43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59920" y="3515400"/>
              <a:ext cx="453096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JE   et1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                      CI       DI      Ex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558320" y="4644720"/>
              <a:ext cx="565920" cy="43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24600" y="4123440"/>
              <a:ext cx="566280" cy="43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691240" y="4123440"/>
              <a:ext cx="565920" cy="43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124600" y="4644720"/>
              <a:ext cx="566280" cy="43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91240" y="4644720"/>
              <a:ext cx="565920" cy="43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57520" y="4644720"/>
              <a:ext cx="566280" cy="43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159920" y="4036680"/>
              <a:ext cx="566388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DD  AX, BX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            CI      DI       Ex    Scr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59920" y="4557600"/>
              <a:ext cx="64728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B  CX, DX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            CI       DI     Ex     Scr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45560" y="4991760"/>
              <a:ext cx="210348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............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124600" y="5599800"/>
              <a:ext cx="566280" cy="43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691240" y="5599800"/>
              <a:ext cx="565920" cy="43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257520" y="5599800"/>
              <a:ext cx="566280" cy="43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124600" y="3429000"/>
              <a:ext cx="0" cy="295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824160" y="5599800"/>
              <a:ext cx="565920" cy="43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90440" y="5599800"/>
              <a:ext cx="566280" cy="43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55640" y="5513040"/>
              <a:ext cx="784872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t1: MOV SI, 1234h   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                          CI       DI     Ex    Mem   Scr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881960" y="4036680"/>
              <a:ext cx="242640" cy="156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881960" y="4036680"/>
              <a:ext cx="24264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C447-FF15-4DDE-B832-856EF4680A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ituatii de hazar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azardul structur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ua faze diferite ale unor instructiuni consecutive solicita aceea si unitate structural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lutionare: stari de asteptare, reordonarea instructiunilor, duplicarea unitatilor solicita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2476440" y="3746520"/>
            <a:ext cx="3174840" cy="1122120"/>
            <a:chOff x="2476440" y="3746520"/>
            <a:chExt cx="3174840" cy="1122120"/>
          </a:xfrm>
        </p:grpSpPr>
        <p:sp>
          <p:nvSpPr>
            <p:cNvPr id="770" name=""/>
            <p:cNvSpPr/>
            <p:nvPr/>
          </p:nvSpPr>
          <p:spPr>
            <a:xfrm>
              <a:off x="2630880" y="3746520"/>
              <a:ext cx="542160" cy="39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173400" y="3746520"/>
              <a:ext cx="541800" cy="39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715200" y="3746520"/>
              <a:ext cx="542160" cy="39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257720" y="3746520"/>
              <a:ext cx="541800" cy="39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173400" y="4386240"/>
              <a:ext cx="541800" cy="39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715200" y="4386240"/>
              <a:ext cx="542160" cy="39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257720" y="4386240"/>
              <a:ext cx="541800" cy="39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799520" y="4386240"/>
              <a:ext cx="542160" cy="399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018240" y="4308840"/>
              <a:ext cx="263304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I      DI      Ex     Sc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109480" y="4109760"/>
              <a:ext cx="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799520" y="3749040"/>
              <a:ext cx="542160" cy="399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476440" y="3749040"/>
              <a:ext cx="309780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I       DI      Ex    Mem  Sc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2040-AE65-481D-91BD-7352ED454F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Arhitecturi superscalare şi superpipelin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1695600" y="2014560"/>
            <a:ext cx="2718720" cy="388800"/>
            <a:chOff x="1695600" y="2014560"/>
            <a:chExt cx="2718720" cy="388800"/>
          </a:xfrm>
        </p:grpSpPr>
        <p:sp>
          <p:nvSpPr>
            <p:cNvPr id="784" name=""/>
            <p:cNvSpPr/>
            <p:nvPr/>
          </p:nvSpPr>
          <p:spPr>
            <a:xfrm>
              <a:off x="1695600" y="2014560"/>
              <a:ext cx="54360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239200" y="2014560"/>
              <a:ext cx="54396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783160" y="2014560"/>
              <a:ext cx="54360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26760" y="2014560"/>
              <a:ext cx="54396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870720" y="2014560"/>
              <a:ext cx="54360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"/>
          <p:cNvSpPr/>
          <p:nvPr/>
        </p:nvSpPr>
        <p:spPr>
          <a:xfrm>
            <a:off x="814320" y="1938240"/>
            <a:ext cx="37465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. i      CI      DI      Ex   Mem  S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1695600" y="2482920"/>
            <a:ext cx="2718720" cy="387360"/>
            <a:chOff x="1695600" y="2482920"/>
            <a:chExt cx="2718720" cy="387360"/>
          </a:xfrm>
        </p:grpSpPr>
        <p:sp>
          <p:nvSpPr>
            <p:cNvPr id="791" name=""/>
            <p:cNvSpPr/>
            <p:nvPr/>
          </p:nvSpPr>
          <p:spPr>
            <a:xfrm>
              <a:off x="1695600" y="248292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39200" y="2482920"/>
              <a:ext cx="54396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783160" y="248292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26760" y="2482920"/>
              <a:ext cx="54396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870720" y="248292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741240" y="2405160"/>
            <a:ext cx="3819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. i+1   CI      DI      Ex   Mem  S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2209680" y="2946240"/>
            <a:ext cx="2719080" cy="387360"/>
            <a:chOff x="2209680" y="2946240"/>
            <a:chExt cx="2719080" cy="387360"/>
          </a:xfrm>
        </p:grpSpPr>
        <p:sp>
          <p:nvSpPr>
            <p:cNvPr id="798" name=""/>
            <p:cNvSpPr/>
            <p:nvPr/>
          </p:nvSpPr>
          <p:spPr>
            <a:xfrm>
              <a:off x="2209680" y="294624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753280" y="2946240"/>
              <a:ext cx="54396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97240" y="294624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841200" y="2946240"/>
              <a:ext cx="54396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85160" y="294624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826920" y="2924280"/>
            <a:ext cx="4681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. i+2           CI      DI     Ex   Mem  S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2209680" y="3413160"/>
            <a:ext cx="2719080" cy="388800"/>
            <a:chOff x="2209680" y="3413160"/>
            <a:chExt cx="2719080" cy="388800"/>
          </a:xfrm>
        </p:grpSpPr>
        <p:sp>
          <p:nvSpPr>
            <p:cNvPr id="805" name=""/>
            <p:cNvSpPr/>
            <p:nvPr/>
          </p:nvSpPr>
          <p:spPr>
            <a:xfrm>
              <a:off x="2209680" y="3413160"/>
              <a:ext cx="54360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753280" y="3413160"/>
              <a:ext cx="54396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297240" y="3413160"/>
              <a:ext cx="54360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841200" y="3413160"/>
              <a:ext cx="54396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85160" y="3413160"/>
              <a:ext cx="54360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814320" y="3335400"/>
            <a:ext cx="46213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. i+3          CI      DI      Ex   Mem  S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622520" y="1628640"/>
            <a:ext cx="345276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1     T2    T3     T4   T5    T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148360" y="2405160"/>
            <a:ext cx="33796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 arhitectură superscalar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PI=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1695600" y="4186080"/>
            <a:ext cx="2718720" cy="387360"/>
            <a:chOff x="1695600" y="4186080"/>
            <a:chExt cx="2718720" cy="387360"/>
          </a:xfrm>
        </p:grpSpPr>
        <p:sp>
          <p:nvSpPr>
            <p:cNvPr id="814" name=""/>
            <p:cNvSpPr/>
            <p:nvPr/>
          </p:nvSpPr>
          <p:spPr>
            <a:xfrm>
              <a:off x="1695600" y="418608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239200" y="4186080"/>
              <a:ext cx="54396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83160" y="418608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326760" y="4186080"/>
              <a:ext cx="54396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870720" y="418608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826920" y="4221000"/>
            <a:ext cx="381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. i      CI      DI      Ex    Mem  S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916280" y="4654440"/>
            <a:ext cx="2718720" cy="387360"/>
            <a:chOff x="1916280" y="4654440"/>
            <a:chExt cx="2718720" cy="387360"/>
          </a:xfrm>
        </p:grpSpPr>
        <p:sp>
          <p:nvSpPr>
            <p:cNvPr id="821" name=""/>
            <p:cNvSpPr/>
            <p:nvPr/>
          </p:nvSpPr>
          <p:spPr>
            <a:xfrm>
              <a:off x="1916280" y="465444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459880" y="4654440"/>
              <a:ext cx="54396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003840" y="465444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547440" y="4654440"/>
              <a:ext cx="54396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091400" y="465444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826920" y="4724280"/>
            <a:ext cx="388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. i+1      CI      DI      Ex  Mem  S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2209680" y="5116680"/>
            <a:ext cx="2719080" cy="387360"/>
            <a:chOff x="2209680" y="5116680"/>
            <a:chExt cx="2719080" cy="387360"/>
          </a:xfrm>
        </p:grpSpPr>
        <p:sp>
          <p:nvSpPr>
            <p:cNvPr id="828" name=""/>
            <p:cNvSpPr/>
            <p:nvPr/>
          </p:nvSpPr>
          <p:spPr>
            <a:xfrm>
              <a:off x="2209680" y="511668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53280" y="5116680"/>
              <a:ext cx="54396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297240" y="511668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841200" y="5116680"/>
              <a:ext cx="54396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385160" y="511668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826920" y="5157720"/>
            <a:ext cx="44784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. i+2           CI      DI      Ex  Mem  S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2503440" y="5584680"/>
            <a:ext cx="2719080" cy="387360"/>
            <a:chOff x="2503440" y="5584680"/>
            <a:chExt cx="2719080" cy="387360"/>
          </a:xfrm>
        </p:grpSpPr>
        <p:sp>
          <p:nvSpPr>
            <p:cNvPr id="835" name=""/>
            <p:cNvSpPr/>
            <p:nvPr/>
          </p:nvSpPr>
          <p:spPr>
            <a:xfrm>
              <a:off x="2503440" y="558468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047040" y="5584680"/>
              <a:ext cx="54396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591000" y="558468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134960" y="5584680"/>
              <a:ext cx="54396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678920" y="5584680"/>
              <a:ext cx="54360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826920" y="5661000"/>
            <a:ext cx="4923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. i+3                 CI      DI    Ex  Mem  S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622520" y="3801960"/>
            <a:ext cx="345276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1     T2    T3     T4   T5    T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295960" y="4421160"/>
            <a:ext cx="33796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 arhitectură superpip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PI=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93640" y="6048360"/>
            <a:ext cx="8082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a 6.13 Comparaţie între arhitectura superscalară şi superpip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0BA5-A177-414C-8397-042C4ABF65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lanificarea executiei instructiunilo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biectiv: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ordonarea instructiunilor in scopul evitarii situatiilor de hazard si implicit pentru cresterea performantelor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lanificarea statica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ordonarea instructiunilor in faza de compila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ruparea instructiunilor in super-instructiuni foarte lung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LIW – Very Long Instructiun Wor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lanificarea dinamica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ordonarea instructiunilor in timpul executiei programulu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ehnici folosite: analiza fluxurilor de date, arbori de dependente, predictia salturil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D666-1DF0-424E-B020-77140C1735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ormatul instructiunilo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1844640"/>
            <a:ext cx="122400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8446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d opera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71640" y="1844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ra operanzi explici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2492280"/>
            <a:ext cx="122400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4000" y="2492280"/>
            <a:ext cx="2376720" cy="36036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256392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perand1 - Adre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8720" y="256392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d opera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3141720"/>
            <a:ext cx="122400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3141720"/>
            <a:ext cx="2376720" cy="36036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321300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perand1 - Adre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27640" y="3141720"/>
            <a:ext cx="2376360" cy="36036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321300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d opera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27640" y="321300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perand2 - Adresa/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89440" y="2421000"/>
            <a:ext cx="31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 un singur operan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3862440"/>
            <a:ext cx="122400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79640" y="3862440"/>
            <a:ext cx="2376360" cy="36036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393372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perand1 - Adre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56000" y="3862440"/>
            <a:ext cx="2376720" cy="36036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393372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d opera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393372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perand2 - Adresa/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32720" y="3860640"/>
            <a:ext cx="2195280" cy="36036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77080" y="3933720"/>
            <a:ext cx="194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zultat - Adre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04000" y="3141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 doi operanz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6000" y="42926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 doi operanzi si rezulta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3053-2CCB-448A-95BA-B389AC6EE9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duri de adres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920" y="1827360"/>
            <a:ext cx="785664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um se determina operandu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dresare imediata – pentru constan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V AX, 1234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dresare directa – pentru variabile simpl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  BX, [100h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dresare indexata – pentru vector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 [SI+500h], A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dresare bazata – pentru inregistrar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 DX, [BX+200h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dresare mixta (bazat-indexata) – pentru structuri complex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   CX, [SI+BX+100h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2492280"/>
            <a:ext cx="86364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27280" y="3860640"/>
            <a:ext cx="1368360" cy="505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32000" y="3213000"/>
            <a:ext cx="93528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3640" y="4508640"/>
            <a:ext cx="1368360" cy="504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59280" y="5516640"/>
            <a:ext cx="1944360" cy="504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4954-140E-4BED-A2CC-B6C052BFF5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tul de instructiuni pentru un calculator simplu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0920" y="4437000"/>
          <a:ext cx="3725640" cy="1981440"/>
        </p:xfrm>
        <a:graphic>
          <a:graphicData uri="http://schemas.openxmlformats.org/drawingml/2006/table">
            <a:tbl>
              <a:tblPr/>
              <a:tblGrid>
                <a:gridCol w="865080"/>
                <a:gridCol w="1152360"/>
                <a:gridCol w="17082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d inst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licati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M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 ad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P=ad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ad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=A+M[adr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 ad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[adr]=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4032360" y="1484280"/>
            <a:ext cx="75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ţi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0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0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2360" y="2023920"/>
            <a:ext cx="726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08000" y="1665360"/>
            <a:ext cx="641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7  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55640" y="1700280"/>
            <a:ext cx="16732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        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23840" y="1947960"/>
            <a:ext cx="657360" cy="43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2360" y="1947960"/>
            <a:ext cx="1673280" cy="43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1952640"/>
            <a:ext cx="122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împ adres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1916280"/>
            <a:ext cx="75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51640" y="1700280"/>
            <a:ext cx="21272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7  6  5  4  3  2  1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651640" y="1989000"/>
            <a:ext cx="2150640" cy="366840"/>
            <a:chOff x="5651640" y="1989000"/>
            <a:chExt cx="2150640" cy="366840"/>
          </a:xfrm>
        </p:grpSpPr>
        <p:sp>
          <p:nvSpPr>
            <p:cNvPr id="136" name=""/>
            <p:cNvSpPr/>
            <p:nvPr/>
          </p:nvSpPr>
          <p:spPr>
            <a:xfrm>
              <a:off x="5651640" y="1989000"/>
              <a:ext cx="576360" cy="36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0  0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25480" y="1989000"/>
              <a:ext cx="1576800" cy="36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 b c  x  x  x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300720" y="2349360"/>
            <a:ext cx="7430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 0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 0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  .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 1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56360" y="2276640"/>
            <a:ext cx="393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535280" y="22766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076720" y="3213000"/>
          <a:ext cx="3581640" cy="3372120"/>
        </p:xfrm>
        <a:graphic>
          <a:graphicData uri="http://schemas.openxmlformats.org/drawingml/2006/table">
            <a:tbl>
              <a:tblPr/>
              <a:tblGrid>
                <a:gridCol w="719280"/>
                <a:gridCol w="1584360"/>
                <a:gridCol w="127800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 000 xxx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 001 xxx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=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P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 010 xxx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=Not 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 011 xxx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=A&gt;&gt;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 100 xxx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=A&lt;&lt;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 101 xxx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f A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1 NP+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P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 110 xxx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f A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1 NP+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 111 xxx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444C-89FD-41DD-8DB3-36630C6D6F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hema generala a unui calculator simplu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826920" y="1268280"/>
            <a:ext cx="7561080" cy="5389560"/>
            <a:chOff x="826920" y="1268280"/>
            <a:chExt cx="7561080" cy="5389560"/>
          </a:xfrm>
        </p:grpSpPr>
        <p:sp>
          <p:nvSpPr>
            <p:cNvPr id="144" name=""/>
            <p:cNvSpPr/>
            <p:nvPr/>
          </p:nvSpPr>
          <p:spPr>
            <a:xfrm>
              <a:off x="4427280" y="1268280"/>
              <a:ext cx="2592360" cy="100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02920" y="2204640"/>
              <a:ext cx="660600" cy="378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en. ce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41160" y="1914120"/>
              <a:ext cx="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79200" y="1928520"/>
              <a:ext cx="1800" cy="2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14200" y="1773000"/>
              <a:ext cx="6922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TO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90560" y="1773000"/>
              <a:ext cx="81576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56920" y="3081240"/>
              <a:ext cx="594000" cy="41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en. fa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63280" y="256500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45800" y="3230280"/>
              <a:ext cx="41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6920" y="2952360"/>
              <a:ext cx="56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INI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58720" y="3081240"/>
              <a:ext cx="536760" cy="303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O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95480" y="3081240"/>
              <a:ext cx="946080" cy="303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OC/Ad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80840" y="3763800"/>
              <a:ext cx="1398600" cy="352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360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Decodificator si Bloc de comanda si contro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90560" y="3500280"/>
              <a:ext cx="0" cy="17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90560" y="3644640"/>
              <a:ext cx="43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23640" y="3644640"/>
              <a:ext cx="9720" cy="11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12880" y="3377880"/>
              <a:ext cx="144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77760" y="4128840"/>
              <a:ext cx="180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47760" y="4319280"/>
              <a:ext cx="3952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91880" y="411624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80840" y="4524120"/>
              <a:ext cx="1333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microcomenz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35040" y="2923920"/>
              <a:ext cx="381240" cy="11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98480" y="4294080"/>
              <a:ext cx="91764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Program coun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81040" y="3381120"/>
              <a:ext cx="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81040" y="3597120"/>
              <a:ext cx="939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889080" y="3876480"/>
              <a:ext cx="0" cy="41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04920" y="3876480"/>
              <a:ext cx="31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43120" y="4356000"/>
              <a:ext cx="339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28720" y="4495680"/>
              <a:ext cx="354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56000" y="4221000"/>
              <a:ext cx="7556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LdP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87480" y="4508280"/>
              <a:ext cx="690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IncP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98480" y="4914720"/>
              <a:ext cx="917640" cy="303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MU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949560" y="4595400"/>
              <a:ext cx="0" cy="31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81040" y="3597120"/>
              <a:ext cx="0" cy="191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93640" y="5508360"/>
              <a:ext cx="4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723840" y="5216040"/>
              <a:ext cx="1800" cy="2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133520" y="5203080"/>
              <a:ext cx="0" cy="82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79640" y="6021000"/>
              <a:ext cx="2087640" cy="36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Panou front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9440" y="4054320"/>
              <a:ext cx="91764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MU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5871960" y="373680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5646240" y="4355640"/>
              <a:ext cx="4680" cy="166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054480" y="4369680"/>
              <a:ext cx="1440" cy="26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72000" y="4221000"/>
              <a:ext cx="325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28720" y="5141520"/>
              <a:ext cx="4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84560" y="4813200"/>
              <a:ext cx="917640" cy="40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30640" y="4875120"/>
              <a:ext cx="338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16600" y="5014800"/>
              <a:ext cx="35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48360" y="4724280"/>
              <a:ext cx="6602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H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19640" y="5084640"/>
              <a:ext cx="569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H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54480" y="4635360"/>
              <a:ext cx="122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08640" y="4635360"/>
              <a:ext cx="144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47880" y="3039840"/>
              <a:ext cx="917640" cy="696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864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884560" y="2407680"/>
              <a:ext cx="1800" cy="63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92520" y="3377880"/>
              <a:ext cx="311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43280" y="3139920"/>
              <a:ext cx="4906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Wr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16280" y="3482640"/>
              <a:ext cx="8334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7279920" y="3584160"/>
              <a:ext cx="1800" cy="105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80080" y="2952360"/>
              <a:ext cx="144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76840" y="3128760"/>
              <a:ext cx="1983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80080" y="2938320"/>
              <a:ext cx="7333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211960" y="3153960"/>
              <a:ext cx="144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7492680" y="3471480"/>
              <a:ext cx="1800" cy="21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7475400" y="3308040"/>
              <a:ext cx="1983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7475400" y="3485520"/>
              <a:ext cx="73476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38920" y="3195360"/>
              <a:ext cx="368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U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281360" y="3584160"/>
              <a:ext cx="212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247920" y="2407680"/>
              <a:ext cx="1440" cy="67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47920" y="2408040"/>
              <a:ext cx="3992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40320" y="2408040"/>
              <a:ext cx="0" cy="62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40320" y="3027240"/>
              <a:ext cx="241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30640" y="5152680"/>
              <a:ext cx="35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91280" y="4868640"/>
              <a:ext cx="5918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Ld_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65200" y="3571560"/>
              <a:ext cx="5544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03280" y="5508360"/>
              <a:ext cx="558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94240" y="4622400"/>
              <a:ext cx="5544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95280" y="3139920"/>
              <a:ext cx="179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050920" y="2565000"/>
              <a:ext cx="7207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Ld_I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27280" y="2636640"/>
              <a:ext cx="144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11280" y="2492280"/>
              <a:ext cx="10270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el_I/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66560" y="2781000"/>
              <a:ext cx="165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IR – Reg. instructiun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95640" y="335736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95640" y="3644640"/>
              <a:ext cx="28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2195280" y="263664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98920" y="3284280"/>
              <a:ext cx="2089080" cy="2305080"/>
            </a:xfrm>
            <a:custGeom>
              <a:avLst/>
              <a:gdLst/>
              <a:ahLst/>
              <a:rect l="l" t="t" r="r" b="b"/>
              <a:pathLst>
                <a:path w="1316" h="1452">
                  <a:moveTo>
                    <a:pt x="1180" y="0"/>
                  </a:moveTo>
                  <a:lnTo>
                    <a:pt x="1316" y="0"/>
                  </a:lnTo>
                  <a:lnTo>
                    <a:pt x="1316" y="1452"/>
                  </a:lnTo>
                  <a:lnTo>
                    <a:pt x="0" y="1452"/>
                  </a:lnTo>
                  <a:lnTo>
                    <a:pt x="0" y="122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3850560" y="6165720"/>
              <a:ext cx="145080" cy="142920"/>
              <a:chOff x="3850560" y="6165720"/>
              <a:chExt cx="145080" cy="142920"/>
            </a:xfrm>
          </p:grpSpPr>
          <p:sp>
            <p:nvSpPr>
              <p:cNvPr id="229" name=""/>
              <p:cNvSpPr/>
              <p:nvPr/>
            </p:nvSpPr>
            <p:spPr>
              <a:xfrm>
                <a:off x="3922560" y="6165720"/>
                <a:ext cx="730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0560" y="6237000"/>
                <a:ext cx="7164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995640" y="6165720"/>
              <a:ext cx="144000" cy="142920"/>
              <a:chOff x="3995640" y="6165720"/>
              <a:chExt cx="144000" cy="142920"/>
            </a:xfrm>
          </p:grpSpPr>
          <p:sp>
            <p:nvSpPr>
              <p:cNvPr id="232" name=""/>
              <p:cNvSpPr/>
              <p:nvPr/>
            </p:nvSpPr>
            <p:spPr>
              <a:xfrm>
                <a:off x="4066920" y="6165720"/>
                <a:ext cx="7272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995640" y="6237000"/>
                <a:ext cx="7128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140000" y="6165720"/>
              <a:ext cx="144000" cy="142920"/>
              <a:chOff x="4140000" y="6165720"/>
              <a:chExt cx="144000" cy="142920"/>
            </a:xfrm>
          </p:grpSpPr>
          <p:sp>
            <p:nvSpPr>
              <p:cNvPr id="235" name=""/>
              <p:cNvSpPr/>
              <p:nvPr/>
            </p:nvSpPr>
            <p:spPr>
              <a:xfrm>
                <a:off x="4211280" y="6165720"/>
                <a:ext cx="7272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4140000" y="6237000"/>
                <a:ext cx="7128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4427280" y="6165720"/>
              <a:ext cx="144000" cy="142920"/>
              <a:chOff x="4427280" y="6165720"/>
              <a:chExt cx="144000" cy="142920"/>
            </a:xfrm>
          </p:grpSpPr>
          <p:sp>
            <p:nvSpPr>
              <p:cNvPr id="238" name=""/>
              <p:cNvSpPr/>
              <p:nvPr/>
            </p:nvSpPr>
            <p:spPr>
              <a:xfrm>
                <a:off x="4498560" y="6165720"/>
                <a:ext cx="7272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4427280" y="6237000"/>
                <a:ext cx="7128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148000" y="6165720"/>
              <a:ext cx="144000" cy="142920"/>
              <a:chOff x="5148000" y="6165720"/>
              <a:chExt cx="144000" cy="142920"/>
            </a:xfrm>
          </p:grpSpPr>
          <p:sp>
            <p:nvSpPr>
              <p:cNvPr id="241" name=""/>
              <p:cNvSpPr/>
              <p:nvPr/>
            </p:nvSpPr>
            <p:spPr>
              <a:xfrm>
                <a:off x="5219280" y="6165720"/>
                <a:ext cx="7272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5148000" y="6237000"/>
                <a:ext cx="7128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290920" y="6165720"/>
              <a:ext cx="144000" cy="142920"/>
              <a:chOff x="5290920" y="6165720"/>
              <a:chExt cx="144000" cy="142920"/>
            </a:xfrm>
          </p:grpSpPr>
          <p:sp>
            <p:nvSpPr>
              <p:cNvPr id="244" name=""/>
              <p:cNvSpPr/>
              <p:nvPr/>
            </p:nvSpPr>
            <p:spPr>
              <a:xfrm>
                <a:off x="5362200" y="6165720"/>
                <a:ext cx="7272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5290920" y="6237000"/>
                <a:ext cx="7128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5435280" y="6165720"/>
              <a:ext cx="144000" cy="142920"/>
              <a:chOff x="5435280" y="6165720"/>
              <a:chExt cx="144000" cy="142920"/>
            </a:xfrm>
          </p:grpSpPr>
          <p:sp>
            <p:nvSpPr>
              <p:cNvPr id="247" name=""/>
              <p:cNvSpPr/>
              <p:nvPr/>
            </p:nvSpPr>
            <p:spPr>
              <a:xfrm>
                <a:off x="5506560" y="6165720"/>
                <a:ext cx="7272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435280" y="6237000"/>
                <a:ext cx="7128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5651280" y="6165720"/>
              <a:ext cx="144000" cy="142920"/>
              <a:chOff x="5651280" y="6165720"/>
              <a:chExt cx="144000" cy="142920"/>
            </a:xfrm>
          </p:grpSpPr>
          <p:sp>
            <p:nvSpPr>
              <p:cNvPr id="250" name=""/>
              <p:cNvSpPr/>
              <p:nvPr/>
            </p:nvSpPr>
            <p:spPr>
              <a:xfrm>
                <a:off x="5722560" y="6165720"/>
                <a:ext cx="7272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5651280" y="6237000"/>
                <a:ext cx="7128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3563640" y="6381360"/>
              <a:ext cx="280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omut. adrese   Comut. 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14920" y="4005000"/>
              <a:ext cx="576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Man/Au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14560" y="4939920"/>
              <a:ext cx="576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Man/Au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02920" y="2781000"/>
              <a:ext cx="57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CL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12000" y="2492280"/>
              <a:ext cx="0" cy="5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51640" y="2276280"/>
              <a:ext cx="86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Sel_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5867280" y="1268280"/>
              <a:ext cx="1224000" cy="1152360"/>
              <a:chOff x="5867280" y="1268280"/>
              <a:chExt cx="1224000" cy="1152360"/>
            </a:xfrm>
          </p:grpSpPr>
          <p:sp>
            <p:nvSpPr>
              <p:cNvPr id="259" name=""/>
              <p:cNvSpPr/>
              <p:nvPr/>
            </p:nvSpPr>
            <p:spPr>
              <a:xfrm>
                <a:off x="6156000" y="1557000"/>
                <a:ext cx="720720" cy="576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659280" y="1628640"/>
                <a:ext cx="144360" cy="21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659280" y="1844280"/>
                <a:ext cx="144360" cy="21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6514920" y="213192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298920" y="1628640"/>
                <a:ext cx="144360" cy="21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298920" y="1844280"/>
                <a:ext cx="144360" cy="21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867280" y="1268280"/>
                <a:ext cx="12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isplay da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4716360" y="1557000"/>
              <a:ext cx="720720" cy="576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19280" y="1628640"/>
              <a:ext cx="144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19280" y="1844280"/>
              <a:ext cx="14472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5074920" y="2131560"/>
              <a:ext cx="0" cy="13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58920" y="1628640"/>
              <a:ext cx="144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58920" y="1844280"/>
              <a:ext cx="14472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560" y="1268280"/>
              <a:ext cx="151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isplay adre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59280" y="5229000"/>
              <a:ext cx="576360" cy="144360"/>
            </a:xfrm>
            <a:custGeom>
              <a:avLst/>
              <a:gdLst/>
              <a:ahLst/>
              <a:rect l="l" t="t" r="r" b="b"/>
              <a:pathLst>
                <a:path w="363" h="91">
                  <a:moveTo>
                    <a:pt x="0" y="0"/>
                  </a:moveTo>
                  <a:lnTo>
                    <a:pt x="0" y="91"/>
                  </a:lnTo>
                  <a:lnTo>
                    <a:pt x="363" y="9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06920" y="5229000"/>
              <a:ext cx="50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Rs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FE2F-7774-4D85-9809-9DA7F86D81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escompunerea instructiunilor in faze de executi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50920" y="1916280"/>
            <a:ext cx="8665920" cy="3963960"/>
            <a:chOff x="250920" y="1916280"/>
            <a:chExt cx="8665920" cy="3963960"/>
          </a:xfrm>
        </p:grpSpPr>
        <p:sp>
          <p:nvSpPr>
            <p:cNvPr id="277" name=""/>
            <p:cNvSpPr/>
            <p:nvPr/>
          </p:nvSpPr>
          <p:spPr>
            <a:xfrm>
              <a:off x="2589120" y="2023920"/>
              <a:ext cx="30960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1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35120" y="1955880"/>
              <a:ext cx="398520" cy="325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28800" y="282240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27360" y="2276640"/>
              <a:ext cx="32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22360" y="2470320"/>
              <a:ext cx="843120" cy="34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Sel_I/D=0 </a:t>
              </a: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Ld_I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70320" y="3436920"/>
              <a:ext cx="563400" cy="238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IncP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98840" y="3035160"/>
              <a:ext cx="30960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2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44840" y="2967120"/>
              <a:ext cx="398520" cy="323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47880" y="329724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76680" y="417348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617920" y="3911760"/>
              <a:ext cx="31104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1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73280" y="3843360"/>
              <a:ext cx="398520" cy="325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754360" y="3666960"/>
              <a:ext cx="144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17560" y="4392720"/>
              <a:ext cx="144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7880" y="4191120"/>
              <a:ext cx="40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JM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49320" y="1916280"/>
              <a:ext cx="577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INI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19000" y="4386240"/>
              <a:ext cx="446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5280" y="4589640"/>
              <a:ext cx="843120" cy="217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LdP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26920" y="5286240"/>
              <a:ext cx="0" cy="2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8160" y="5030640"/>
              <a:ext cx="3114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2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5320" y="4962600"/>
              <a:ext cx="397080" cy="325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17560" y="4805280"/>
              <a:ext cx="144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8520" y="5499000"/>
              <a:ext cx="842760" cy="217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el_I/D=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826560" y="5722920"/>
              <a:ext cx="972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26920" y="5870520"/>
              <a:ext cx="4465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54280" y="4392720"/>
              <a:ext cx="936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47640" y="4221000"/>
              <a:ext cx="45900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AD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332000" y="4508640"/>
              <a:ext cx="842760" cy="36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Sel_I/D=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Sel_op=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5286240"/>
              <a:ext cx="0" cy="2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04880" y="5030640"/>
              <a:ext cx="3096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2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562040" y="4962600"/>
              <a:ext cx="397080" cy="325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54280" y="4805280"/>
              <a:ext cx="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24080" y="5499000"/>
              <a:ext cx="842760" cy="217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Ld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3360" y="57229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09720" y="438480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62240" y="4191120"/>
              <a:ext cx="4762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ME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87440" y="4581360"/>
              <a:ext cx="843120" cy="217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Sel_I/D=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00360" y="5229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60680" y="5022720"/>
              <a:ext cx="3110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2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17840" y="4944960"/>
              <a:ext cx="396720" cy="325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09720" y="479736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90680" y="5516640"/>
              <a:ext cx="84312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Wr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28800" y="571500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41800" y="4191120"/>
              <a:ext cx="377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NO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390840" y="5284800"/>
              <a:ext cx="1800" cy="59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232080" y="5022720"/>
              <a:ext cx="31140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2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89240" y="4954680"/>
              <a:ext cx="397080" cy="325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3381480" y="4389480"/>
              <a:ext cx="1440" cy="56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911760" y="4390920"/>
              <a:ext cx="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49760" y="4191120"/>
              <a:ext cx="377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CL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646440" y="4589640"/>
              <a:ext cx="511200" cy="217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Rst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19680" y="5286240"/>
              <a:ext cx="1440" cy="58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62360" y="5030640"/>
              <a:ext cx="3096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2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19520" y="4962600"/>
              <a:ext cx="396720" cy="325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911760" y="4805280"/>
              <a:ext cx="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76680" y="4191120"/>
              <a:ext cx="376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CP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24280" y="5286240"/>
              <a:ext cx="1800" cy="2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67320" y="5030640"/>
              <a:ext cx="3096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2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522680" y="4962600"/>
              <a:ext cx="398520" cy="325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16360" y="4389480"/>
              <a:ext cx="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734000" y="5722920"/>
              <a:ext cx="144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56280" y="4605480"/>
              <a:ext cx="2430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6843600" y="4565520"/>
              <a:ext cx="23976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091280" y="4565520"/>
              <a:ext cx="2494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6842160" y="4700160"/>
              <a:ext cx="24912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7099200" y="4700160"/>
              <a:ext cx="24768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717960" y="5381640"/>
              <a:ext cx="2062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086600" y="4848120"/>
              <a:ext cx="1440" cy="38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6710400" y="4700160"/>
              <a:ext cx="1555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08600" y="4700520"/>
              <a:ext cx="180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65920" y="418932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42080" y="3929040"/>
              <a:ext cx="2430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1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07160" y="3860640"/>
              <a:ext cx="312840" cy="324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24320" y="4173480"/>
              <a:ext cx="3096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H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5334120" y="4397040"/>
              <a:ext cx="33526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40240" y="5294160"/>
              <a:ext cx="1800" cy="2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16400" y="5040360"/>
              <a:ext cx="2430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2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83280" y="4973760"/>
              <a:ext cx="311040" cy="32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34120" y="439740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48360" y="5506920"/>
              <a:ext cx="415800" cy="21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H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48160" y="572760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5348160" y="5873760"/>
              <a:ext cx="3354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58000" y="4173480"/>
              <a:ext cx="2934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H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73920" y="5294160"/>
              <a:ext cx="0" cy="2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50080" y="5040360"/>
              <a:ext cx="2426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2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916600" y="4973760"/>
              <a:ext cx="309600" cy="32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066000" y="4405320"/>
              <a:ext cx="144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43520" y="5506920"/>
              <a:ext cx="40788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H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1840" y="572760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877080" y="4221000"/>
              <a:ext cx="56052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KIP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095960" y="5551560"/>
              <a:ext cx="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64200" y="5283360"/>
              <a:ext cx="24300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2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29280" y="5222880"/>
              <a:ext cx="312840" cy="324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7079760" y="4403880"/>
              <a:ext cx="180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507520" y="4165560"/>
              <a:ext cx="38556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TO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686800" y="5294160"/>
              <a:ext cx="144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562960" y="5040360"/>
              <a:ext cx="2430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2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529480" y="4973760"/>
              <a:ext cx="311400" cy="32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8678880" y="4403880"/>
              <a:ext cx="14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478720" y="5506920"/>
              <a:ext cx="438120" cy="21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TO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694720" y="572760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488280" y="4821120"/>
              <a:ext cx="40788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IncP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73680" y="4516560"/>
              <a:ext cx="1558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88040" y="4854600"/>
              <a:ext cx="1558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718320" y="503568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04160" y="4597560"/>
              <a:ext cx="2412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7791480" y="4557600"/>
              <a:ext cx="23976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039160" y="4557600"/>
              <a:ext cx="24912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flipV="1">
              <a:off x="7790040" y="4692240"/>
              <a:ext cx="24912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8047080" y="4692240"/>
              <a:ext cx="24768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7665840" y="5372280"/>
              <a:ext cx="206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034480" y="4840200"/>
              <a:ext cx="1440" cy="38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7658280" y="4692240"/>
              <a:ext cx="1555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658280" y="469260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40720" y="4221000"/>
              <a:ext cx="5382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SKIP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042400" y="5543640"/>
              <a:ext cx="144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12080" y="5275440"/>
              <a:ext cx="24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2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877160" y="5214960"/>
              <a:ext cx="311040" cy="324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8028000" y="4395960"/>
              <a:ext cx="144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435800" y="4813200"/>
              <a:ext cx="40788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IncP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21560" y="4508640"/>
              <a:ext cx="15552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035920" y="4846680"/>
              <a:ext cx="15552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666200" y="502596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0920" y="2133720"/>
              <a:ext cx="2305080" cy="3743280"/>
            </a:xfrm>
            <a:custGeom>
              <a:avLst/>
              <a:gdLst/>
              <a:ahLst/>
              <a:rect l="l" t="t" r="r" b="b"/>
              <a:pathLst>
                <a:path w="1452" h="2358">
                  <a:moveTo>
                    <a:pt x="363" y="2358"/>
                  </a:moveTo>
                  <a:lnTo>
                    <a:pt x="0" y="2358"/>
                  </a:lnTo>
                  <a:lnTo>
                    <a:pt x="0" y="0"/>
                  </a:lnTo>
                  <a:lnTo>
                    <a:pt x="14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56000" y="4581360"/>
              <a:ext cx="100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Sel_op=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27640" y="4581360"/>
              <a:ext cx="792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16360" y="4797360"/>
              <a:ext cx="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211640" y="5516640"/>
              <a:ext cx="843120" cy="217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Ld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669B-06C3-4EF0-B8B2-93F8963DBE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Generatorul de faze, decodificatorul de instructiuni si blocul de comanda si contro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116000" y="1700280"/>
            <a:ext cx="3054240" cy="2376000"/>
            <a:chOff x="1116000" y="1700280"/>
            <a:chExt cx="3054240" cy="2376000"/>
          </a:xfrm>
        </p:grpSpPr>
        <p:sp>
          <p:nvSpPr>
            <p:cNvPr id="407" name=""/>
            <p:cNvSpPr/>
            <p:nvPr/>
          </p:nvSpPr>
          <p:spPr>
            <a:xfrm>
              <a:off x="2615760" y="2390040"/>
              <a:ext cx="1167840" cy="384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782440" y="2004120"/>
              <a:ext cx="108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3026160" y="2004120"/>
              <a:ext cx="108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3308760" y="2004120"/>
              <a:ext cx="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565080" y="2004120"/>
              <a:ext cx="72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629080" y="1700280"/>
              <a:ext cx="26784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98000" y="1700280"/>
              <a:ext cx="26784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166920" y="1700280"/>
              <a:ext cx="30744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436920" y="1707480"/>
              <a:ext cx="35892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334240" y="3148920"/>
              <a:ext cx="1836000" cy="449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360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umarator modulo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3247920" y="2759760"/>
              <a:ext cx="720" cy="38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12720" y="3416400"/>
              <a:ext cx="822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41960" y="3078720"/>
              <a:ext cx="5511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L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16000" y="3224520"/>
              <a:ext cx="39780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41200" y="3752280"/>
              <a:ext cx="53964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IN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1718640" y="3941640"/>
              <a:ext cx="51660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34160" y="3804120"/>
              <a:ext cx="1080" cy="27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34160" y="3812040"/>
              <a:ext cx="174240" cy="12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2234160" y="3947760"/>
              <a:ext cx="187920" cy="12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420280" y="3899520"/>
              <a:ext cx="6480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498040" y="3945240"/>
              <a:ext cx="45252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949480" y="3594240"/>
              <a:ext cx="3960" cy="33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684360" y="1773360"/>
            <a:ext cx="18730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. Generatorul de fa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53040" y="1557360"/>
            <a:ext cx="3445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78600" y="1795320"/>
            <a:ext cx="50328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7 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581880" y="1795320"/>
            <a:ext cx="71748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  4 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299360" y="1795320"/>
            <a:ext cx="7221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  1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492880" y="2486160"/>
            <a:ext cx="1565280" cy="34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360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5659560" y="2822040"/>
            <a:ext cx="1440" cy="297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6864480" y="282240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6040440" y="2822040"/>
            <a:ext cx="1440" cy="662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6454800" y="2822400"/>
            <a:ext cx="0" cy="309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364000" y="3132000"/>
            <a:ext cx="615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00680" y="3503520"/>
            <a:ext cx="552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84720" y="3141720"/>
            <a:ext cx="5223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684840" y="3132000"/>
            <a:ext cx="1565280" cy="29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851520" y="3419640"/>
            <a:ext cx="1800" cy="295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8058240" y="341964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634080" y="3726000"/>
            <a:ext cx="4460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837560" y="3713040"/>
            <a:ext cx="47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7147080" y="3573000"/>
            <a:ext cx="642960" cy="1116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288120" y="211788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518240" y="2289240"/>
            <a:ext cx="1800" cy="83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870600" y="2841480"/>
            <a:ext cx="34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980400" y="2117880"/>
            <a:ext cx="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980400" y="2289240"/>
            <a:ext cx="539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6222960" y="2227320"/>
            <a:ext cx="115920" cy="5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7467480" y="2511360"/>
            <a:ext cx="11592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992920" y="2158920"/>
            <a:ext cx="2696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621560" y="2390760"/>
            <a:ext cx="27000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508720" y="3933720"/>
            <a:ext cx="2663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. Decodificatorul de instructiu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50920" y="6227640"/>
            <a:ext cx="28083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. Blocul de comanda si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203640" y="6165720"/>
            <a:ext cx="3097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. Implementarea c-zii Sel_I/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50920" y="4365720"/>
            <a:ext cx="6121080" cy="1828800"/>
            <a:chOff x="250920" y="4365720"/>
            <a:chExt cx="6121080" cy="1828800"/>
          </a:xfrm>
        </p:grpSpPr>
        <p:grpSp>
          <p:nvGrpSpPr>
            <p:cNvPr id="461" name=""/>
            <p:cNvGrpSpPr/>
            <p:nvPr/>
          </p:nvGrpSpPr>
          <p:grpSpPr>
            <a:xfrm>
              <a:off x="3071880" y="4365720"/>
              <a:ext cx="3300120" cy="1673280"/>
              <a:chOff x="3071880" y="4365720"/>
              <a:chExt cx="3300120" cy="1673280"/>
            </a:xfrm>
          </p:grpSpPr>
          <p:sp>
            <p:nvSpPr>
              <p:cNvPr id="462" name=""/>
              <p:cNvSpPr/>
              <p:nvPr/>
            </p:nvSpPr>
            <p:spPr>
              <a:xfrm>
                <a:off x="3117240" y="4365720"/>
                <a:ext cx="243396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Sel_I/D = E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 (ADD + MEM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3071880" y="4805640"/>
                <a:ext cx="3300120" cy="1233360"/>
                <a:chOff x="3071880" y="4805640"/>
                <a:chExt cx="3300120" cy="1233360"/>
              </a:xfrm>
            </p:grpSpPr>
            <p:sp>
              <p:nvSpPr>
                <p:cNvPr id="464" name=""/>
                <p:cNvSpPr/>
                <p:nvPr/>
              </p:nvSpPr>
              <p:spPr>
                <a:xfrm flipH="1">
                  <a:off x="4896360" y="5148360"/>
                  <a:ext cx="454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019560" y="5143320"/>
                  <a:ext cx="9720" cy="344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5649480" y="5233680"/>
                  <a:ext cx="42912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214440" y="5811480"/>
                  <a:ext cx="308520" cy="22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Verdana"/>
                    </a:rPr>
                    <a:t>E1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081600" y="5395680"/>
                  <a:ext cx="516600" cy="22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Verdana"/>
                    </a:rPr>
                    <a:t>MEM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6840" y="5054400"/>
                  <a:ext cx="591840" cy="369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V="1">
                  <a:off x="5091120" y="4996800"/>
                  <a:ext cx="555840" cy="435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352120" y="5054400"/>
                  <a:ext cx="0" cy="37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>
                  <a:off x="5172840" y="5340240"/>
                  <a:ext cx="1774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256640" y="4968720"/>
                  <a:ext cx="591840" cy="348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V="1">
                  <a:off x="4300920" y="4944240"/>
                  <a:ext cx="555840" cy="39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4561920" y="4968720"/>
                  <a:ext cx="0" cy="37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V="1">
                  <a:off x="4355640" y="5083560"/>
                  <a:ext cx="177480" cy="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4865400" y="5123520"/>
                  <a:ext cx="62280" cy="496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 flipV="1">
                  <a:off x="4341600" y="5256000"/>
                  <a:ext cx="218880" cy="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 flipV="1">
                  <a:off x="5178240" y="5338800"/>
                  <a:ext cx="3600" cy="59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123440" y="5498280"/>
                  <a:ext cx="61920" cy="496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 flipV="1">
                  <a:off x="3810600" y="5383080"/>
                  <a:ext cx="307440" cy="150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810600" y="5394240"/>
                  <a:ext cx="1080" cy="25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V="1">
                  <a:off x="3810600" y="5522040"/>
                  <a:ext cx="295560" cy="128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H="1">
                  <a:off x="3621600" y="5522040"/>
                  <a:ext cx="1900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H="1" flipV="1">
                  <a:off x="3621600" y="5928480"/>
                  <a:ext cx="1548000" cy="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071880" y="4830120"/>
                  <a:ext cx="478440" cy="19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Verdana"/>
                    </a:rPr>
                    <a:t>ADD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H="1">
                  <a:off x="4128840" y="4944600"/>
                  <a:ext cx="23004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4076280" y="4931280"/>
                  <a:ext cx="61920" cy="496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H="1" flipV="1">
                  <a:off x="3763440" y="4805640"/>
                  <a:ext cx="307440" cy="150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763440" y="4816800"/>
                  <a:ext cx="1080" cy="25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V="1">
                  <a:off x="3763440" y="4944240"/>
                  <a:ext cx="295560" cy="12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H="1">
                  <a:off x="3574440" y="4944600"/>
                  <a:ext cx="1900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355640" y="4957200"/>
                  <a:ext cx="72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343760" y="5256360"/>
                  <a:ext cx="720" cy="267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165560" y="5523840"/>
                  <a:ext cx="17784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662440" y="5340960"/>
                  <a:ext cx="709560" cy="20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Verdana"/>
                    </a:rPr>
                    <a:t>Sel_I/D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7" name=""/>
            <p:cNvGrpSpPr/>
            <p:nvPr/>
          </p:nvGrpSpPr>
          <p:grpSpPr>
            <a:xfrm>
              <a:off x="250920" y="4365720"/>
              <a:ext cx="2379600" cy="1828800"/>
              <a:chOff x="250920" y="4365720"/>
              <a:chExt cx="2379600" cy="1828800"/>
            </a:xfrm>
          </p:grpSpPr>
          <p:sp>
            <p:nvSpPr>
              <p:cNvPr id="498" name=""/>
              <p:cNvSpPr/>
              <p:nvPr/>
            </p:nvSpPr>
            <p:spPr>
              <a:xfrm flipV="1">
                <a:off x="601560" y="4568400"/>
                <a:ext cx="1800" cy="2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838080" y="4568400"/>
                <a:ext cx="0" cy="2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1071720" y="4568400"/>
                <a:ext cx="0" cy="2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1320840" y="4568400"/>
                <a:ext cx="0" cy="2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82760" y="4830840"/>
                <a:ext cx="2055600" cy="301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CC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1662120" y="4586400"/>
                <a:ext cx="1440" cy="25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2322360" y="5132520"/>
                <a:ext cx="180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684360" y="5132520"/>
                <a:ext cx="144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50920" y="5445000"/>
                <a:ext cx="853920" cy="21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Sel_I/D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2370240" y="4568760"/>
                <a:ext cx="144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063880" y="5445000"/>
                <a:ext cx="566640" cy="21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STOP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60440" y="4365720"/>
                <a:ext cx="24768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I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08120" y="4365720"/>
                <a:ext cx="24768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I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966960" y="4365720"/>
                <a:ext cx="24912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E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203480" y="4365720"/>
                <a:ext cx="24732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E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403280" y="4365720"/>
                <a:ext cx="56664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ME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098800" y="4365720"/>
                <a:ext cx="53172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NOP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878120" y="4703760"/>
                <a:ext cx="3427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006560" y="5322960"/>
                <a:ext cx="990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77960" y="5979960"/>
                <a:ext cx="1417680" cy="21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microcomenz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58880" y="5705640"/>
                <a:ext cx="1398600" cy="261720"/>
              </a:xfrm>
              <a:custGeom>
                <a:avLst/>
                <a:gdLst/>
                <a:ahLst/>
                <a:rect l="l" t="t" r="r" b="b"/>
                <a:pathLst>
                  <a:path w="1390" h="315">
                    <a:moveTo>
                      <a:pt x="0" y="13"/>
                    </a:moveTo>
                    <a:cubicBezTo>
                      <a:pt x="27" y="36"/>
                      <a:pt x="52" y="124"/>
                      <a:pt x="150" y="151"/>
                    </a:cubicBezTo>
                    <a:cubicBezTo>
                      <a:pt x="248" y="178"/>
                      <a:pt x="498" y="149"/>
                      <a:pt x="588" y="176"/>
                    </a:cubicBezTo>
                    <a:cubicBezTo>
                      <a:pt x="678" y="203"/>
                      <a:pt x="656" y="311"/>
                      <a:pt x="689" y="313"/>
                    </a:cubicBezTo>
                    <a:cubicBezTo>
                      <a:pt x="722" y="315"/>
                      <a:pt x="695" y="213"/>
                      <a:pt x="789" y="188"/>
                    </a:cubicBezTo>
                    <a:cubicBezTo>
                      <a:pt x="883" y="163"/>
                      <a:pt x="1152" y="194"/>
                      <a:pt x="1252" y="163"/>
                    </a:cubicBezTo>
                    <a:cubicBezTo>
                      <a:pt x="1352" y="132"/>
                      <a:pt x="1361" y="34"/>
                      <a:pt x="139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9" name=""/>
          <p:cNvSpPr/>
          <p:nvPr/>
        </p:nvSpPr>
        <p:spPr>
          <a:xfrm>
            <a:off x="250920" y="4221000"/>
            <a:ext cx="6121440" cy="22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219640" y="1557360"/>
            <a:ext cx="3456000" cy="26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84360" y="1557360"/>
            <a:ext cx="3958920" cy="26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C029-E03D-4DE2-BCE3-C29B62474B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xecutia secventiala a instructiunilor (arhitectura scalara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azele de executie ale unei instructiuni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itire instructiune (CI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codificare instructiune (ID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ecutie operatie (Ex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peratie cu memoria (Mem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criere rezultat (Sc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PI = 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250920" y="4724280"/>
            <a:ext cx="576000" cy="368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26920" y="4724280"/>
            <a:ext cx="576360" cy="368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403280" y="4724280"/>
            <a:ext cx="576360" cy="368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79640" y="4724280"/>
            <a:ext cx="576360" cy="368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556000" y="4724280"/>
            <a:ext cx="576000" cy="368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30560" y="4724280"/>
            <a:ext cx="576360" cy="36828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706920" y="4724280"/>
            <a:ext cx="576000" cy="36828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282920" y="4724280"/>
            <a:ext cx="576360" cy="36828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859280" y="4724280"/>
            <a:ext cx="576360" cy="36828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435640" y="4724280"/>
            <a:ext cx="576360" cy="36828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012000" y="4724280"/>
            <a:ext cx="57600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588000" y="4724280"/>
            <a:ext cx="57636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164360" y="4724280"/>
            <a:ext cx="57636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740720" y="4724280"/>
            <a:ext cx="57636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317080" y="4724280"/>
            <a:ext cx="57600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08000" y="5229360"/>
            <a:ext cx="718920" cy="215640"/>
          </a:xfrm>
          <a:custGeom>
            <a:avLst/>
            <a:gdLst/>
            <a:ahLst/>
            <a:rect l="l" t="t" r="r" b="b"/>
            <a:pathLst>
              <a:path w="453" h="136">
                <a:moveTo>
                  <a:pt x="0" y="136"/>
                </a:moveTo>
                <a:lnTo>
                  <a:pt x="90" y="136"/>
                </a:lnTo>
                <a:lnTo>
                  <a:pt x="90" y="0"/>
                </a:lnTo>
                <a:lnTo>
                  <a:pt x="227" y="0"/>
                </a:lnTo>
                <a:lnTo>
                  <a:pt x="227" y="136"/>
                </a:lnTo>
                <a:lnTo>
                  <a:pt x="453" y="136"/>
                </a:lnTo>
                <a:lnTo>
                  <a:pt x="408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84360" y="5229360"/>
            <a:ext cx="718920" cy="215640"/>
          </a:xfrm>
          <a:custGeom>
            <a:avLst/>
            <a:gdLst/>
            <a:ahLst/>
            <a:rect l="l" t="t" r="r" b="b"/>
            <a:pathLst>
              <a:path w="453" h="136">
                <a:moveTo>
                  <a:pt x="0" y="136"/>
                </a:moveTo>
                <a:lnTo>
                  <a:pt x="90" y="136"/>
                </a:lnTo>
                <a:lnTo>
                  <a:pt x="90" y="0"/>
                </a:lnTo>
                <a:lnTo>
                  <a:pt x="227" y="0"/>
                </a:lnTo>
                <a:lnTo>
                  <a:pt x="227" y="136"/>
                </a:lnTo>
                <a:lnTo>
                  <a:pt x="453" y="136"/>
                </a:lnTo>
                <a:lnTo>
                  <a:pt x="408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258920" y="5229360"/>
            <a:ext cx="719280" cy="215640"/>
          </a:xfrm>
          <a:custGeom>
            <a:avLst/>
            <a:gdLst/>
            <a:ahLst/>
            <a:rect l="l" t="t" r="r" b="b"/>
            <a:pathLst>
              <a:path w="453" h="136">
                <a:moveTo>
                  <a:pt x="0" y="136"/>
                </a:moveTo>
                <a:lnTo>
                  <a:pt x="90" y="136"/>
                </a:lnTo>
                <a:lnTo>
                  <a:pt x="90" y="0"/>
                </a:lnTo>
                <a:lnTo>
                  <a:pt x="227" y="0"/>
                </a:lnTo>
                <a:lnTo>
                  <a:pt x="227" y="136"/>
                </a:lnTo>
                <a:lnTo>
                  <a:pt x="453" y="136"/>
                </a:lnTo>
                <a:lnTo>
                  <a:pt x="408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835280" y="5229360"/>
            <a:ext cx="718920" cy="215640"/>
          </a:xfrm>
          <a:custGeom>
            <a:avLst/>
            <a:gdLst/>
            <a:ahLst/>
            <a:rect l="l" t="t" r="r" b="b"/>
            <a:pathLst>
              <a:path w="453" h="136">
                <a:moveTo>
                  <a:pt x="0" y="136"/>
                </a:moveTo>
                <a:lnTo>
                  <a:pt x="90" y="136"/>
                </a:lnTo>
                <a:lnTo>
                  <a:pt x="90" y="0"/>
                </a:lnTo>
                <a:lnTo>
                  <a:pt x="227" y="0"/>
                </a:lnTo>
                <a:lnTo>
                  <a:pt x="227" y="136"/>
                </a:lnTo>
                <a:lnTo>
                  <a:pt x="453" y="136"/>
                </a:lnTo>
                <a:lnTo>
                  <a:pt x="408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411280" y="5229360"/>
            <a:ext cx="719280" cy="215640"/>
          </a:xfrm>
          <a:custGeom>
            <a:avLst/>
            <a:gdLst/>
            <a:ahLst/>
            <a:rect l="l" t="t" r="r" b="b"/>
            <a:pathLst>
              <a:path w="453" h="136">
                <a:moveTo>
                  <a:pt x="0" y="136"/>
                </a:moveTo>
                <a:lnTo>
                  <a:pt x="90" y="136"/>
                </a:lnTo>
                <a:lnTo>
                  <a:pt x="90" y="0"/>
                </a:lnTo>
                <a:lnTo>
                  <a:pt x="227" y="0"/>
                </a:lnTo>
                <a:lnTo>
                  <a:pt x="227" y="136"/>
                </a:lnTo>
                <a:lnTo>
                  <a:pt x="453" y="136"/>
                </a:lnTo>
                <a:lnTo>
                  <a:pt x="408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989440" y="5229360"/>
            <a:ext cx="718920" cy="215640"/>
          </a:xfrm>
          <a:custGeom>
            <a:avLst/>
            <a:gdLst/>
            <a:ahLst/>
            <a:rect l="l" t="t" r="r" b="b"/>
            <a:pathLst>
              <a:path w="453" h="136">
                <a:moveTo>
                  <a:pt x="0" y="136"/>
                </a:moveTo>
                <a:lnTo>
                  <a:pt x="90" y="136"/>
                </a:lnTo>
                <a:lnTo>
                  <a:pt x="90" y="0"/>
                </a:lnTo>
                <a:lnTo>
                  <a:pt x="227" y="0"/>
                </a:lnTo>
                <a:lnTo>
                  <a:pt x="227" y="136"/>
                </a:lnTo>
                <a:lnTo>
                  <a:pt x="453" y="136"/>
                </a:lnTo>
                <a:lnTo>
                  <a:pt x="408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565440" y="5229360"/>
            <a:ext cx="719280" cy="215640"/>
          </a:xfrm>
          <a:custGeom>
            <a:avLst/>
            <a:gdLst/>
            <a:ahLst/>
            <a:rect l="l" t="t" r="r" b="b"/>
            <a:pathLst>
              <a:path w="453" h="136">
                <a:moveTo>
                  <a:pt x="0" y="136"/>
                </a:moveTo>
                <a:lnTo>
                  <a:pt x="90" y="136"/>
                </a:lnTo>
                <a:lnTo>
                  <a:pt x="90" y="0"/>
                </a:lnTo>
                <a:lnTo>
                  <a:pt x="227" y="0"/>
                </a:lnTo>
                <a:lnTo>
                  <a:pt x="227" y="136"/>
                </a:lnTo>
                <a:lnTo>
                  <a:pt x="453" y="136"/>
                </a:lnTo>
                <a:lnTo>
                  <a:pt x="408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140360" y="5229360"/>
            <a:ext cx="718920" cy="215640"/>
          </a:xfrm>
          <a:custGeom>
            <a:avLst/>
            <a:gdLst/>
            <a:ahLst/>
            <a:rect l="l" t="t" r="r" b="b"/>
            <a:pathLst>
              <a:path w="453" h="136">
                <a:moveTo>
                  <a:pt x="0" y="136"/>
                </a:moveTo>
                <a:lnTo>
                  <a:pt x="90" y="136"/>
                </a:lnTo>
                <a:lnTo>
                  <a:pt x="90" y="0"/>
                </a:lnTo>
                <a:lnTo>
                  <a:pt x="227" y="0"/>
                </a:lnTo>
                <a:lnTo>
                  <a:pt x="227" y="136"/>
                </a:lnTo>
                <a:lnTo>
                  <a:pt x="453" y="136"/>
                </a:lnTo>
                <a:lnTo>
                  <a:pt x="408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716360" y="5229360"/>
            <a:ext cx="719280" cy="215640"/>
          </a:xfrm>
          <a:custGeom>
            <a:avLst/>
            <a:gdLst/>
            <a:ahLst/>
            <a:rect l="l" t="t" r="r" b="b"/>
            <a:pathLst>
              <a:path w="453" h="136">
                <a:moveTo>
                  <a:pt x="0" y="136"/>
                </a:moveTo>
                <a:lnTo>
                  <a:pt x="90" y="136"/>
                </a:lnTo>
                <a:lnTo>
                  <a:pt x="90" y="0"/>
                </a:lnTo>
                <a:lnTo>
                  <a:pt x="227" y="0"/>
                </a:lnTo>
                <a:lnTo>
                  <a:pt x="227" y="136"/>
                </a:lnTo>
                <a:lnTo>
                  <a:pt x="453" y="136"/>
                </a:lnTo>
                <a:lnTo>
                  <a:pt x="408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92720" y="5229360"/>
            <a:ext cx="719280" cy="215640"/>
          </a:xfrm>
          <a:custGeom>
            <a:avLst/>
            <a:gdLst/>
            <a:ahLst/>
            <a:rect l="l" t="t" r="r" b="b"/>
            <a:pathLst>
              <a:path w="453" h="136">
                <a:moveTo>
                  <a:pt x="0" y="136"/>
                </a:moveTo>
                <a:lnTo>
                  <a:pt x="90" y="136"/>
                </a:lnTo>
                <a:lnTo>
                  <a:pt x="90" y="0"/>
                </a:lnTo>
                <a:lnTo>
                  <a:pt x="227" y="0"/>
                </a:lnTo>
                <a:lnTo>
                  <a:pt x="227" y="136"/>
                </a:lnTo>
                <a:lnTo>
                  <a:pt x="453" y="136"/>
                </a:lnTo>
                <a:lnTo>
                  <a:pt x="408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869080" y="5229360"/>
            <a:ext cx="718920" cy="215640"/>
          </a:xfrm>
          <a:custGeom>
            <a:avLst/>
            <a:gdLst/>
            <a:ahLst/>
            <a:rect l="l" t="t" r="r" b="b"/>
            <a:pathLst>
              <a:path w="453" h="136">
                <a:moveTo>
                  <a:pt x="0" y="136"/>
                </a:moveTo>
                <a:lnTo>
                  <a:pt x="90" y="136"/>
                </a:lnTo>
                <a:lnTo>
                  <a:pt x="90" y="0"/>
                </a:lnTo>
                <a:lnTo>
                  <a:pt x="227" y="0"/>
                </a:lnTo>
                <a:lnTo>
                  <a:pt x="227" y="136"/>
                </a:lnTo>
                <a:lnTo>
                  <a:pt x="453" y="136"/>
                </a:lnTo>
                <a:lnTo>
                  <a:pt x="408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445080" y="5229360"/>
            <a:ext cx="719280" cy="215640"/>
          </a:xfrm>
          <a:custGeom>
            <a:avLst/>
            <a:gdLst/>
            <a:ahLst/>
            <a:rect l="l" t="t" r="r" b="b"/>
            <a:pathLst>
              <a:path w="453" h="136">
                <a:moveTo>
                  <a:pt x="0" y="136"/>
                </a:moveTo>
                <a:lnTo>
                  <a:pt x="90" y="136"/>
                </a:lnTo>
                <a:lnTo>
                  <a:pt x="90" y="0"/>
                </a:lnTo>
                <a:lnTo>
                  <a:pt x="227" y="0"/>
                </a:lnTo>
                <a:lnTo>
                  <a:pt x="227" y="136"/>
                </a:lnTo>
                <a:lnTo>
                  <a:pt x="453" y="136"/>
                </a:lnTo>
                <a:lnTo>
                  <a:pt x="408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020000" y="5229360"/>
            <a:ext cx="718920" cy="215640"/>
          </a:xfrm>
          <a:custGeom>
            <a:avLst/>
            <a:gdLst/>
            <a:ahLst/>
            <a:rect l="l" t="t" r="r" b="b"/>
            <a:pathLst>
              <a:path w="453" h="136">
                <a:moveTo>
                  <a:pt x="0" y="136"/>
                </a:moveTo>
                <a:lnTo>
                  <a:pt x="90" y="136"/>
                </a:lnTo>
                <a:lnTo>
                  <a:pt x="90" y="0"/>
                </a:lnTo>
                <a:lnTo>
                  <a:pt x="227" y="0"/>
                </a:lnTo>
                <a:lnTo>
                  <a:pt x="227" y="136"/>
                </a:lnTo>
                <a:lnTo>
                  <a:pt x="453" y="136"/>
                </a:lnTo>
                <a:lnTo>
                  <a:pt x="408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596360" y="5229360"/>
            <a:ext cx="718920" cy="215640"/>
          </a:xfrm>
          <a:custGeom>
            <a:avLst/>
            <a:gdLst/>
            <a:ahLst/>
            <a:rect l="l" t="t" r="r" b="b"/>
            <a:pathLst>
              <a:path w="453" h="136">
                <a:moveTo>
                  <a:pt x="0" y="136"/>
                </a:moveTo>
                <a:lnTo>
                  <a:pt x="90" y="136"/>
                </a:lnTo>
                <a:lnTo>
                  <a:pt x="90" y="0"/>
                </a:lnTo>
                <a:lnTo>
                  <a:pt x="227" y="0"/>
                </a:lnTo>
                <a:lnTo>
                  <a:pt x="227" y="136"/>
                </a:lnTo>
                <a:lnTo>
                  <a:pt x="453" y="136"/>
                </a:lnTo>
                <a:lnTo>
                  <a:pt x="408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172360" y="5229360"/>
            <a:ext cx="719280" cy="215640"/>
          </a:xfrm>
          <a:custGeom>
            <a:avLst/>
            <a:gdLst/>
            <a:ahLst/>
            <a:rect l="l" t="t" r="r" b="b"/>
            <a:pathLst>
              <a:path w="453" h="136">
                <a:moveTo>
                  <a:pt x="0" y="136"/>
                </a:moveTo>
                <a:lnTo>
                  <a:pt x="90" y="136"/>
                </a:lnTo>
                <a:lnTo>
                  <a:pt x="90" y="0"/>
                </a:lnTo>
                <a:lnTo>
                  <a:pt x="227" y="0"/>
                </a:lnTo>
                <a:lnTo>
                  <a:pt x="227" y="136"/>
                </a:lnTo>
                <a:lnTo>
                  <a:pt x="453" y="136"/>
                </a:lnTo>
                <a:lnTo>
                  <a:pt x="408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508464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132000" y="501336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012000" y="494172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893080" y="501336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0920" y="580536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132000" y="580536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12000" y="580536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84360" y="5516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r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564000" y="5516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r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443640" y="5516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r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F22F-DA29-461E-B765-B8C2629668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xecutia paralela instructiunilor intr-o arhitectura pipeline (banda rulanta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01640" y="1628640"/>
            <a:ext cx="8118000" cy="4896000"/>
            <a:chOff x="701640" y="1628640"/>
            <a:chExt cx="8118000" cy="4896000"/>
          </a:xfrm>
        </p:grpSpPr>
        <p:sp>
          <p:nvSpPr>
            <p:cNvPr id="566" name=""/>
            <p:cNvSpPr/>
            <p:nvPr/>
          </p:nvSpPr>
          <p:spPr>
            <a:xfrm>
              <a:off x="4170240" y="3818160"/>
              <a:ext cx="737640" cy="1854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384240" y="3767400"/>
              <a:ext cx="0" cy="842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5646240" y="3767760"/>
              <a:ext cx="0" cy="44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218240" y="2022120"/>
              <a:ext cx="73764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956240" y="202212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94240" y="2022120"/>
              <a:ext cx="73764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32240" y="202212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70240" y="2022120"/>
              <a:ext cx="73764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908240" y="202212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646240" y="2022120"/>
              <a:ext cx="73764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384240" y="202212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22600" y="202212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860600" y="2022120"/>
              <a:ext cx="73764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18240" y="1965600"/>
              <a:ext cx="745380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I       DI       Ex      Mem    Scr       CI       DI       Ex      Mem    Sc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6200000">
              <a:off x="2959560" y="696960"/>
              <a:ext cx="280800" cy="3616200"/>
            </a:xfrm>
            <a:custGeom>
              <a:avLst/>
              <a:gdLst>
                <a:gd name="textAreaLeft" fmla="*/ 179280 w 280800"/>
                <a:gd name="textAreaRight" fmla="*/ 281160 w 280800"/>
                <a:gd name="textAreaTop" fmla="*/ 93960 h 3616200"/>
                <a:gd name="textAreaBottom" fmla="*/ 3522240 h 361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6200000">
              <a:off x="6649560" y="696960"/>
              <a:ext cx="280800" cy="3616200"/>
            </a:xfrm>
            <a:custGeom>
              <a:avLst/>
              <a:gdLst>
                <a:gd name="textAreaLeft" fmla="*/ 179280 w 280800"/>
                <a:gd name="textAreaRight" fmla="*/ 281160 w 280800"/>
                <a:gd name="textAreaTop" fmla="*/ 93960 h 3616200"/>
                <a:gd name="textAreaBottom" fmla="*/ 3522240 h 361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103840" y="2589840"/>
              <a:ext cx="57567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strucţiunea 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               instrucţiunea 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922680" y="2864880"/>
              <a:ext cx="346860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ecuţie secvenţială  CPI =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218240" y="1628640"/>
              <a:ext cx="760140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3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8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9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218240" y="3824280"/>
              <a:ext cx="73764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56240" y="382428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94240" y="3824280"/>
              <a:ext cx="73764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32240" y="382428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170240" y="3824280"/>
              <a:ext cx="737640" cy="280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56240" y="421740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94240" y="4217400"/>
              <a:ext cx="73764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432240" y="421740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170240" y="4217400"/>
              <a:ext cx="737640" cy="280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08240" y="421740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694240" y="4610880"/>
              <a:ext cx="73764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432240" y="461088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170240" y="4610880"/>
              <a:ext cx="737640" cy="280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908240" y="461088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646240" y="4610880"/>
              <a:ext cx="73764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070640" y="5729040"/>
              <a:ext cx="5682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ecuţie pipeline CPI=1 (în cazul ideal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432240" y="500436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170240" y="5004360"/>
              <a:ext cx="737640" cy="280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08240" y="500436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646240" y="5004360"/>
              <a:ext cx="73764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384240" y="500436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170240" y="5397840"/>
              <a:ext cx="737640" cy="280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908240" y="539784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646240" y="5397840"/>
              <a:ext cx="73764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384240" y="539784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122600" y="5397840"/>
              <a:ext cx="7380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01640" y="3767760"/>
              <a:ext cx="663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9240" y="4217400"/>
              <a:ext cx="663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70640" y="4554720"/>
              <a:ext cx="663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292040" y="4948200"/>
              <a:ext cx="6638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586880" y="5341320"/>
              <a:ext cx="6642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44080" y="3767760"/>
              <a:ext cx="4059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I       DI       Ex      Mem    Sc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882440" y="4161240"/>
              <a:ext cx="405900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I       DI       Ex      Mem    Sc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46640" y="4554720"/>
              <a:ext cx="4059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I       DI       Ex      Mem    Sc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358440" y="4948200"/>
              <a:ext cx="405900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I       DI       Ex      Mem    Sc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022640" y="5341320"/>
              <a:ext cx="4059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I         DI       Ex      Mem    Sc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96840" y="6131160"/>
              <a:ext cx="7527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igura 6.1 Comparaţie între execuţia secvenţială şi de tip pipe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7122600" y="3763800"/>
              <a:ext cx="0" cy="1235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7860600" y="3764160"/>
              <a:ext cx="0" cy="1629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144080" y="3481200"/>
              <a:ext cx="760176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3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8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9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  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FD52-6965-4C10-BA6C-05CA903440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3:25:12Z</dcterms:created>
  <dc:creator>gheorghe.sebestyen</dc:creator>
  <dc:description/>
  <dc:language>en-US</dc:language>
  <cp:lastModifiedBy>SPG</cp:lastModifiedBy>
  <dcterms:modified xsi:type="dcterms:W3CDTF">2015-03-10T09:16:55Z</dcterms:modified>
  <cp:revision>23</cp:revision>
  <dc:subject/>
  <dc:title>Sisteme cu microprocesoare Cursul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