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D4D-1E4E-4326-9CB8-C3DE03BB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48F-C773-4BFE-A930-C0DAB723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C1B-C916-44D4-A0E5-F339E619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BE8-C83B-44F4-B5AA-4E772DC0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AD30-B40D-4092-8963-D841B948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2186-8C5A-43BC-9271-35D54C74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10BF-B990-4619-ADDA-8AEC3C5B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CD30-AAD8-41DF-9731-E31F9631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0A97-112A-4983-A780-685650B7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93E5-C875-4B4A-A337-FB48045F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2FC9-A584-4FE2-8721-494B0386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CF9-4CAF-433B-9669-8CD8F518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A6ED-864A-47FC-8D45-1675042D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2573-8410-44DF-83A8-4D5D3545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3B0A-00E3-4B1F-8C18-30D7A45A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EACD-1D7B-4D3D-90F0-FA0329A5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5C95-FF1B-4007-99E7-0F1E5477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D13-D124-4058-A088-49EC3C31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F82-C504-48B4-BFF8-D82BCD13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D47-B2A8-409F-9CBD-88B048A1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976-09E9-456C-8B7B-CAE0CB62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E48-8B68-44A3-B3EA-AA93C4C4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A5C-19A8-4F89-BE5A-06987BA9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A5F-EA5A-4F72-A383-2A176D82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08E6-2BDA-44BD-B133-F528DA4DB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2E64-C9D0-4639-9C0E-F90C62AEF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5471-41AD-4923-BB75-3E39630089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ul 8 Proiectarea interfetelor de intrare/iesire (continuare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51B2-0E72-4394-9619-FB07CDBDCA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opologia logica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(nivelul 2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3429000" y="1523880"/>
            <a:ext cx="1676520" cy="838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352680" y="1676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1" name="Group 5"/>
          <p:cNvGrpSpPr/>
          <p:nvPr/>
        </p:nvGrpSpPr>
        <p:grpSpPr>
          <a:xfrm>
            <a:off x="609480" y="2666880"/>
            <a:ext cx="1676520" cy="990720"/>
            <a:chOff x="609480" y="2666880"/>
            <a:chExt cx="1676520" cy="990720"/>
          </a:xfrm>
        </p:grpSpPr>
        <p:sp>
          <p:nvSpPr>
            <p:cNvPr id="192" name="Oval 6"/>
            <p:cNvSpPr/>
            <p:nvPr/>
          </p:nvSpPr>
          <p:spPr>
            <a:xfrm>
              <a:off x="609480" y="2666880"/>
              <a:ext cx="1676520" cy="990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761760" y="274320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ispozitiv logic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4" name="Group 8"/>
          <p:cNvGrpSpPr/>
          <p:nvPr/>
        </p:nvGrpSpPr>
        <p:grpSpPr>
          <a:xfrm>
            <a:off x="2971800" y="3352680"/>
            <a:ext cx="1676520" cy="990720"/>
            <a:chOff x="2971800" y="3352680"/>
            <a:chExt cx="1676520" cy="990720"/>
          </a:xfrm>
        </p:grpSpPr>
        <p:sp>
          <p:nvSpPr>
            <p:cNvPr id="195" name="Oval 9"/>
            <p:cNvSpPr/>
            <p:nvPr/>
          </p:nvSpPr>
          <p:spPr>
            <a:xfrm>
              <a:off x="2971800" y="3352680"/>
              <a:ext cx="1676520" cy="990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Text Box 10"/>
            <p:cNvSpPr/>
            <p:nvPr/>
          </p:nvSpPr>
          <p:spPr>
            <a:xfrm>
              <a:off x="3124080" y="342900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ispozitiv logic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" name="Group 11"/>
          <p:cNvGrpSpPr/>
          <p:nvPr/>
        </p:nvGrpSpPr>
        <p:grpSpPr>
          <a:xfrm>
            <a:off x="5638680" y="3352680"/>
            <a:ext cx="1676520" cy="990720"/>
            <a:chOff x="5638680" y="3352680"/>
            <a:chExt cx="1676520" cy="990720"/>
          </a:xfrm>
        </p:grpSpPr>
        <p:sp>
          <p:nvSpPr>
            <p:cNvPr id="198" name="Oval 12"/>
            <p:cNvSpPr/>
            <p:nvPr/>
          </p:nvSpPr>
          <p:spPr>
            <a:xfrm>
              <a:off x="5638680" y="3352680"/>
              <a:ext cx="1676520" cy="990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5790960" y="342900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ispozitiv logic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" name="Group 14"/>
          <p:cNvGrpSpPr/>
          <p:nvPr/>
        </p:nvGrpSpPr>
        <p:grpSpPr>
          <a:xfrm>
            <a:off x="7010280" y="2209680"/>
            <a:ext cx="1676520" cy="990720"/>
            <a:chOff x="7010280" y="2209680"/>
            <a:chExt cx="1676520" cy="990720"/>
          </a:xfrm>
        </p:grpSpPr>
        <p:sp>
          <p:nvSpPr>
            <p:cNvPr id="201" name="Oval 15"/>
            <p:cNvSpPr/>
            <p:nvPr/>
          </p:nvSpPr>
          <p:spPr>
            <a:xfrm>
              <a:off x="7010280" y="2209680"/>
              <a:ext cx="1676520" cy="990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Text Box 16"/>
            <p:cNvSpPr/>
            <p:nvPr/>
          </p:nvSpPr>
          <p:spPr>
            <a:xfrm>
              <a:off x="7162560" y="228600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ispozitiv logic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" name="Line 17"/>
          <p:cNvSpPr/>
          <p:nvPr/>
        </p:nvSpPr>
        <p:spPr>
          <a:xfrm flipV="1">
            <a:off x="2209680" y="220932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18"/>
          <p:cNvSpPr/>
          <p:nvPr/>
        </p:nvSpPr>
        <p:spPr>
          <a:xfrm flipV="1">
            <a:off x="3886200" y="228564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Line 19"/>
          <p:cNvSpPr/>
          <p:nvPr/>
        </p:nvSpPr>
        <p:spPr>
          <a:xfrm>
            <a:off x="4800600" y="220968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Line 20"/>
          <p:cNvSpPr/>
          <p:nvPr/>
        </p:nvSpPr>
        <p:spPr>
          <a:xfrm>
            <a:off x="5029200" y="190512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4724280"/>
            <a:ext cx="784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exiuni directe intre Host si Dispozitivele log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 face abstractie de legaturile fizice, care implica si Hub-u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D4B6-6303-48A5-8D99-8A1ECDC3D7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opologia la nivel de aplicatie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(nivel 3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048120" y="2133720"/>
            <a:ext cx="1447560" cy="1054080"/>
            <a:chOff x="3048120" y="2133720"/>
            <a:chExt cx="1447560" cy="1054080"/>
          </a:xfrm>
        </p:grpSpPr>
        <p:sp>
          <p:nvSpPr>
            <p:cNvPr id="211" name="Oval 4"/>
            <p:cNvSpPr/>
            <p:nvPr/>
          </p:nvSpPr>
          <p:spPr>
            <a:xfrm>
              <a:off x="3048120" y="2133720"/>
              <a:ext cx="1447560" cy="914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5"/>
            <p:cNvSpPr/>
            <p:nvPr/>
          </p:nvSpPr>
          <p:spPr>
            <a:xfrm>
              <a:off x="3048120" y="236232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oft cli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3" name="Group 6"/>
          <p:cNvGrpSpPr/>
          <p:nvPr/>
        </p:nvGrpSpPr>
        <p:grpSpPr>
          <a:xfrm>
            <a:off x="4038480" y="3048120"/>
            <a:ext cx="1447560" cy="1054080"/>
            <a:chOff x="4038480" y="3048120"/>
            <a:chExt cx="1447560" cy="1054080"/>
          </a:xfrm>
        </p:grpSpPr>
        <p:sp>
          <p:nvSpPr>
            <p:cNvPr id="214" name="Oval 7"/>
            <p:cNvSpPr/>
            <p:nvPr/>
          </p:nvSpPr>
          <p:spPr>
            <a:xfrm>
              <a:off x="4038480" y="3048120"/>
              <a:ext cx="1447560" cy="914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8"/>
            <p:cNvSpPr/>
            <p:nvPr/>
          </p:nvSpPr>
          <p:spPr>
            <a:xfrm>
              <a:off x="4038480" y="327672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oft cli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" name="Group 9"/>
          <p:cNvGrpSpPr/>
          <p:nvPr/>
        </p:nvGrpSpPr>
        <p:grpSpPr>
          <a:xfrm>
            <a:off x="5181480" y="2286000"/>
            <a:ext cx="1447560" cy="1054080"/>
            <a:chOff x="5181480" y="2286000"/>
            <a:chExt cx="1447560" cy="1054080"/>
          </a:xfrm>
        </p:grpSpPr>
        <p:sp>
          <p:nvSpPr>
            <p:cNvPr id="217" name="Oval 10"/>
            <p:cNvSpPr/>
            <p:nvPr/>
          </p:nvSpPr>
          <p:spPr>
            <a:xfrm>
              <a:off x="5181480" y="2286000"/>
              <a:ext cx="1447560" cy="914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Text Box 11"/>
            <p:cNvSpPr/>
            <p:nvPr/>
          </p:nvSpPr>
          <p:spPr>
            <a:xfrm>
              <a:off x="5181480" y="251460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oft cli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9" name="Group 12"/>
          <p:cNvGrpSpPr/>
          <p:nvPr/>
        </p:nvGrpSpPr>
        <p:grpSpPr>
          <a:xfrm>
            <a:off x="2209680" y="3048120"/>
            <a:ext cx="1447560" cy="1054080"/>
            <a:chOff x="2209680" y="3048120"/>
            <a:chExt cx="1447560" cy="1054080"/>
          </a:xfrm>
        </p:grpSpPr>
        <p:sp>
          <p:nvSpPr>
            <p:cNvPr id="220" name="Oval 13"/>
            <p:cNvSpPr/>
            <p:nvPr/>
          </p:nvSpPr>
          <p:spPr>
            <a:xfrm>
              <a:off x="2209680" y="3048120"/>
              <a:ext cx="1447560" cy="914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Text Box 14"/>
            <p:cNvSpPr/>
            <p:nvPr/>
          </p:nvSpPr>
          <p:spPr>
            <a:xfrm>
              <a:off x="2209680" y="327672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oft cli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2" name="AutoShape 15"/>
          <p:cNvSpPr/>
          <p:nvPr/>
        </p:nvSpPr>
        <p:spPr>
          <a:xfrm>
            <a:off x="2057400" y="2057400"/>
            <a:ext cx="4724280" cy="205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3" name="Group 16"/>
          <p:cNvGrpSpPr/>
          <p:nvPr/>
        </p:nvGrpSpPr>
        <p:grpSpPr>
          <a:xfrm>
            <a:off x="1066680" y="4876920"/>
            <a:ext cx="1447560" cy="685800"/>
            <a:chOff x="1066680" y="4876920"/>
            <a:chExt cx="1447560" cy="685800"/>
          </a:xfrm>
        </p:grpSpPr>
        <p:sp>
          <p:nvSpPr>
            <p:cNvPr id="224" name="Oval 17"/>
            <p:cNvSpPr/>
            <p:nvPr/>
          </p:nvSpPr>
          <p:spPr>
            <a:xfrm>
              <a:off x="1066680" y="4876920"/>
              <a:ext cx="1295280" cy="6858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18"/>
            <p:cNvSpPr/>
            <p:nvPr/>
          </p:nvSpPr>
          <p:spPr>
            <a:xfrm>
              <a:off x="1142640" y="49532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Func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6" name="Group 19"/>
          <p:cNvGrpSpPr/>
          <p:nvPr/>
        </p:nvGrpSpPr>
        <p:grpSpPr>
          <a:xfrm>
            <a:off x="2590920" y="5334120"/>
            <a:ext cx="1447560" cy="685800"/>
            <a:chOff x="2590920" y="5334120"/>
            <a:chExt cx="1447560" cy="685800"/>
          </a:xfrm>
        </p:grpSpPr>
        <p:sp>
          <p:nvSpPr>
            <p:cNvPr id="227" name="Oval 20"/>
            <p:cNvSpPr/>
            <p:nvPr/>
          </p:nvSpPr>
          <p:spPr>
            <a:xfrm>
              <a:off x="2590920" y="5334120"/>
              <a:ext cx="1295280" cy="6858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21"/>
            <p:cNvSpPr/>
            <p:nvPr/>
          </p:nvSpPr>
          <p:spPr>
            <a:xfrm>
              <a:off x="2666880" y="54104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Func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9" name="Group 22"/>
          <p:cNvGrpSpPr/>
          <p:nvPr/>
        </p:nvGrpSpPr>
        <p:grpSpPr>
          <a:xfrm>
            <a:off x="4191120" y="5029200"/>
            <a:ext cx="1447560" cy="685800"/>
            <a:chOff x="4191120" y="5029200"/>
            <a:chExt cx="1447560" cy="685800"/>
          </a:xfrm>
        </p:grpSpPr>
        <p:sp>
          <p:nvSpPr>
            <p:cNvPr id="230" name="Oval 23"/>
            <p:cNvSpPr/>
            <p:nvPr/>
          </p:nvSpPr>
          <p:spPr>
            <a:xfrm>
              <a:off x="4191120" y="5029200"/>
              <a:ext cx="1295280" cy="6858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Text Box 24"/>
            <p:cNvSpPr/>
            <p:nvPr/>
          </p:nvSpPr>
          <p:spPr>
            <a:xfrm>
              <a:off x="4267080" y="5105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Func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2" name="Group 25"/>
          <p:cNvGrpSpPr/>
          <p:nvPr/>
        </p:nvGrpSpPr>
        <p:grpSpPr>
          <a:xfrm>
            <a:off x="6172200" y="5181480"/>
            <a:ext cx="1447560" cy="685800"/>
            <a:chOff x="6172200" y="5181480"/>
            <a:chExt cx="1447560" cy="685800"/>
          </a:xfrm>
        </p:grpSpPr>
        <p:sp>
          <p:nvSpPr>
            <p:cNvPr id="233" name="Oval 26"/>
            <p:cNvSpPr/>
            <p:nvPr/>
          </p:nvSpPr>
          <p:spPr>
            <a:xfrm>
              <a:off x="6172200" y="5181480"/>
              <a:ext cx="1295280" cy="6858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6248160" y="52578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Func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5" name="Line 28"/>
          <p:cNvSpPr/>
          <p:nvPr/>
        </p:nvSpPr>
        <p:spPr>
          <a:xfrm flipV="1">
            <a:off x="1981080" y="3886200"/>
            <a:ext cx="6098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29"/>
          <p:cNvSpPr/>
          <p:nvPr/>
        </p:nvSpPr>
        <p:spPr>
          <a:xfrm flipV="1">
            <a:off x="3429000" y="3048120"/>
            <a:ext cx="3808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30"/>
          <p:cNvSpPr/>
          <p:nvPr/>
        </p:nvSpPr>
        <p:spPr>
          <a:xfrm flipV="1">
            <a:off x="4800600" y="39621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31"/>
          <p:cNvSpPr/>
          <p:nvPr/>
        </p:nvSpPr>
        <p:spPr>
          <a:xfrm flipH="1" flipV="1">
            <a:off x="6172200" y="3200040"/>
            <a:ext cx="5335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32"/>
          <p:cNvSpPr/>
          <p:nvPr/>
        </p:nvSpPr>
        <p:spPr>
          <a:xfrm>
            <a:off x="2514600" y="4876920"/>
            <a:ext cx="312408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33"/>
          <p:cNvSpPr/>
          <p:nvPr/>
        </p:nvSpPr>
        <p:spPr>
          <a:xfrm>
            <a:off x="457200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az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34"/>
          <p:cNvSpPr/>
          <p:nvPr/>
        </p:nvSpPr>
        <p:spPr>
          <a:xfrm>
            <a:off x="6019920" y="5029200"/>
            <a:ext cx="160020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35"/>
          <p:cNvSpPr/>
          <p:nvPr/>
        </p:nvSpPr>
        <p:spPr>
          <a:xfrm>
            <a:off x="990720" y="4724280"/>
            <a:ext cx="144756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36"/>
          <p:cNvSpPr/>
          <p:nvPr/>
        </p:nvSpPr>
        <p:spPr>
          <a:xfrm>
            <a:off x="609480" y="4343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spozit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A1FD-0FCD-455C-A2D5-1BA88BAF2F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nale de comunicati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Oval 3"/>
          <p:cNvSpPr/>
          <p:nvPr/>
        </p:nvSpPr>
        <p:spPr>
          <a:xfrm>
            <a:off x="3657600" y="1676520"/>
            <a:ext cx="198108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96252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ft cl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00400" y="3048120"/>
            <a:ext cx="6858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343400" y="3048120"/>
            <a:ext cx="6858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5486400" y="3048120"/>
            <a:ext cx="6858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762120" y="396252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3505320" y="4800600"/>
            <a:ext cx="2133360" cy="10666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AutoShape 10"/>
          <p:cNvSpPr/>
          <p:nvPr/>
        </p:nvSpPr>
        <p:spPr>
          <a:xfrm rot="20717400">
            <a:off x="3531960" y="3422160"/>
            <a:ext cx="533160" cy="1757520"/>
          </a:xfrm>
          <a:prstGeom prst="can">
            <a:avLst>
              <a:gd name="adj" fmla="val 13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11"/>
          <p:cNvSpPr/>
          <p:nvPr/>
        </p:nvSpPr>
        <p:spPr>
          <a:xfrm>
            <a:off x="4419720" y="3505320"/>
            <a:ext cx="533160" cy="1600200"/>
          </a:xfrm>
          <a:prstGeom prst="can">
            <a:avLst>
              <a:gd name="adj" fmla="val 13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AutoShape 12"/>
          <p:cNvSpPr/>
          <p:nvPr/>
        </p:nvSpPr>
        <p:spPr>
          <a:xfrm rot="1120200">
            <a:off x="5295600" y="3498480"/>
            <a:ext cx="533520" cy="1676520"/>
          </a:xfrm>
          <a:prstGeom prst="can">
            <a:avLst>
              <a:gd name="adj" fmla="val 13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3581280" y="350532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648320" y="35053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15"/>
          <p:cNvSpPr/>
          <p:nvPr/>
        </p:nvSpPr>
        <p:spPr>
          <a:xfrm flipH="1">
            <a:off x="5257440" y="3505320"/>
            <a:ext cx="60948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6"/>
          <p:cNvSpPr/>
          <p:nvPr/>
        </p:nvSpPr>
        <p:spPr>
          <a:xfrm flipV="1">
            <a:off x="3581280" y="24382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Line 17"/>
          <p:cNvSpPr/>
          <p:nvPr/>
        </p:nvSpPr>
        <p:spPr>
          <a:xfrm flipV="1">
            <a:off x="47242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18"/>
          <p:cNvSpPr/>
          <p:nvPr/>
        </p:nvSpPr>
        <p:spPr>
          <a:xfrm flipH="1" flipV="1">
            <a:off x="5410080" y="23619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762120" y="17524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az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609480" y="5257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ispoziti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6477120" y="2971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uff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6297840" y="427356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anale (Pip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23"/>
          <p:cNvSpPr/>
          <p:nvPr/>
        </p:nvSpPr>
        <p:spPr>
          <a:xfrm flipH="1" flipV="1">
            <a:off x="5867280" y="426672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24"/>
          <p:cNvSpPr/>
          <p:nvPr/>
        </p:nvSpPr>
        <p:spPr>
          <a:xfrm flipH="1" flipV="1">
            <a:off x="4952880" y="426672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25"/>
          <p:cNvSpPr/>
          <p:nvPr/>
        </p:nvSpPr>
        <p:spPr>
          <a:xfrm flipH="1">
            <a:off x="4114800" y="4495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26"/>
          <p:cNvSpPr/>
          <p:nvPr/>
        </p:nvSpPr>
        <p:spPr>
          <a:xfrm>
            <a:off x="1752480" y="39625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luxuri de comunica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7"/>
          <p:cNvSpPr/>
          <p:nvPr/>
        </p:nvSpPr>
        <p:spPr>
          <a:xfrm flipV="1">
            <a:off x="3276720" y="403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28"/>
          <p:cNvSpPr/>
          <p:nvPr/>
        </p:nvSpPr>
        <p:spPr>
          <a:xfrm flipV="1">
            <a:off x="3276720" y="40381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29"/>
          <p:cNvSpPr/>
          <p:nvPr/>
        </p:nvSpPr>
        <p:spPr>
          <a:xfrm flipV="1">
            <a:off x="3276720" y="4114440"/>
            <a:ext cx="2361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Freeform 30"/>
          <p:cNvSpPr/>
          <p:nvPr/>
        </p:nvSpPr>
        <p:spPr>
          <a:xfrm>
            <a:off x="3676680" y="4834080"/>
            <a:ext cx="638280" cy="745920"/>
          </a:xfrm>
          <a:custGeom>
            <a:avLst/>
            <a:gdLst/>
            <a:ahLst/>
            <a:rect l="l" t="t" r="r" b="b"/>
            <a:pathLst>
              <a:path w="402" h="470">
                <a:moveTo>
                  <a:pt x="388" y="0"/>
                </a:moveTo>
                <a:cubicBezTo>
                  <a:pt x="385" y="38"/>
                  <a:pt x="402" y="153"/>
                  <a:pt x="372" y="219"/>
                </a:cubicBezTo>
                <a:cubicBezTo>
                  <a:pt x="342" y="285"/>
                  <a:pt x="273" y="357"/>
                  <a:pt x="211" y="399"/>
                </a:cubicBezTo>
                <a:cubicBezTo>
                  <a:pt x="149" y="441"/>
                  <a:pt x="44" y="455"/>
                  <a:pt x="0" y="4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Freeform 31"/>
          <p:cNvSpPr/>
          <p:nvPr/>
        </p:nvSpPr>
        <p:spPr>
          <a:xfrm>
            <a:off x="5003640" y="4876920"/>
            <a:ext cx="406440" cy="761760"/>
          </a:xfrm>
          <a:custGeom>
            <a:avLst/>
            <a:gdLst/>
            <a:ahLst/>
            <a:rect l="l" t="t" r="r" b="b"/>
            <a:pathLst>
              <a:path w="256" h="480">
                <a:moveTo>
                  <a:pt x="16" y="0"/>
                </a:moveTo>
                <a:cubicBezTo>
                  <a:pt x="8" y="64"/>
                  <a:pt x="0" y="128"/>
                  <a:pt x="16" y="192"/>
                </a:cubicBezTo>
                <a:cubicBezTo>
                  <a:pt x="32" y="256"/>
                  <a:pt x="72" y="336"/>
                  <a:pt x="112" y="384"/>
                </a:cubicBezTo>
                <a:cubicBezTo>
                  <a:pt x="152" y="432"/>
                  <a:pt x="204" y="456"/>
                  <a:pt x="256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6019920" y="52578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uncte terminale (Endpoi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33"/>
          <p:cNvSpPr/>
          <p:nvPr/>
        </p:nvSpPr>
        <p:spPr>
          <a:xfrm flipH="1" flipV="1">
            <a:off x="5410080" y="533376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5029200" y="5562720"/>
            <a:ext cx="9907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35"/>
          <p:cNvSpPr/>
          <p:nvPr/>
        </p:nvSpPr>
        <p:spPr>
          <a:xfrm flipH="1" flipV="1">
            <a:off x="4038480" y="5257440"/>
            <a:ext cx="1981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36"/>
          <p:cNvSpPr/>
          <p:nvPr/>
        </p:nvSpPr>
        <p:spPr>
          <a:xfrm>
            <a:off x="396252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unc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04F4-25D9-465C-B1A1-8CD7C29A07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nale de comunicati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anal de comunicatie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o conexiune logica dintre un dispozitiv si softul care ruleaza pe gazd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 dispozitiv poate avea nevoie de mai multe canale de comunicati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azda aloca cate o anumita latime de banda pentru fiecare canal, functie d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ipul transferului de date s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timea de banda disponibil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ecare canal se termina cu un “punct terminal” (endpoint), folosit pentru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figurarea canalului de d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resarea canalulu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6A2D-4B2F-4D00-A2CB-5682D9006C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uncte termina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Punct terminal (endpoint)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o portiune dintr-un dispozitiv USB car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 poate identifica in mod unic  printr-un num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heie un canal de comunic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streaza parametrii canalului de comunicati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ecventa de acces la magistra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rgimea de banda necesa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arul punctului de cap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ortamentul in caz de ero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imea maxima a pachetelor accept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ipul de transf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rectia de transf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246A-41E7-43C9-A187-7DEFAB2512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uncte termina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 dispozitiv USB este o colectie de puncte termina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ecare dispozitiv are doua puncte terminale predefinite, unul de intrare si unul de iesire, ambele avand numarul 0 ; restul punctelor sunt nedefini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elelalte puncte terminale sunt configurate de gazda, la conect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unctele terminale pot fi de intrare sau de iesi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 canal de comunicatie se identifica in mod unic pri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resa dispozitivului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umarul punctului terminal si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irectia fluxului de d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4ABC-84C0-40E2-97F0-AEE3BCBA87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unicatia pe magistrala US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unicatia USB se desfasoara in cadre (frame-uri) de cate o milisecunda (1000 cadre/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 cadru contine mai multe tranzacti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 anumit tip de transfer se realizeaza prin mai multe tranzacti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ipuri de transfer pe magistrala USB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 de contro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 de tip izocron (isochronous), sau period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 de tip intrerupere (interrupt), sau aperiod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 de tip bloc (bulk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4397-8D2F-4B8F-9218-2034666CDD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eruri de contro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unt initiate de gazda, sunt nonperiodi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 folosesc pentru configurarea si interogarea dispozitivulu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 transfer de control contin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 tranzactie “setup” – prin care se interogeaza dispozitivu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ero sau mai multe tranzactii de transfer de d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 transzactie de stare – indica starea dispozitivulu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aca se initiaza un nou transfer de control inaintea incheierii celui precedent, atunci cel precedent se abandoneaz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erurile de control se transmit printr-un canal standard de date prezent in orice dispozitiv US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nalul standard este folosit pentru configurarea dispozitivului si pentru interog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in acest canal se configureaza celelalte canale de date (implicit punctele terminal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7D55-FBAD-42C5-954C-8C5A847F42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feruri de contro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dimensiunea maxima a pachetelor de control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specificata in punctul terminal) poate fi de 8, 16, 32 sau 64 de octet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chetul “setup” are dimensiunea fixa de 8 octet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descriptorul de dispozitiv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specifica lungimea maxima acceptata a pachetelor de dat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erurile de control au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prioritate mai mic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fata de transferurile izocron sau intrerupe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xim 10% dintr-un cadru se aloca petru transferuri de control, restul se aloca pentru transferurile izocron si intrerupe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erul de control are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metode “handshake”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prin care se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garanteaza corectitudine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datelor transmis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chetele eronate sau pierdute se retransmi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0C91-1AE3-4449-97CC-B7F8DC0AD3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feruri izocrone (periodice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540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igura o latime de banda garantata, pentru transferuri period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rmatul pachetului nu este specificat prin standardul USB (depinde de dispozitiv), continutul se interpreteaza numai la nivelul softului cli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misia este in flux continu, nu se incheie decat la o comanda expres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canism sumar de detectie a erorilor, cadrele eronate nu se retransm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 transfer printr-un punct terminal se face intr-un singur sens; pentru transfer bidirectional se folosesc doua puncte termina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2059-8714-4D47-A98A-0DD404E6B3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SB – Universal Serial Bu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Rockwell"/>
              </a:rPr>
              <a:t>Scopul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Rockwell"/>
              </a:rPr>
              <a:t>standard de comunicatie pentru conectrarea unei game largi de dispozitive periferice la un PC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Rockwell"/>
              </a:rPr>
              <a:t>Mouse, tastatura, joy-stick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– dispozitive de intr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Rockwell"/>
              </a:rPr>
              <a:t>Imprimanta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– dispozitive de iesi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Rockwell"/>
              </a:rPr>
              <a:t>Scaner, Camera digitala, camera Web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– dispozitive multimed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Rockwell"/>
              </a:rPr>
              <a:t>Memory-stick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– dispozitive de stoc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inlocuieste interfetele seriale si paralele clas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Rockwell"/>
              </a:rPr>
              <a:t>Solutia de principiu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protocol multinivel de tip master-sla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7809-530C-4F24-AD31-1A732BCCCF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feruri izocrone (periodice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mensiunea maxima a unui pachet izocron este de 1023 octe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aca sunt conectate mai multe dispozitive cu transmisie izocrona dimensiunea pachetului se divizeaza corespunza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stemul aloca 90% din latimea de banda pentru transfer izocron si de tip intrerupe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ecare dispozitiv va indica rata de transfer de care are nevoie, care poate fi intre 1 si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16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adica un pachet la un numar de cad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E68B-4FBE-4522-ABAC-F6714F891E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feruri de tip intrerupe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losite pentru transmiterea unor date de volum mic in regim aperiodic (sporadic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emple de utilizare: mouse, tastatura, dispozitive cu canale multiple de mai multe tipur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mensiunea maxima a pachetului: 64 octe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chetele pot fi de dimensiuni variabile dar mai mici decat dimensiunea maxim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ntru un canal de intrerupere se garanteaza o anumita latime de banda prin alocarea unei portiuni dintr-un cadr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 configurare se precizeaza perioada minima de utilizare unui transfer de tip intrerupere, cuprinsa intre 1-255 microsecun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 configurare sistemul verifica daca se poate aloca latimea de banda care sa garanteze frecventa specifica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6CA7-0C08-4354-BE5B-D7A1AEA65C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feruri pe bloc (bulk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 utilizeaza pentru transferul unor blocuri mari de date, la care nu exista restrictii de tim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urile sunt aperiod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emple de utilizare: imprimanta, camera digital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ul pe bloc ocupa latimea de banda maxima disponibila pe maxistral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chetele eronate se retransm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mensiunea maxima a unui pachet: 8,16, 32, sau 64 pt. USB1.1 sau 512 pt. USB 2.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u se garanteaza o anumita latime de ban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urile pe bloc au prioritatea minim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E60B-935C-4091-BCE2-8AE0601516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unicatia pe o interfata USB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Oval 3"/>
          <p:cNvSpPr/>
          <p:nvPr/>
        </p:nvSpPr>
        <p:spPr>
          <a:xfrm>
            <a:off x="3352680" y="1812960"/>
            <a:ext cx="2438640" cy="43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3886200" y="18129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ft cl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3352680" y="2612880"/>
            <a:ext cx="2438640" cy="432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Oval 6"/>
          <p:cNvSpPr/>
          <p:nvPr/>
        </p:nvSpPr>
        <p:spPr>
          <a:xfrm>
            <a:off x="3352680" y="3413160"/>
            <a:ext cx="2438640" cy="5000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Oval 7"/>
          <p:cNvSpPr/>
          <p:nvPr/>
        </p:nvSpPr>
        <p:spPr>
          <a:xfrm>
            <a:off x="3276720" y="5383080"/>
            <a:ext cx="2438280" cy="430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3352680" y="2612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B Dri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3505320" y="33526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ost Controller Dri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3505320" y="5383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ost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3505320" y="4151160"/>
            <a:ext cx="2057400" cy="984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3809880" y="4521240"/>
            <a:ext cx="1067040" cy="226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4343400" y="4829040"/>
            <a:ext cx="1143000" cy="2685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AutoShape 14"/>
          <p:cNvSpPr/>
          <p:nvPr/>
        </p:nvSpPr>
        <p:spPr>
          <a:xfrm>
            <a:off x="3962520" y="2244600"/>
            <a:ext cx="304560" cy="368280"/>
          </a:xfrm>
          <a:prstGeom prst="downArrow">
            <a:avLst>
              <a:gd name="adj1" fmla="val 50000"/>
              <a:gd name="adj2" fmla="val 3023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AutoShape 15"/>
          <p:cNvSpPr/>
          <p:nvPr/>
        </p:nvSpPr>
        <p:spPr>
          <a:xfrm>
            <a:off x="3886200" y="3044880"/>
            <a:ext cx="304920" cy="368280"/>
          </a:xfrm>
          <a:prstGeom prst="downArrow">
            <a:avLst>
              <a:gd name="adj1" fmla="val 50000"/>
              <a:gd name="adj2" fmla="val 3019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AutoShape 16"/>
          <p:cNvSpPr/>
          <p:nvPr/>
        </p:nvSpPr>
        <p:spPr>
          <a:xfrm>
            <a:off x="3886200" y="3782880"/>
            <a:ext cx="304920" cy="368280"/>
          </a:xfrm>
          <a:prstGeom prst="downArrow">
            <a:avLst>
              <a:gd name="adj1" fmla="val 50000"/>
              <a:gd name="adj2" fmla="val 3019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3886200" y="5075280"/>
            <a:ext cx="304920" cy="368280"/>
          </a:xfrm>
          <a:prstGeom prst="downArrow">
            <a:avLst>
              <a:gd name="adj1" fmla="val 50000"/>
              <a:gd name="adj2" fmla="val 3019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18"/>
          <p:cNvSpPr/>
          <p:nvPr/>
        </p:nvSpPr>
        <p:spPr>
          <a:xfrm>
            <a:off x="4952880" y="5075280"/>
            <a:ext cx="304920" cy="368280"/>
          </a:xfrm>
          <a:prstGeom prst="upArrow">
            <a:avLst>
              <a:gd name="adj1" fmla="val 50000"/>
              <a:gd name="adj2" fmla="val 3019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AutoShape 19"/>
          <p:cNvSpPr/>
          <p:nvPr/>
        </p:nvSpPr>
        <p:spPr>
          <a:xfrm>
            <a:off x="4876920" y="3782880"/>
            <a:ext cx="304560" cy="368280"/>
          </a:xfrm>
          <a:prstGeom prst="upArrow">
            <a:avLst>
              <a:gd name="adj1" fmla="val 50000"/>
              <a:gd name="adj2" fmla="val 3023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0"/>
          <p:cNvSpPr/>
          <p:nvPr/>
        </p:nvSpPr>
        <p:spPr>
          <a:xfrm>
            <a:off x="4800600" y="3044880"/>
            <a:ext cx="304920" cy="368280"/>
          </a:xfrm>
          <a:prstGeom prst="upArrow">
            <a:avLst>
              <a:gd name="adj1" fmla="val 50000"/>
              <a:gd name="adj2" fmla="val 3019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AutoShape 21"/>
          <p:cNvSpPr/>
          <p:nvPr/>
        </p:nvSpPr>
        <p:spPr>
          <a:xfrm>
            <a:off x="4800600" y="2244600"/>
            <a:ext cx="304920" cy="368280"/>
          </a:xfrm>
          <a:prstGeom prst="upArrow">
            <a:avLst>
              <a:gd name="adj1" fmla="val 50000"/>
              <a:gd name="adj2" fmla="val 3019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4343400" y="48182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ranzact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23"/>
          <p:cNvSpPr/>
          <p:nvPr/>
        </p:nvSpPr>
        <p:spPr>
          <a:xfrm>
            <a:off x="6248520" y="3352680"/>
            <a:ext cx="1371600" cy="49212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6324480" y="341316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ransferu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6400800" y="1752480"/>
            <a:ext cx="1219320" cy="43200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6477120" y="18129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6248520" y="4583160"/>
            <a:ext cx="1371600" cy="368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6248520" y="45831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ranzact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6172200" y="5691240"/>
            <a:ext cx="1447920" cy="368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30"/>
          <p:cNvSpPr/>
          <p:nvPr/>
        </p:nvSpPr>
        <p:spPr>
          <a:xfrm>
            <a:off x="6248520" y="57513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ach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Line 31"/>
          <p:cNvSpPr/>
          <p:nvPr/>
        </p:nvSpPr>
        <p:spPr>
          <a:xfrm>
            <a:off x="2362320" y="24289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32"/>
          <p:cNvSpPr/>
          <p:nvPr/>
        </p:nvSpPr>
        <p:spPr>
          <a:xfrm>
            <a:off x="2362320" y="31687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AutoShape 33"/>
          <p:cNvSpPr/>
          <p:nvPr/>
        </p:nvSpPr>
        <p:spPr>
          <a:xfrm>
            <a:off x="4419720" y="5794200"/>
            <a:ext cx="152280" cy="487440"/>
          </a:xfrm>
          <a:prstGeom prst="upDownArrow">
            <a:avLst>
              <a:gd name="adj1" fmla="val 50000"/>
              <a:gd name="adj2" fmla="val 6372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34"/>
          <p:cNvSpPr/>
          <p:nvPr/>
        </p:nvSpPr>
        <p:spPr>
          <a:xfrm>
            <a:off x="3962520" y="6211800"/>
            <a:ext cx="990360" cy="4176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35"/>
          <p:cNvSpPr/>
          <p:nvPr/>
        </p:nvSpPr>
        <p:spPr>
          <a:xfrm>
            <a:off x="4038480" y="621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1447920" y="203184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fata USB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37"/>
          <p:cNvSpPr/>
          <p:nvPr/>
        </p:nvSpPr>
        <p:spPr>
          <a:xfrm>
            <a:off x="1523880" y="2797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fata HC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1447920" y="50990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fata h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39"/>
          <p:cNvSpPr/>
          <p:nvPr/>
        </p:nvSpPr>
        <p:spPr>
          <a:xfrm>
            <a:off x="3581280" y="41911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sta de tranzact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3809880" y="4471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ranzact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55B5-9A68-424F-BB4D-58E1C98F7A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ponente implicate in comunicati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Soft-ul cli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termina tipul de transfer realizat cu fiecare dispozitiv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u se implica in stabilirea canalelor de comunica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ntru comunicatie foloseste driverele (interfetele USB) oferite de sistemul de oper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Driver-ul USB (USBD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teaza cererile de configurare si de transfer normal primite de la soft-ul cli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bileste si configureaza canale de comunicatie pe baza cererii primite; unele cereri sunt refuzate datorita limitarilor legate de capacitatea de transmisi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E46B-3427-49F1-9F80-68798A6E02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ponente implicate in comunicati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Driver-ul controlorului gazd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HCD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imeste cererile de transfer si se ocupa de transmiterea acesto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une datele receptionate in buffe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ifica limitele de comunicatie (cereri v.s latime de banda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unta sfarsitul unui transf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sta de tranzacti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contine lista tranzactiilor in curs de desfasur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ntrolor gaz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orma tranzactiile aflate in asteptare in activitate pe magistr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 ocupa de controlul cadrelor si transmiterea si receptia pachetel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4B24-7A14-4947-B546-1106CC88DB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Interfata paralel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99776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ferul se realizeaza prin mai multe linii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nii de date (ex: 8) – pentru datele propriu-zi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nii de control – pentru sincronizare si pentru controlul fluxului de date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racteristici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iteza mai m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stante mic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 (de obicei) unidirecti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ipuri de transfer paralel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) fără semnale de 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) protocol asincron fără confirm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) protocol asincron cu confirmare (hand - shaking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CEF8-4024-4277-9327-5812CE71D0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ipuri de transf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)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fără semnale de 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se folosesc numai semnale de d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se poate citi starea unor semnale digitale sau se pot comanda semnale digita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nu se pot transfera secvente de date – nu exista semnale care sa indice secventa de d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exemple: testarea starii unor senzori, comanda unor elemente de action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)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protocol asincron fără confirma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se foloseste un semnal de control emis fie de transmitator fie de recepto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se pot transmite secvente de d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viteza de transfer este controlata de unitatea care genereaza semnalul de 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nu exista semnal de reactie (confirmare) din partea unitatii partenere; viteza trebuie sa fie suficient de mica pentru a acoperi toate intarzierile posib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762120" y="4932360"/>
          <a:ext cx="7924680" cy="192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932360"/>
                    <a:ext cx="79246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82DD-33B6-478B-A625-84C6F02441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erul parale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) protocol asincron cu confirmare (hand - shaking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se folosesc 2 semnale decontrol: unul emis de transmitator si unul de raspuns de la recep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transmisie cu “feed-back, cu react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se poate adapta mult mai usor la viteza de lucru a ambelor unitati comunicante; viteza mai m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pot sa apara situatii de eroare, in cazul necorelarii corespunzatoare asemnalelor de 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7" name="Object 4"/>
          <p:cNvGraphicFramePr/>
          <p:nvPr/>
        </p:nvGraphicFramePr>
        <p:xfrm>
          <a:off x="1066680" y="3505320"/>
          <a:ext cx="739152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05320"/>
                    <a:ext cx="73915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6"/>
          <p:cNvSpPr/>
          <p:nvPr/>
        </p:nvSpPr>
        <p:spPr>
          <a:xfrm>
            <a:off x="3048120" y="4724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re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7391520" y="4724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o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3733920" y="61722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o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30EA-0055-4E3C-9DEC-0A9CA70BC6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erul parale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088040" cy="19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) protocol asincron cu confirmare (hand - shaking), cu interconditionare intre semnalele de 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- rezolva problema corectitudinii transferulu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- activarea si dezactivarea celor 2 semnale de control se face interconditionat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5" name="Object 4"/>
          <p:cNvGraphicFramePr/>
          <p:nvPr/>
        </p:nvGraphicFramePr>
        <p:xfrm>
          <a:off x="0" y="4267080"/>
          <a:ext cx="8610480" cy="228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67080"/>
                    <a:ext cx="86104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Freeform 6"/>
          <p:cNvSpPr/>
          <p:nvPr/>
        </p:nvSpPr>
        <p:spPr>
          <a:xfrm>
            <a:off x="3352680" y="5029200"/>
            <a:ext cx="381240" cy="609480"/>
          </a:xfrm>
          <a:custGeom>
            <a:avLst/>
            <a:gdLst/>
            <a:ahLst/>
            <a:rect l="l" t="t" r="r" b="b"/>
            <a:pathLst>
              <a:path w="208" h="352">
                <a:moveTo>
                  <a:pt x="16" y="352"/>
                </a:moveTo>
                <a:cubicBezTo>
                  <a:pt x="8" y="260"/>
                  <a:pt x="0" y="168"/>
                  <a:pt x="16" y="112"/>
                </a:cubicBezTo>
                <a:cubicBezTo>
                  <a:pt x="32" y="56"/>
                  <a:pt x="80" y="32"/>
                  <a:pt x="112" y="16"/>
                </a:cubicBezTo>
                <a:cubicBezTo>
                  <a:pt x="144" y="0"/>
                  <a:pt x="192" y="16"/>
                  <a:pt x="208" y="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5CB6-619C-4837-89BE-265138E269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6666"/>
                </a:solidFill>
                <a:latin typeface="Rockwell"/>
              </a:rPr>
              <a:t>Caracteristici</a:t>
            </a:r>
            <a:r>
              <a:rPr b="0" lang="en-US" sz="3600" spc="-1" strike="noStrike">
                <a:solidFill>
                  <a:srgbClr val="006666"/>
                </a:solidFill>
                <a:latin typeface="Rockwell"/>
              </a:rPr>
              <a:t> de performant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Rockwell"/>
              </a:rPr>
              <a:t>Viteza </a:t>
            </a: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foarte m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Latime de banda </a:t>
            </a:r>
            <a:r>
              <a:rPr b="0" lang="ro-RO" sz="2100" spc="-1" strike="noStrike">
                <a:solidFill>
                  <a:srgbClr val="000000"/>
                </a:solidFill>
                <a:latin typeface="Rockwell"/>
              </a:rPr>
              <a:t>ridicata</a:t>
            </a: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 (12 Mb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Rockwell"/>
              </a:rPr>
              <a:t>Facilitati PnP (Plag and Pla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Rockwell"/>
              </a:rPr>
              <a:t>O interfata deserveste </a:t>
            </a: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simultan </a:t>
            </a:r>
            <a:r>
              <a:rPr b="0" lang="ro-RO" sz="2100" spc="-1" strike="noStrike">
                <a:solidFill>
                  <a:srgbClr val="000000"/>
                </a:solidFill>
                <a:latin typeface="Rockwell"/>
              </a:rPr>
              <a:t>mai multe dispozi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Mai multe canale de comunicatie pe acelasi suport fiz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Facilitati de transmisie adaptate mai multor tipuri de dat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date sporad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date period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Rockwell"/>
              </a:rPr>
              <a:t>date de volum m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2E1B-F1A6-4D80-84F0-F46F227873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erul parale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935760" cy="19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ircuitul I8255 – controlor pentru transfer paral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3 porturi de date a cate 8 biti (A, B si 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duri de lucru pentru cele 3 porturi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ra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esi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fer bidirectional – mai problemat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gistrul C se poate diviza in 2 pentru a deservi cu semnale de control registrele A si 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1" name="Object 4"/>
          <p:cNvGraphicFramePr/>
          <p:nvPr/>
        </p:nvGraphicFramePr>
        <p:xfrm>
          <a:off x="1143000" y="3809880"/>
          <a:ext cx="708660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9880"/>
                    <a:ext cx="7086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4A61-AE62-4A12-B182-AFF39D1F37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ircuite de numarare/contorizare/temporiz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Utilizate pentru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orizarea unor evenimente exter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rea unor semnale de o anumită frecvenţă prin divizarea unui semnal de ce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întîrzierea unor semnale (monostabi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rea unor întreruperi periodice sau după un anumit timp de la apariţia unui eveni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xemplu de controlor specializat: I8253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3  contoare a 16 biti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iverse moduri de lucru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Utilizare in cadrul unui calculator PC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rea unor întreruperi periodice necesare pentru contorizarea timpulu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lanşarea periodică a unor cicluri de reînprospătare a memorie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rea unor semnale sonore de avarie la difuzorul sistemului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6" name="Object 4"/>
          <p:cNvGraphicFramePr/>
          <p:nvPr/>
        </p:nvGraphicFramePr>
        <p:xfrm>
          <a:off x="4876920" y="1905120"/>
          <a:ext cx="480348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905120"/>
                    <a:ext cx="4803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82B5-1BEF-46DA-81CD-2FCE44C7A2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oiectarea unei interfete de intrare/iesi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Etape (pasi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finirea schemei bloc funcţiona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legerea circuitelor care implementează funcţiile interfeţe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locarea adreselor de porturi din spaţiul UCP dedicat perifericel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legerea modului de selecţie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iectarea circuitelor de generare a comenzilor şi a selecţiilo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Blocuri functional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locul de selecţi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re (porturi) de intrare/ieşi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ispozitiv de comandă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re de comandă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re de sta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locul de interfaţă cu perifericul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95E5-5980-441D-BAD5-CCDB357CC3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oiectarea interfetelor de intrare/iesi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7316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locul de selecti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olul: Selectarea interfetei si selectarea registrelor din interfat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d de selecti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a – se iau in considerare toate liniile de adresa (nu se prea folosest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a – se considera numai o parte din semnalele de adresa (cel mai frecvent utiliza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niara – fiecare linie de adresa se considera un semnal de selectie pentru un registru (se foloseste la sistemele mici, dedicat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1219320" y="4419720"/>
          <a:ext cx="6324480" cy="236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19720"/>
                    <a:ext cx="632448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7C16-B057-41F9-AE0D-3631F497F2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oiectarea interfetelor de intrare/iesi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Blocul de registr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re de date – pentru transferul de dat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ntr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i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ru/registre de 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eaza semnale de control catre dispozitivul periferic sau determina modul de lucru al interfete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ru/registre de star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ca starea interfetei si a dispozitivului perifer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Amplificatorul de date: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sigura incarcatrea magistralei cu o singura sarcina TT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9" name="Object 4"/>
          <p:cNvGraphicFramePr/>
          <p:nvPr/>
        </p:nvGraphicFramePr>
        <p:xfrm>
          <a:off x="838080" y="4495680"/>
          <a:ext cx="731520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495680"/>
                    <a:ext cx="73152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0469-BFB9-4CA1-B5E9-88B1AB4730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ircuite specializate pentru anumite tipuri de interfet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or pentru interfata paralel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IO – parallel I/O: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I825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or pentru interfata serial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O – serial I/O, sau USART – universal serial asynchron receiver and transmitters: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I825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or pentru contorizare/temporiza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TC – counter/timer controller: I8253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or pentru interfata floppy: I827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or DMA: I823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or de intreruperi: I8259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7747-891E-4B7E-AE48-B4727CDA2F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racteristici fiz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Transmisie pe cablu standard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 fir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de alimentare: Vcc(rosu), GND(maro) =&gt; 5V, 500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de date (albastru si galben), torsa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ungimea cablului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xim 5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bil cu HUB-uri pana la 30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ectori standard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tip “A” – pentru calculator (mas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tip “B” – pentru dispozitive perifer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ectare in timpul functionarii (hot-swappabl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58000" y="4495680"/>
            <a:ext cx="106668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934320" y="464832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7238880" y="5105520"/>
            <a:ext cx="609840" cy="457200"/>
          </a:xfrm>
          <a:prstGeom prst="roundRect">
            <a:avLst>
              <a:gd name="adj" fmla="val 20486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391520" y="518148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B8AA-6D29-43AD-A744-99311F286B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opologia fizica a conexiunii (retelei) USB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6400800" y="1523880"/>
            <a:ext cx="2743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spozitiv = De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azda = H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Group 47"/>
          <p:cNvGrpSpPr/>
          <p:nvPr/>
        </p:nvGrpSpPr>
        <p:grpSpPr>
          <a:xfrm>
            <a:off x="609480" y="1752480"/>
            <a:ext cx="8305920" cy="5189040"/>
            <a:chOff x="609480" y="1752480"/>
            <a:chExt cx="8305920" cy="5189040"/>
          </a:xfrm>
        </p:grpSpPr>
        <p:sp>
          <p:nvSpPr>
            <p:cNvPr id="110" name="Oval 2"/>
            <p:cNvSpPr/>
            <p:nvPr/>
          </p:nvSpPr>
          <p:spPr>
            <a:xfrm>
              <a:off x="3505320" y="2116080"/>
              <a:ext cx="1752480" cy="7268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AutoShape 4"/>
            <p:cNvSpPr/>
            <p:nvPr/>
          </p:nvSpPr>
          <p:spPr>
            <a:xfrm>
              <a:off x="3429000" y="1752480"/>
              <a:ext cx="1905120" cy="72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5"/>
            <p:cNvSpPr/>
            <p:nvPr/>
          </p:nvSpPr>
          <p:spPr>
            <a:xfrm>
              <a:off x="3429000" y="1825200"/>
              <a:ext cx="19810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Gazda</a:t>
              </a: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 (calculator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3733920" y="247968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Root Hub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4" name="Group 7"/>
            <p:cNvGrpSpPr/>
            <p:nvPr/>
          </p:nvGrpSpPr>
          <p:grpSpPr>
            <a:xfrm>
              <a:off x="1143000" y="2697840"/>
              <a:ext cx="1828800" cy="508680"/>
              <a:chOff x="1143000" y="2697840"/>
              <a:chExt cx="1828800" cy="508680"/>
            </a:xfrm>
          </p:grpSpPr>
          <p:sp>
            <p:nvSpPr>
              <p:cNvPr id="115" name="AutoShape 8"/>
              <p:cNvSpPr/>
              <p:nvPr/>
            </p:nvSpPr>
            <p:spPr>
              <a:xfrm>
                <a:off x="1219320" y="2748600"/>
                <a:ext cx="1676160" cy="457920"/>
              </a:xfrm>
              <a:prstGeom prst="roundRect">
                <a:avLst>
                  <a:gd name="adj" fmla="val 166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1143000" y="269784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Dispozitiv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7" name="Line 10"/>
            <p:cNvSpPr/>
            <p:nvPr/>
          </p:nvSpPr>
          <p:spPr>
            <a:xfrm flipV="1">
              <a:off x="2895480" y="2625120"/>
              <a:ext cx="76212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11"/>
            <p:cNvSpPr/>
            <p:nvPr/>
          </p:nvSpPr>
          <p:spPr>
            <a:xfrm>
              <a:off x="5181480" y="2625120"/>
              <a:ext cx="1219320" cy="5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>
              <a:off x="609480" y="3643560"/>
              <a:ext cx="3962520" cy="232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0" name="Group 13"/>
            <p:cNvGrpSpPr/>
            <p:nvPr/>
          </p:nvGrpSpPr>
          <p:grpSpPr>
            <a:xfrm>
              <a:off x="5334120" y="4007160"/>
              <a:ext cx="1218600" cy="799560"/>
              <a:chOff x="5334120" y="4007160"/>
              <a:chExt cx="1218600" cy="799560"/>
            </a:xfrm>
          </p:grpSpPr>
          <p:sp>
            <p:nvSpPr>
              <p:cNvPr id="121" name="Oval 14"/>
              <p:cNvSpPr/>
              <p:nvPr/>
            </p:nvSpPr>
            <p:spPr>
              <a:xfrm>
                <a:off x="5334120" y="4007160"/>
                <a:ext cx="1066680" cy="7995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5486400" y="422496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Hub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3" name="Group 16"/>
            <p:cNvGrpSpPr/>
            <p:nvPr/>
          </p:nvGrpSpPr>
          <p:grpSpPr>
            <a:xfrm>
              <a:off x="2819520" y="4079880"/>
              <a:ext cx="1218600" cy="799560"/>
              <a:chOff x="2819520" y="4079880"/>
              <a:chExt cx="1218600" cy="799560"/>
            </a:xfrm>
          </p:grpSpPr>
          <p:sp>
            <p:nvSpPr>
              <p:cNvPr id="124" name="Oval 17"/>
              <p:cNvSpPr/>
              <p:nvPr/>
            </p:nvSpPr>
            <p:spPr>
              <a:xfrm>
                <a:off x="2819520" y="4079880"/>
                <a:ext cx="1066680" cy="7995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Text Box 18"/>
              <p:cNvSpPr/>
              <p:nvPr/>
            </p:nvSpPr>
            <p:spPr>
              <a:xfrm>
                <a:off x="2971800" y="42976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Hub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Line 19"/>
            <p:cNvSpPr/>
            <p:nvPr/>
          </p:nvSpPr>
          <p:spPr>
            <a:xfrm>
              <a:off x="4800600" y="2770920"/>
              <a:ext cx="838080" cy="13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20"/>
            <p:cNvSpPr/>
            <p:nvPr/>
          </p:nvSpPr>
          <p:spPr>
            <a:xfrm>
              <a:off x="6400800" y="43707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21"/>
            <p:cNvSpPr/>
            <p:nvPr/>
          </p:nvSpPr>
          <p:spPr>
            <a:xfrm>
              <a:off x="6248520" y="4661640"/>
              <a:ext cx="990360" cy="87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22"/>
            <p:cNvSpPr/>
            <p:nvPr/>
          </p:nvSpPr>
          <p:spPr>
            <a:xfrm>
              <a:off x="5867280" y="4734360"/>
              <a:ext cx="0" cy="87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23"/>
            <p:cNvSpPr/>
            <p:nvPr/>
          </p:nvSpPr>
          <p:spPr>
            <a:xfrm flipV="1">
              <a:off x="1905120" y="4661280"/>
              <a:ext cx="990360" cy="5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24"/>
            <p:cNvSpPr/>
            <p:nvPr/>
          </p:nvSpPr>
          <p:spPr>
            <a:xfrm flipH="1" flipV="1">
              <a:off x="3504960" y="4807080"/>
              <a:ext cx="15228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Line 25"/>
            <p:cNvSpPr/>
            <p:nvPr/>
          </p:nvSpPr>
          <p:spPr>
            <a:xfrm flipV="1">
              <a:off x="3505320" y="2842920"/>
              <a:ext cx="609480" cy="12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Text Box 26"/>
            <p:cNvSpPr/>
            <p:nvPr/>
          </p:nvSpPr>
          <p:spPr>
            <a:xfrm>
              <a:off x="685800" y="36435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ispozitiv compu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Text Box 27"/>
            <p:cNvSpPr/>
            <p:nvPr/>
          </p:nvSpPr>
          <p:spPr>
            <a:xfrm>
              <a:off x="3048120" y="6116040"/>
              <a:ext cx="304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Topologie de tip ste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" name="Group 29"/>
            <p:cNvGrpSpPr/>
            <p:nvPr/>
          </p:nvGrpSpPr>
          <p:grpSpPr>
            <a:xfrm>
              <a:off x="4800600" y="5534280"/>
              <a:ext cx="1828800" cy="508680"/>
              <a:chOff x="4800600" y="5534280"/>
              <a:chExt cx="1828800" cy="508680"/>
            </a:xfrm>
          </p:grpSpPr>
          <p:sp>
            <p:nvSpPr>
              <p:cNvPr id="136" name="AutoShape 30"/>
              <p:cNvSpPr/>
              <p:nvPr/>
            </p:nvSpPr>
            <p:spPr>
              <a:xfrm>
                <a:off x="4876920" y="5585040"/>
                <a:ext cx="1676160" cy="457920"/>
              </a:xfrm>
              <a:prstGeom prst="roundRect">
                <a:avLst>
                  <a:gd name="adj" fmla="val 166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Text Box 31"/>
              <p:cNvSpPr/>
              <p:nvPr/>
            </p:nvSpPr>
            <p:spPr>
              <a:xfrm>
                <a:off x="4800600" y="55342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Dispozitiv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38" name="Group 32"/>
            <p:cNvGrpSpPr/>
            <p:nvPr/>
          </p:nvGrpSpPr>
          <p:grpSpPr>
            <a:xfrm>
              <a:off x="2666880" y="5170680"/>
              <a:ext cx="1828800" cy="508320"/>
              <a:chOff x="2666880" y="5170680"/>
              <a:chExt cx="1828800" cy="508320"/>
            </a:xfrm>
          </p:grpSpPr>
          <p:sp>
            <p:nvSpPr>
              <p:cNvPr id="139" name="AutoShape 33"/>
              <p:cNvSpPr/>
              <p:nvPr/>
            </p:nvSpPr>
            <p:spPr>
              <a:xfrm>
                <a:off x="2743200" y="5221440"/>
                <a:ext cx="1676160" cy="457560"/>
              </a:xfrm>
              <a:prstGeom prst="roundRect">
                <a:avLst>
                  <a:gd name="adj" fmla="val 166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Text Box 34"/>
              <p:cNvSpPr/>
              <p:nvPr/>
            </p:nvSpPr>
            <p:spPr>
              <a:xfrm>
                <a:off x="2666880" y="51706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Dispozitiv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1" name="Group 35"/>
            <p:cNvGrpSpPr/>
            <p:nvPr/>
          </p:nvGrpSpPr>
          <p:grpSpPr>
            <a:xfrm>
              <a:off x="762120" y="5170680"/>
              <a:ext cx="1828800" cy="508320"/>
              <a:chOff x="762120" y="5170680"/>
              <a:chExt cx="1828800" cy="508320"/>
            </a:xfrm>
          </p:grpSpPr>
          <p:sp>
            <p:nvSpPr>
              <p:cNvPr id="142" name="AutoShape 36"/>
              <p:cNvSpPr/>
              <p:nvPr/>
            </p:nvSpPr>
            <p:spPr>
              <a:xfrm>
                <a:off x="838440" y="5221440"/>
                <a:ext cx="1676160" cy="457560"/>
              </a:xfrm>
              <a:prstGeom prst="roundRect">
                <a:avLst>
                  <a:gd name="adj" fmla="val 166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Text Box 37"/>
              <p:cNvSpPr/>
              <p:nvPr/>
            </p:nvSpPr>
            <p:spPr>
              <a:xfrm>
                <a:off x="762120" y="51706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Dispozitiv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38"/>
            <p:cNvGrpSpPr/>
            <p:nvPr/>
          </p:nvGrpSpPr>
          <p:grpSpPr>
            <a:xfrm>
              <a:off x="6781680" y="5461560"/>
              <a:ext cx="1828800" cy="508680"/>
              <a:chOff x="6781680" y="5461560"/>
              <a:chExt cx="1828800" cy="508680"/>
            </a:xfrm>
          </p:grpSpPr>
          <p:sp>
            <p:nvSpPr>
              <p:cNvPr id="145" name="AutoShape 39"/>
              <p:cNvSpPr/>
              <p:nvPr/>
            </p:nvSpPr>
            <p:spPr>
              <a:xfrm>
                <a:off x="6858000" y="5512320"/>
                <a:ext cx="1676160" cy="457920"/>
              </a:xfrm>
              <a:prstGeom prst="roundRect">
                <a:avLst>
                  <a:gd name="adj" fmla="val 166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Text Box 40"/>
              <p:cNvSpPr/>
              <p:nvPr/>
            </p:nvSpPr>
            <p:spPr>
              <a:xfrm>
                <a:off x="6781680" y="546156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Dispozitiv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41"/>
            <p:cNvGrpSpPr/>
            <p:nvPr/>
          </p:nvGrpSpPr>
          <p:grpSpPr>
            <a:xfrm>
              <a:off x="7086600" y="4152240"/>
              <a:ext cx="1828800" cy="508680"/>
              <a:chOff x="7086600" y="4152240"/>
              <a:chExt cx="1828800" cy="508680"/>
            </a:xfrm>
          </p:grpSpPr>
          <p:sp>
            <p:nvSpPr>
              <p:cNvPr id="148" name="AutoShape 42"/>
              <p:cNvSpPr/>
              <p:nvPr/>
            </p:nvSpPr>
            <p:spPr>
              <a:xfrm>
                <a:off x="7162920" y="4203000"/>
                <a:ext cx="1676160" cy="457920"/>
              </a:xfrm>
              <a:prstGeom prst="roundRect">
                <a:avLst>
                  <a:gd name="adj" fmla="val 166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43"/>
              <p:cNvSpPr/>
              <p:nvPr/>
            </p:nvSpPr>
            <p:spPr>
              <a:xfrm>
                <a:off x="7086600" y="415224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Dispozitiv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44"/>
            <p:cNvGrpSpPr/>
            <p:nvPr/>
          </p:nvGrpSpPr>
          <p:grpSpPr>
            <a:xfrm>
              <a:off x="6324480" y="2989080"/>
              <a:ext cx="1828800" cy="508320"/>
              <a:chOff x="6324480" y="2989080"/>
              <a:chExt cx="1828800" cy="508320"/>
            </a:xfrm>
          </p:grpSpPr>
          <p:sp>
            <p:nvSpPr>
              <p:cNvPr id="151" name="AutoShape 45"/>
              <p:cNvSpPr/>
              <p:nvPr/>
            </p:nvSpPr>
            <p:spPr>
              <a:xfrm>
                <a:off x="6400800" y="3039840"/>
                <a:ext cx="1676160" cy="457560"/>
              </a:xfrm>
              <a:prstGeom prst="roundRect">
                <a:avLst>
                  <a:gd name="adj" fmla="val 166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Text Box 46"/>
              <p:cNvSpPr/>
              <p:nvPr/>
            </p:nvSpPr>
            <p:spPr>
              <a:xfrm>
                <a:off x="6324480" y="29890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aramond"/>
                  </a:rPr>
                  <a:t>Dispozitiv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8EAF-2E3F-4092-B7BC-39C2C8926E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ipuri de dispozitiv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Host”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(master) – dispozitiv gazda (calculato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ispozitivul care controleaza comunicatia in reteaua US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istribuie drept de acces la retea celorlalte dispozitiv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nitorizeaza topologia retelei US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Device”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dispozitiv periferic conectat la calculat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fera o anumita “functionalitate” pentru gazda (ex: mouse, imprimanta, scaner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conectare, dispozitivul primeste o adresa unica (data de gazd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matul datelor difera functie de dispozitiv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formatiile schimbate intre host si device pot fi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i gener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i particulare dependente de tipul dispozitivul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3EE9-1C69-44A1-9BDF-477B627C5A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ipuri de dispozitive (continuare)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Hub”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– dispozitiv de amplificare si ramific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ompound Device”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– dispozitiv comp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ine un hub si mai multe dispozitiv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ecare dispozitiv (inclusiv hub-ul) are adresa propr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omposit Device”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– dispozitiv agreg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ine mai multe functii, dar exista o singura adres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90C9-F588-45BB-B58D-9E015EC95D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ul de protocol USB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tocol organizat pe 3 nivele ierarhic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USB bus interface layer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nivelul fiz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 ocupa de transmisia fizica (pe cablu) a date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USB device layer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nivelul dispoziti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igura conexiunea logica dintre host si dispozi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e viziunea sistemului de operare asupra interfetei US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unction layer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nivelul functi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igura comunicatia logica dintre “softu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” din gazda si “functia dispozitivului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AF3E-20AB-486C-AD79-AFF6E18F36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odelul de protocol USB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905120" y="2133720"/>
            <a:ext cx="190476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981080" y="2209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ft cl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905120" y="3200400"/>
            <a:ext cx="190476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905120" y="4267080"/>
            <a:ext cx="190476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90512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ft si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1905120" y="4419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rolor US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1600200" y="1905120"/>
            <a:ext cx="2514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1600200" y="1447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azda (hos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5638680" y="2133720"/>
            <a:ext cx="190512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715000" y="2209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unct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5638680" y="3200400"/>
            <a:ext cx="190512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5638680" y="4267080"/>
            <a:ext cx="190512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5638680" y="3124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spozitiv log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5791320" y="41911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fata de magistral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5334120" y="1905120"/>
            <a:ext cx="2514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AutoShape 18"/>
          <p:cNvSpPr/>
          <p:nvPr/>
        </p:nvSpPr>
        <p:spPr>
          <a:xfrm>
            <a:off x="3809880" y="2438280"/>
            <a:ext cx="1828800" cy="228600"/>
          </a:xfrm>
          <a:prstGeom prst="leftRightArrow">
            <a:avLst>
              <a:gd name="adj1" fmla="val 50000"/>
              <a:gd name="adj2" fmla="val 159259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19"/>
          <p:cNvSpPr/>
          <p:nvPr/>
        </p:nvSpPr>
        <p:spPr>
          <a:xfrm>
            <a:off x="3809880" y="3429000"/>
            <a:ext cx="1828800" cy="228600"/>
          </a:xfrm>
          <a:prstGeom prst="leftRightArrow">
            <a:avLst>
              <a:gd name="adj1" fmla="val 50000"/>
              <a:gd name="adj2" fmla="val 159259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20"/>
          <p:cNvSpPr/>
          <p:nvPr/>
        </p:nvSpPr>
        <p:spPr>
          <a:xfrm>
            <a:off x="3809880" y="4572000"/>
            <a:ext cx="1828800" cy="228600"/>
          </a:xfrm>
          <a:prstGeom prst="leftRightArrow">
            <a:avLst>
              <a:gd name="adj1" fmla="val 50000"/>
              <a:gd name="adj2" fmla="val 15925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AutoShape 21"/>
          <p:cNvSpPr/>
          <p:nvPr/>
        </p:nvSpPr>
        <p:spPr>
          <a:xfrm>
            <a:off x="1676520" y="5715000"/>
            <a:ext cx="1828800" cy="228600"/>
          </a:xfrm>
          <a:prstGeom prst="leftRightArrow">
            <a:avLst>
              <a:gd name="adj1" fmla="val 50000"/>
              <a:gd name="adj2" fmla="val 15925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3581280" y="5562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exiune fiz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AutoShape 23"/>
          <p:cNvSpPr/>
          <p:nvPr/>
        </p:nvSpPr>
        <p:spPr>
          <a:xfrm>
            <a:off x="1676520" y="6324480"/>
            <a:ext cx="1828800" cy="228600"/>
          </a:xfrm>
          <a:prstGeom prst="leftRightArrow">
            <a:avLst>
              <a:gd name="adj1" fmla="val 50000"/>
              <a:gd name="adj2" fmla="val 159259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358128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exiune log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5181480" y="1447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spozit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05:28:22Z</dcterms:created>
  <dc:creator>spg</dc:creator>
  <dc:description/>
  <dc:language>en-US</dc:language>
  <cp:lastModifiedBy>sebi</cp:lastModifiedBy>
  <dcterms:modified xsi:type="dcterms:W3CDTF">2019-04-09T04:09:53Z</dcterms:modified>
  <cp:revision>13</cp:revision>
  <dc:subject/>
  <dc:title>Sisteme cu microproceso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