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1464-7FA9-4DAC-96E6-278D1113E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6B66-A2A1-4BD3-B2ED-3D15D2018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C0E5-B1F5-4482-873F-E361F0CA1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675B-945E-4E0C-BF94-67A1D09AE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BCA3-676C-4812-8FE7-8CAB96728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849A-58FD-4AD4-BA4E-3354C9658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D698-9EF4-44F8-BBAF-978FFCC23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27B7-C956-455D-8F9D-3C4E4E310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BD2-E748-4773-8AD2-1EEE8C8A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702-7CCA-4C8A-80BF-EF2560F3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BD9-3BF9-45E2-A0BA-E55D0316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AC6-9887-4894-B254-D086EB66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DF37-55F2-4E64-A28F-777CD3DF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9216-F874-4AD1-BE90-4DBBC612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F1F1-F9BC-476F-8BD5-6FFF7943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02B0-0392-485F-B489-64D5C400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2068-4BAF-4A01-9855-30CCACAF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68B6-FC89-4465-BC58-DAC88677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D16F-A724-4A45-B917-2F6D4C4A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072-9EDD-49B9-BEA7-572180CC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D861-A090-4319-9D20-86ADDB46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517B-B374-4BA0-9E75-DCECF48A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F6F3-4667-4DC5-8D9A-87CC1686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16E6-C67F-4C85-B778-6EBBD501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456A-79B7-4032-B3B7-F4454B7E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0FC-9C47-4ABE-A4E9-1571F2F2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0EF-F8BC-4424-95A2-78C48A5C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78A-13D7-4483-9915-BCC6633D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56E-418F-49F5-91ED-13117641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2CA-3AC8-4F90-822F-DAAD8A95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6C7-67BF-4ADB-AF99-9009D578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430-E3BC-4B76-B4BD-67C466C2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6B13-69E8-4DF0-BADC-26A8438D7F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C08E-D6AD-47FC-9283-62B54BAD22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ro.hwlibre.com/top-10-cele-mai-bune-pl&#259;ci-de-dezvoltare-din-2024-pentru-proiecte-iot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Informatica industrial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T - Internet of Thing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oT - Industrial Intertnet of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Arhitectura generala IoT– 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varianta V1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Nivelul de percepție (Perception La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Acesta este nivelul fizic, unde are loc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datelor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din mediul înconjură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Dispozitive IoT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: senzori, actuatori, camere, RFI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Funcți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: măsurarea temperaturii, umidității, mișcării, lumini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Nivelul de rețea (Network La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Responsabil pentru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transmiterea datelor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de la dispozitivele IoT către sistemele centrale sau cl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Tehnologi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: Wi-Fi, Bluetooth, Zigbee, LoRaWAN, NB-IoT, 5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tocoa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: MQTT, CoAP, HTTP, 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Funcți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: rutare, securitate, identificare dispoz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1722-2E9C-44D8-8016-961E2E0DC8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hitectura generala IoT – V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Nivelul de procesare (Processing Layer / Middle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Aici se fac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elucrarea, stocarea și analiza datelor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latforme Cloud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: AWS IoT, Azure IoT Hub, Google Cloud I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Funcți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: filtrare date, agregare, analiză, machin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Baze de dat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: SQL/NoSQL, Time Series DB (ex. Influx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Nivelul de aplicație (Application 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Interfața cu utilizatorul și sistemele de deciz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Aplicați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: smart home, agricultură inteligentă, orașe inteligente, industrie 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Funcți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: vizualizare date, control dispozitive, notificări, automatiză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0C10-E8D4-4819-8337-C8D2D5EF19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hitectura generala IoT – V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Nivelul de securitate (Security La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Integrează măsuri de protecție pentru date și dispozi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Autentificare și autori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riptar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Detectare intruziu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Managementul identității dispozitiv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B36F-1BFF-4199-BA2A-68EF44AFAF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:\Gyuszi\Internet of things\W020120918401970619810.jpg"/>
          <p:cNvPicPr/>
          <p:nvPr/>
        </p:nvPicPr>
        <p:blipFill>
          <a:blip r:embed="rId1"/>
          <a:stretch/>
        </p:blipFill>
        <p:spPr>
          <a:xfrm>
            <a:off x="611280" y="1268280"/>
            <a:ext cx="8532720" cy="5480280"/>
          </a:xfrm>
          <a:prstGeom prst="rect">
            <a:avLst/>
          </a:prstGeom>
          <a:ln w="0">
            <a:noFill/>
          </a:ln>
        </p:spPr>
      </p:pic>
      <p:sp>
        <p:nvSpPr>
          <p:cNvPr id="133" name="Title 1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hitectura generala IoT – V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Protocoale de comunicatie pentru Io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MQTT (Message Queuing Telemetry Tran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Tip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: Protocol de mesagerie publicare-abonare (publish-subscri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Ușor și eficient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: ideal pentru rețele cu lățime de bandă redusă și dispozitive cu resurse lim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: 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Avantaj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Consum redus de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Fiabilitate ridica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Ideal pentru comunicații asinc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Utilizar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: Smart home, monitorizare industrială, agricultu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39DA-726D-4C3D-AE45-A05B8351BF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Protocoale de comunicatie pentru Io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628640"/>
            <a:ext cx="4321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LoRaWAN (Long Range Wide Area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Tip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Protocol de comunicație wireless pe distanțe lun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RF (radio frequency), nu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Avantaje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Consum foarte redus de ener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Acoperire mare (până la zeci de k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Ideal pentru comunicații intermit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000000"/>
                </a:solidFill>
                <a:latin typeface="Arial"/>
              </a:rPr>
              <a:t>Dezavantaje</a:t>
            </a: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Lățime de bandă m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Nu potrivit pentru date în timp 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000000"/>
                </a:solidFill>
                <a:latin typeface="Arial"/>
              </a:rPr>
              <a:t>Utilizare</a:t>
            </a: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: Agricultură, orașe inteligente, mediu r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6810-01B8-4C5E-A511-75456D1759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4572000" y="1628640"/>
            <a:ext cx="4572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Zigb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Tip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Protocol wireless mesh pentru comunicații pe distanțe scu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IEEE 802.15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Avantaje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Consum redus de ener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Rețele mesh robu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Suport pentru mii de dispoz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Dezavantaje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Distanță limitată (10–100 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Interferențe cu Wi-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Utilizare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Automatizări casnice, iluminat inteligent, senz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Protocoale de comunicatie pentru Io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040" y="1599840"/>
            <a:ext cx="4017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HTTP (HyperText Transfer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Tip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: Protocol client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: 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Avantaj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Standardizat și larg utiliz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Ușor de integrat cu aplicații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Dezavantaj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Consum mare de res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Nu este optim pentru dispozitive IoT cu energie limitat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Utilizar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: Aplicații web IoT, dashboard-uri, API-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81AC-C6E3-42AF-989B-27613324B3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4572000" y="1628640"/>
            <a:ext cx="4378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AP (Constrained Application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Tip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: Protocol RESTful similar cu HTTP, dar optimizat pentru I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: UDP (mai rapid, dar mai puțin fiabil decât T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Avantaj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Ușor și rap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Suport pentru multi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Ideal pentru rețele cu constrângeri sev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Utilizar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: Automatizări, senzori wireless, aplicații embe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paratie intre mijloace de comunicatie I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14400" y="1600200"/>
          <a:ext cx="7772400" cy="43894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Protoc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Tip comunicaț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Distanț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Ideal pent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Q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sh/Subscri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P/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ăz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ții industri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ăz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zori, embed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-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P/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di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ții w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aW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, LPW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arte scăz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ă, orașe intelig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gb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EE 802.1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ăz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zări cas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47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E9DE-3034-465E-A415-72B831472A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latforme hardware pentru I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560" y="1628280"/>
            <a:ext cx="43210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1. Ardu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Modele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Uno Rev3, Nano 33 IoT, Mega, Portenta H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Avantaje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Ușor de utilizat, ideal pentru începător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Comunitate mare și multe resur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Suport pentru senzori, actuatori, WiFi/Bluetoo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Aplicații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Educație, prototipare rapidă, automatizări 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47EA-E891-483B-926A-BF5972EDBA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ontent Placeholder 2"/>
          <p:cNvSpPr/>
          <p:nvPr/>
        </p:nvSpPr>
        <p:spPr>
          <a:xfrm>
            <a:off x="4572000" y="1628640"/>
            <a:ext cx="432108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2. Raspberry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Modele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Raspberry Pi 4B, Pi 5, Raspberry Pi P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Avantaje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Putere de procesare mare (Linux-based SB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Suport pentru camere, ecrane, perifer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Ideal pentru aplicații complexe și edge compu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Aplicații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Smart home, edge AI, gateway-uri IoT </a:t>
            </a:r>
            <a:r>
              <a:rPr b="0" lang="vi-VN" sz="1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[ro.hwlibre.co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latforme hardware pentru I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11280" y="1628640"/>
            <a:ext cx="3960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3. ESP32 / ESP8266 (Espressi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Avantaje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WiFi și Bluetooth integr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Consum redus de energ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Suport pentru MicroPython și Arduino 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Aplicații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Automatizări wireless, senzori, control la distanț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4. Teensy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Avantaje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Procesor de 600 MH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Performanță ridicată pentru aplicații audio și timp re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Suport pentru Arduino 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Aplicații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Audio IoT, robotică, analiză în timp 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463A-7811-41A0-9EA7-255CA4D44A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4572000" y="1628640"/>
            <a:ext cx="47372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5. STM32 Nucleo 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Avantaje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Microcontrolere ARM Cortex-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Suport pentru dezvoltare profesional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Compatibilitate cu mbed și Ardui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Aplicații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Aplicații industriale, embedde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. Adafruit &amp; SparkFun 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Avantaje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Gama largă de senzori și mod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Suport educațional și documentație excelent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Arial"/>
              </a:rPr>
              <a:t>Aplicații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: Educație, prototipare, wearable I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oT – Internet of Th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7164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T – Internet of Things – internetul obiectelor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re:  tehnologie care sa permita conectarea unor dispozitive simple la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iectiv: toate dispozitivele care ne inconjoara sa fie accesibile prin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u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zarea si controlul de la distanta a diferitelor dispoz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ort pentru aplicatii distribuite raspandite pe o arie geografica foarte 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ort pent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diri inteli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se inteli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inteli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atie inteligenta (II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zarea factorilor de med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or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dr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Platforme/Suport software pentru Io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B899-18D9-4876-A68B-DEFA01CD79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1. AWS IoT Core (Amaz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Scalabilitate mare, integrare cu alte servicii 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Suport pentru milioane de dispoz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Funcții: securitate, procesare în timp real, machin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2. Microsoft Azure IoT H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Integrare cu ecosistemul 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Suport pentru edge computing și 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Ideal pentru aplicații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Platforme/Suport software pentru Io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3. Google Cloud IoT (în tranziț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A fost o platformă puternică, dar multe servicii sunt în mig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Recomandare: migrare către alte platforme precum AWS sau A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4. IBM Watson IoT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Puternic în analiza datelor și 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Utilizat în industrie, sănătate, logist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5. Oracle IoT Clou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Integrare cu ERP și alte soluții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Bun pentru aplicații enterprise și indust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FC4F-38EF-4225-9164-227291685A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oT – Industrial Io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re II0T – tehnologie care presupune conectarea dispozitivelor, echipamentelor si instalatiilor industriale l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u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ul de la distanta al proces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ii utilitare accesibile de la distanta (ex. energie ele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erente fata de I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ipamente/protocoale care satisfac cerintele unei aplicatii industriale: fiabilitate, toleranta la defecte, rezistenta la mediu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oT – presupune o infrastructura stabila, proiectata pentru o anumita apl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T – centrat pe utilizator v.s. IIoT – centrat pe echip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BB83-43AC-49EF-A060-4F48525C80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paratie IoT v.s. II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63760"/>
          <a:ext cx="8281800" cy="5119560"/>
        </p:xfrm>
        <a:graphic>
          <a:graphicData uri="http://schemas.openxmlformats.org/drawingml/2006/table">
            <a:tbl>
              <a:tblPr/>
              <a:tblGrid>
                <a:gridCol w="2520720"/>
                <a:gridCol w="2519640"/>
                <a:gridCol w="3241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Caracteristic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IoT (Internet of Thing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IIoT (Industrial I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eniu de apli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ator (smart home, wearab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(fabrici, energie, logistic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abil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arte ridicată (timp de funcționare criti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ențial (risc operațional majo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bil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ci-sute de dispoz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i-milioane de dispoz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uri d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ri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e (temperatură, presiune, vibrați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ț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-Fi, Blueto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 industrial, LoRaWAN, 5G, OPC-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p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ț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esitate (control și monitoriz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9152-317B-4460-9D6A-E35E555250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e IIoT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zori/traductoare industria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e de executie: motoare electrice, robinete, va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oare industriale: PLC-uri – unitati standardizate de automatizare; Regulato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 de comunicație – pentru retele indust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-uri IIoT -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conectează dispozitivele locale la rețele 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e SCA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e și platforme indust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e de securitate – firewall-uri industriale, 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1555-92E8-4DD3-B57B-7A1EB1B32A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latforme II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128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1. PTC ThingWor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Specializată în aplicații indust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Funcții: conectivitate, analiză, AR (realitate augmentat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Utilizată în producție, energie, automo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2. Siemens Mind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Platformă cloud pentru industrie 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Integrare cu echipamente Sie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Analiză avansată, vizualizare date, 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3. GE Pre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ezvoltată pentru sectorul energetic și 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Funcții: monitorizare, mentenanță predic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Puternică în analiza datelor operaț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7D8D-3934-4F4D-B107-784EB05279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latforme II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1128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4. Bosch IoT S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Soluții pentru mobilitate, clădiri inteligente, indust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Focus pe securitate și interoperabi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5. ABB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Platformă pentru automatizări indust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Integrare cu sisteme SCADA și P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Analiză și optimizare proc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6. Honeywell F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Orientată spre performanță operațio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Funcții: monitorizare echipamente, optimizare energetic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DA27-9643-4784-9A66-E6A73ACAD8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ecuritate in IoT si II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Provocări comune IoT și II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Autentificare slabă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: parole implicite, lipsa autentificării multi-fa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Actualizări firmware nesigure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: lipsa patch-urilor sau update-urilor aut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Date necriptate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: interceptarea comunicați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Atacuri DDoS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: folosirea dispozitivelor compromise în botnet-u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Interoperabilitate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: dispozitive de la producători diferiți cu standarde variab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03BD-FFC4-454B-8397-759A984D8E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ferente de securitate IoT, II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14400" y="1600200"/>
          <a:ext cx="7772400" cy="2662200"/>
        </p:xfrm>
        <a:graphic>
          <a:graphicData uri="http://schemas.openxmlformats.org/drawingml/2006/table">
            <a:tbl>
              <a:tblPr/>
              <a:tblGrid>
                <a:gridCol w="2590920"/>
                <a:gridCol w="2146320"/>
                <a:gridCol w="3035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IoT (consumato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IIoT (industri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 at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rdere date perso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irea producției, pierderi financi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z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il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uros (IEC 62443, NI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secur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arte ridicat (control acces 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ție fizic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re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esitate (medii dure, sabotaj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</a:tbl>
          </a:graphicData>
        </a:graphic>
      </p:graphicFrame>
      <p:sp>
        <p:nvSpPr>
          <p:cNvPr id="182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17AE-DD2C-4F54-AB90-5200D0F0D2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suri de securizare pentru I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Autentificare și autorizare robust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ertificate digitale, autentificare multi-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Criptare end-to-end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LS/SSL pentru comunicații, criptare la nivel de dispozi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Segmentarea rețelei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Separarea traficului IoT/IIoT de rețelele corp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Monitorizare și detectare anomali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IDS/IPS, SIEM pentru analiza trafic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Actualizări regul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Patch-uri automate, firmware securiz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Politici Zero Trust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Verificare continuă a identității și integrității dispozitive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EB33-DBBF-4F99-A946-F0F0064E12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oT – Exemple de echipamente I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emple de dispozitive conectabile la Intern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pozitive portabi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foane mobile, table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zitive medicale port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chipamente pentru case/cladiri inteligente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casnice: frigider, cuptor cu microunde, aer conditionat, centrala termi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de securitate pentru cladi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chipamente pentru transport inteligen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tovehico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chipamente folosite in trafic (semafoare, senzori de traf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zori de med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zori de temperatura, presiune, nivel hidr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hipamente industri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cadrul unei unitati de fabricat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r-o retea de distributie a unor utilitati: energie, apa, gaz, canaliz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65FA-FF60-41C9-89B0-BDCF0BAE92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i de caz pt. II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1. Mentenanță predictivă și optimizare energetică (Platforma moneo – if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: Utilajele industriale au nevoie de disponibilitate maximă și reducerea timpilor de nefuncțion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Soluție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: Platforma IIoT </a:t>
            </a: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moneo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colectează date de la milioane de senzori și le analizează în timp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Beneficii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etectarea abaterilor înainte de apariția defec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Reducerea consumului d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Creșterea durabilității procese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A808-AC15-4E79-B740-3282EC9CB0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i de caz pt. II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. Automatizare integrată pentru linii flexibile de fabricaț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: Industria 4.0 cere flexibilitate și conectivitate între sisteme IT și 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Soluție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: Implementarea IIoT cu protocoale OPC-UA și MQTT, integrare multi-protocol (Profinet, Modbus), plus edge computing (NVIDIA Jets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Beneficii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Control ierarhic și adapta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ecizii bazate pe date în timp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Reducerea costurilor și creșterea eficienț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4BB2-8F4F-4981-9C9B-15A506342B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i de caz pt. II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3. Transformarea proceselor de producție (Industrie 4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: Producția tradițională era fragmentată între proiectare și execuț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Soluție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: IIoT conectează mașini, PLC-uri, senzori și cloud pentru fluxuri integr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Beneficii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300" spc="-1" strike="noStrike">
                <a:solidFill>
                  <a:srgbClr val="000000"/>
                </a:solidFill>
                <a:latin typeface="Arial"/>
              </a:rPr>
              <a:t>Eliminarea discrepanțelor între proiectare și producț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300" spc="-1" strike="noStrike">
                <a:solidFill>
                  <a:srgbClr val="000000"/>
                </a:solidFill>
                <a:latin typeface="Arial"/>
              </a:rPr>
              <a:t>Creșterea productivității și calităț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300" spc="-1" strike="noStrike">
                <a:solidFill>
                  <a:srgbClr val="000000"/>
                </a:solidFill>
                <a:latin typeface="Arial"/>
              </a:rPr>
              <a:t>Utilizarea AI și ML pentru optimiz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692A-23EC-4E77-82C9-0434E79F1E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i de caz pt. II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Optimizarea consumului de energie în fabr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: Costurile energetice sunt al doilea cel mai mare cost operaț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Soluție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: IoT industrial pentru monitorizarea în timp real a consumului și prevenirea fluctuațiil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Beneficii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300" spc="-1" strike="noStrike">
                <a:solidFill>
                  <a:srgbClr val="000000"/>
                </a:solidFill>
                <a:latin typeface="Arial"/>
              </a:rPr>
              <a:t>Reducerea pierderi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300" spc="-1" strike="noStrike">
                <a:solidFill>
                  <a:srgbClr val="000000"/>
                </a:solidFill>
                <a:latin typeface="Arial"/>
              </a:rPr>
              <a:t>Creșterea eficienței energet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300" spc="-1" strike="noStrike">
                <a:solidFill>
                  <a:srgbClr val="000000"/>
                </a:solidFill>
                <a:latin typeface="Arial"/>
              </a:rPr>
              <a:t>Vizualizare centralizată a date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1A4D-A9B0-446A-B39B-C1F880B9CE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oT - utilit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ru detinatorii de echipamente I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mai buna monitorizare a functionarii unor dispoz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e la dist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ru producatorii de echipamente I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ectarea de date privind functionarea echipamentelor pe termen 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bilitatea de adaptare a echipamentelor la regimul de exploatare (optimizarea functionar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monitorizarea autovehicolelor, a sistemelor de panouri so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FBA4-1872-41F1-80E2-4720E461E7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Provocari: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ar foarte mare de obiecte conectabile pe Interne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de ordinul 10-100 miliarde de obiect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bleme de adres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fic mult mai intens pe Intern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bleme de securitate si de protectie a datelor cu caracter pers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area comunicatiei pentru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saje scurte, periodice, cu restrictii de tim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zitive cu resurse limitate conectate l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e limi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te de procesare limi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e fara SO care sa ofere multitas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ul NU a fost gandit pentru I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2538-CB31-46A9-8C52-D14C3A972C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:\Gyuszi\Internet of things\inflexionPoints.gif"/>
          <p:cNvPicPr/>
          <p:nvPr/>
        </p:nvPicPr>
        <p:blipFill>
          <a:blip r:embed="rId1"/>
          <a:stretch/>
        </p:blipFill>
        <p:spPr>
          <a:xfrm>
            <a:off x="990720" y="0"/>
            <a:ext cx="792468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D:\Gyuszi\Internet of things\hh852591.GrabsMiller_Figure1_hires(en-us,MSDN.10).png"/>
          <p:cNvPicPr/>
          <p:nvPr/>
        </p:nvPicPr>
        <p:blipFill>
          <a:blip r:embed="rId2"/>
          <a:stretch/>
        </p:blipFill>
        <p:spPr>
          <a:xfrm>
            <a:off x="117360" y="3505320"/>
            <a:ext cx="85694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Gyuszi\Internet of things\beecham_research_internet_of_things.jpg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bleme specifice (de solutionat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resarea unui numar foarte mare de obiec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tocolul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IPv6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 permite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hu-HU" sz="1700" spc="-1" strike="noStrike" baseline="30000">
                <a:solidFill>
                  <a:srgbClr val="000000"/>
                </a:solidFill>
                <a:latin typeface="Arial"/>
              </a:rPr>
              <a:t>128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rese fizice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resarea fiecarui atom …. Dar nu se utilizeaza peste t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resare simbolica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resare pe baza de functionalitate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milar cu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URI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; ex: temperatura din Cluj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dentificarea si urmarirea obiectelor individuale – ex. RFID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nsmisia optimala a datelor cule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chete adaptate la traficul specific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ungime, continut, mod de interog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erinte de timp-re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ele noi de comunicat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Gateway –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re obiecte simple si Intern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are intr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WLAN/PL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TCP/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hizitia periodica de date si stocare tempor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sie nume simbolic, adresa fiz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ie prin crip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 de senz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carea datelor si accesul transparent la date senzor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rategii de ac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es liber – infrastructuri publ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es pe baza de abona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es privat – infrastructuri proprietare (ex. proces industri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3:09:22Z</dcterms:created>
  <dc:creator>gheorghe.sebestyen</dc:creator>
  <dc:description/>
  <dc:language>en-US</dc:language>
  <cp:lastModifiedBy>User</cp:lastModifiedBy>
  <dcterms:modified xsi:type="dcterms:W3CDTF">2025-11-10T15:42:48Z</dcterms:modified>
  <cp:revision>40</cp:revision>
  <dc:subject/>
  <dc:title>Informatica industriala</dc:title>
</cp:coreProperties>
</file>